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2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7.png" ContentType="image/png"/>
  <Override PartName="/ppt/media/image26.wmf" ContentType="image/x-wmf"/>
  <Override PartName="/ppt/media/image24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36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1.jpeg" ContentType="image/jpeg"/>
  <Override PartName="/ppt/media/image47.png" ContentType="image/png"/>
  <Override PartName="/ppt/media/image3.png" ContentType="image/png"/>
  <Override PartName="/ppt/media/image33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38.png" ContentType="image/png"/>
  <Override PartName="/ppt/media/image34.png" ContentType="image/png"/>
  <Override PartName="/ppt/media/image46.png" ContentType="image/png"/>
  <Override PartName="/ppt/media/image6.wmf" ContentType="image/x-wmf"/>
  <Override PartName="/ppt/media/image50.png" ContentType="image/png"/>
  <Override PartName="/ppt/media/image11.png" ContentType="image/png"/>
  <Override PartName="/ppt/media/image48.png" ContentType="image/png"/>
  <Override PartName="/ppt/media/image4.jpeg" ContentType="image/jpeg"/>
  <Override PartName="/ppt/media/image40.png" ContentType="image/png"/>
  <Override PartName="/ppt/media/image8.wmf" ContentType="image/x-wmf"/>
  <Override PartName="/ppt/media/image51.png" ContentType="image/png"/>
  <Override PartName="/ppt/media/image43.png" ContentType="image/png"/>
  <Override PartName="/ppt/media/image45.jpeg" ContentType="image/jpeg"/>
  <Override PartName="/ppt/media/image55.png" ContentType="image/png"/>
  <Override PartName="/ppt/media/image52.jpeg" ContentType="image/jpeg"/>
  <Override PartName="/ppt/media/image41.png" ContentType="image/png"/>
  <Override PartName="/ppt/media/image9.png" ContentType="image/png"/>
  <Override PartName="/ppt/media/image39.png" ContentType="image/png"/>
  <Override PartName="/ppt/media/image53.png" ContentType="image/png"/>
  <Override PartName="/ppt/media/image42.png" ContentType="image/png"/>
  <Override PartName="/ppt/media/image54.png" ContentType="image/png"/>
  <Override PartName="/ppt/media/image31.png" ContentType="image/png"/>
  <Override PartName="/ppt/media/image30.png" ContentType="image/png"/>
  <Override PartName="/ppt/media/image44.png" ContentType="image/png"/>
  <Override PartName="/ppt/media/image13.jpeg" ContentType="image/jpeg"/>
  <Override PartName="/ppt/media/image23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83DBA-9A97-4692-8D11-30A14DB4FD2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hyperlink" Target="jar:file:///C:/Program%20Files/MATLAB/R2007a/help/techdoc/help.jar%21/matlab_prog/bq1tx2r-1.html#bq1tx2r-2" TargetMode="External"/><Relationship Id="rId2" Type="http://schemas.openxmlformats.org/officeDocument/2006/relationships/slide" Target="../slides/slide9.xml"/><Relationship Id="rId3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FEAAA-1EE8-4AFA-BB90-337D4B0FEBB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asi-Newton Method is an Algorithm used in function ‘fminunc’, Quasi-Newton is based on Newton’s method. Firstly, recall the Newton’s method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the basis for many techniques for solving optimization problem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1FB9D-45DE-42D2-B8C7-70FF497EDB1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wton’s method stops when the Gradient is sufficiently close to zero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op when ||Df(x^k)||=sqrt( (df/dx_1)^2+(df/dx_2)^2+….(df/dx_n)^2)&lt;=epsilo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773B3-CDD6-4D00-A0D5-8425A6FF153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rge number of Hessian updating methods have been developed. However, the formula of BFGS is thought to be the most effective for use in a General purpose method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-5-8 in the Optimization Toolbox Guid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975DE-E28C-4135-B5CC-C4F88C568C7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ar Programming: Both the objective function and the constraints are linea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190B2-8E5C-4B26-93F1-00DE17E3FA7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s processing plant that receives a fixed amount of raw gas each wee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pable of processing two grades of heating gas (regular and premium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gh demand for the product (i.e. guaranteed to sel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ch grade yields a different prof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ch grade has different production time and on-site storage constrai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ility is only open 120 hrs/wee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velop a linear programming formulation to maximize profits for this opera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7A936-579D-451C-B0B2-32EE3F8E4F9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1CF8F-3880-4BF0-BBA6-A6295EC2FB4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11061-A01D-4898-B278-0B020B6556E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FD73B-0526-4DF2-8623-FC25EF2B143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mplex Method: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ree facts about linear programs:  (1) If there is exactly one optimal point, then it must be at a feasible vertex (A vertex is a point where constraints intersect each other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there are multiple optimal points then, at least two must be at adjacent vertic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2) There are a finite number of feasible vertic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: We can find optimal points by evaluating objective at every feasible vertex, but this is not efficient (the number of vertices grows exponentially with the number of constraints and variable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3) If the objective function evaluated at a feasible vertex is lower(higher) or equal than the value at all adjacent feasible vertices then, the vertex is an optimal point for the minimization (maximization ) proble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mplex Method: Traverse Feasible Vertices until no adjacent feasible vertex improves the objective function. Simplex method is widely used tod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start with a basic feasible solution, then it moves through a sequence of other basic feasible solutions that successively improve the value of the objective function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D07AD-4E6D-48A6-99EE-7FC4A2B59DE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roduce how to use ‘quadprog’ to solve the quadratic programming problem, recall that a quadratic programming problem is that the objective function is quadratic function and the constraints are linear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tandard form in Matlab is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x&lt;=b is inequality constraints and Aeqx=beq is equality constraint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we only have inequality constraints, then we set Aeq, beq is empty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b is vector of lower bounds, ub is vector of upper bound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H is symmetric matrix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AE9CF-AF3F-48BB-8D35-FDF0525A074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call, for one dimensional unconstrained optimization problems, we are solving the first order condition, f’(x)=0, then check the second or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ditions.  If f’’(x*) is negative, then x* is a maximum of f, if f’’(x*) is positive, then x* is a minimum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47465-E0FB-4256-A86E-0996370B55C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2295E-BA98-4565-A2BC-1234DA55E64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e Chapter 9,   Reference book:  Chapter 16 of Nocedal and Wright, Numerical Optimization, 200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9.2 Active set methods. P132-P13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easible point see Active set pdf file under qqp-algorith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we only have equality constraints, we can use the large-scale method. But, if we have both equalities and bounds, we must use the medium scale method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00121-BCDE-4768-B9FD-BA078D5EA68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nally, we learn how to solve nonlinear programming in Matlab. The standard form i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A is matrix for linear inequality constraints and Aeq is matrix for linear equality constraint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q is vector for linear equality constraint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b and up is vector of lower bounds/upper bound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  is nonlinear inequaliti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eq is nonlinear equalit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101F7-955F-459A-8DEE-99AA32C1011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n’t have linear constraint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8A41A-A1AC-44D8-B198-3E01A6136D0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03332-02DD-499E-A138-2C0512B3255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quential quadratic programming (SQP):  The basic idea is analogous to Newton’s method for unconstrained minimization. At each step, a local model of the optimization problem is constructed and solved, yielding a step toward the solution of the original problem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unconstrained optimization, only the objective function must be approximated, in the nonlinear problem, both the objective and the constraint must be modeled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(x_k+p)=f(x_k)+Df(x_k)p+1/2*p*D^2f(x_k)*p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(x_k+p)=DG(x_k)^Tp+G(x_k), so the constaint: G_i(x)=0, is replaced by DG_i(x_k)^T+G(X_k)=0. 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H_k is psotive definite approximation of the Hessian Matrix of the Largragian function. H_k can be updated by any of the quasi-Newton mthods, for example, BFGS method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tep length parameter a_k is determined by an appropriate line search procedure. (Remember: Newton’s method may not converge to a solution if we move too far between estimates…, this can be remedied by limiting how far we move, a_k determines how far to move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D53F9-EA1E-4E88-8D1F-6C9B0F50943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3D8CA-6904-4690-8B91-B46D673BF3A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C7E27-A4BC-435C-A3FF-7487AF4EFFB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400B8-6DB9-4ABA-AD90-85572722797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call the optimality conditions for a unconstrained minimization problem, min f(x1….xn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rstly, the first order condition, i.e., the gradient of f is zero and the Hessian Matrix of f(x) at the critical point is positive defin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example, min f(x)=…. We have to solve the critical point, (x1*, x2*) numerically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66D5C-44D5-42B4-AFDA-FA8DAFFE1AF3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Plot the 3D graph of this example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Calibri"/>
              </a:rPr>
              <a:t>X=-6:0.1:2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Calibri"/>
              </a:rPr>
              <a:t>&gt;&gt; Y=-4:0.1:4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Calibri"/>
              </a:rPr>
              <a:t>&gt;&gt; [XX,YY]=meshgrid(X,Y)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Calibri"/>
              </a:rPr>
              <a:t>&gt;&gt; Z=exp(XX+YY-1)+exp(XX-YY-1)+exp(-XX-1)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Calibri"/>
              </a:rPr>
              <a:t>&gt;&gt; surf(XX,YY,Z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Calibri"/>
              </a:rPr>
              <a:t>Explain: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[X,Y] = meshgrid(x,y) transform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the domain specified by vectors x and y into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arrays X and Y, which can be used to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evaluate functions of two variables and three-dimensional mesh/surface plots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The rows of the output array X are copies of the vector x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columns of the output array Y are copies of the vector y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F8D32-5552-4A2B-9AC7-FEEBBBA32F7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Use ‘fminunc’ to solve unconstrained optimization problem with objective function ‘objfun’.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For our class, we choose to use ‘Medium Scale’ algorithm, Medium-scale is not a standard term and is used only to differentiate these algorithm for large-scale algorithms, which are designed to handle large-scale problems efficiently.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For example, for the unconstrained minimization, the algorithm is BFGS quasi-Newton method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For constrained minimization, Sequential Quadratic Programming are used.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Large scale algorithms use trust region methods.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Gradient Calculations:  Gradients are calculated using a finite difference method unless they are supplied in a function. Analytical expressions of the gradients of objective can be incorporated through gradient functions.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To minimize this function with the gradient provided, modify the m-file objfun.m so the gradient is the second output argument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4f81bd"/>
                </a:solidFill>
                <a:latin typeface="Constantia"/>
              </a:rPr>
              <a:t>function</a:t>
            </a:r>
            <a:r>
              <a:rPr b="0" lang="en-US" sz="700" spc="-1" strike="noStrike">
                <a:solidFill>
                  <a:srgbClr val="000000"/>
                </a:solidFill>
                <a:latin typeface="Constantia"/>
              </a:rPr>
              <a:t> [f g H]=objfun(x)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n-US" sz="700" spc="-1" strike="noStrike">
                <a:solidFill>
                  <a:srgbClr val="000000"/>
                </a:solidFill>
                <a:latin typeface="Constantia"/>
              </a:rPr>
              <a:t>f=exp(x(1)+x(2)-1)+exp(x(1)-x(2)-1)+exp(-x(1)-1);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if nargout&gt;1  % gradient required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G=[exp(x(1)+x(2)-1)+exp(x(1)-x(2)-1)-exp(-x(1)-1);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exp(x(1)+x(2)-1)-exp(x(1)-x(2)-1)];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if nargout&gt;2 %Hessian required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H=[$$, $$;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$$,$$];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End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End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Nargout checks the number of arguments that a calling function specifies; See help of   </a:t>
            </a:r>
            <a:r>
              <a:rPr b="0" lang="en-US" sz="7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Checking the Number of Input Arguments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Termination Tolerance: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TolX is a lower bound on the size of a step, meaning the norm of (</a:t>
            </a:r>
            <a:r>
              <a:rPr b="0" i="1" lang="en-US" sz="7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en-US" sz="7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 – </a:t>
            </a:r>
            <a:r>
              <a:rPr b="0" i="1" lang="en-US" sz="7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en-US" sz="7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700" spc="-1" strike="noStrike" baseline="-25000">
                <a:solidFill>
                  <a:srgbClr val="000000"/>
                </a:solidFill>
                <a:latin typeface="Calibri"/>
              </a:rPr>
              <a:t>+1</a:t>
            </a: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). If the solver attempts to take a step that is smaller than TolX, the iterations end. TolX is sometimes used as a </a:t>
            </a:r>
            <a:r>
              <a:rPr b="0" i="1" lang="en-US" sz="700" spc="-1" strike="noStrike">
                <a:solidFill>
                  <a:srgbClr val="000000"/>
                </a:solidFill>
                <a:latin typeface="Calibri"/>
              </a:rPr>
              <a:t>relative</a:t>
            </a: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 bound, meaning iterations end when |(</a:t>
            </a:r>
            <a:r>
              <a:rPr b="0" i="1" lang="en-US" sz="7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en-US" sz="7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 – </a:t>
            </a:r>
            <a:r>
              <a:rPr b="0" i="1" lang="en-US" sz="7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en-US" sz="7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700" spc="-1" strike="noStrike" baseline="-25000">
                <a:solidFill>
                  <a:srgbClr val="000000"/>
                </a:solidFill>
                <a:latin typeface="Calibri"/>
              </a:rPr>
              <a:t>+1</a:t>
            </a: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)| &lt; TolX*(1 + |</a:t>
            </a:r>
            <a:r>
              <a:rPr b="0" i="1" lang="en-US" sz="7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en-US" sz="7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|), or a similar relative measure.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TolFun is a lower bound on the change in the value of the objective function during a step. If |</a:t>
            </a:r>
            <a:r>
              <a:rPr b="0" i="1" lang="en-US" sz="7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US" sz="7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en-US" sz="7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) – </a:t>
            </a:r>
            <a:r>
              <a:rPr b="0" i="1" lang="en-US" sz="7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US" sz="7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en-US" sz="7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700" spc="-1" strike="noStrike" baseline="-25000">
                <a:solidFill>
                  <a:srgbClr val="000000"/>
                </a:solidFill>
                <a:latin typeface="Calibri"/>
              </a:rPr>
              <a:t>+1</a:t>
            </a: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)| &lt; TolFun, the iterations end. TolFun is sometimes used as a </a:t>
            </a:r>
            <a:r>
              <a:rPr b="0" i="1" lang="en-US" sz="700" spc="-1" strike="noStrike">
                <a:solidFill>
                  <a:srgbClr val="000000"/>
                </a:solidFill>
                <a:latin typeface="Calibri"/>
              </a:rPr>
              <a:t>relative</a:t>
            </a: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 bound, meaning iterations end when |</a:t>
            </a:r>
            <a:r>
              <a:rPr b="0" i="1" lang="en-US" sz="7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US" sz="7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en-US" sz="7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) – </a:t>
            </a:r>
            <a:r>
              <a:rPr b="0" i="1" lang="en-US" sz="7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US" sz="7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en-US" sz="7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700" spc="-1" strike="noStrike" baseline="-25000">
                <a:solidFill>
                  <a:srgbClr val="000000"/>
                </a:solidFill>
                <a:latin typeface="Calibri"/>
              </a:rPr>
              <a:t>+1</a:t>
            </a: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)| &lt; TolFun(1 + |</a:t>
            </a:r>
            <a:r>
              <a:rPr b="0" i="1" lang="en-US" sz="7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US" sz="7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en-US" sz="7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)|), or a similar relative measure.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8A54B-A3AE-4FB0-9883-9D05752B1DA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6129B-72B1-4869-975D-77602E33D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39E19-1A32-4EB8-9932-F6FC7FA32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466E4-80EF-4817-A499-5FA47DE62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B9E15-95B9-4D3D-82BC-0A565FEC8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A297E-CB60-457A-8C00-C6DD1A242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CFD31-BE6A-41E1-9055-1C2FAD381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7740A-E1BF-4FC3-A544-7DD5B8CA9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CA34D-AA8E-4651-90E0-F62F88BA1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30D25-39B3-43AC-8EEB-1D53C3566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866D4-259B-440D-93C5-B68CD8A60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599CA-43C0-4E36-9D14-EA2FEA798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4525F-BA3A-44EF-ACE5-F7905A981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F7AF6-408E-45A5-B6B7-FF29D35FC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C69A1-B2D7-4E3F-904A-E6315C8F0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DFC18-606C-41F7-837A-7AE3D7941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BF182-588D-419B-BCFC-3BDC27B91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242FE-2DD8-443E-A48A-F2DA1AAFA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6130CF-59B0-4E09-9141-0E2256E61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D3FF19-97AE-4E3B-96E0-B31424CB3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FF3038-426B-49C2-A242-17D4399C7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06276E-A0E1-41BC-8904-D28F5A676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DFD502-4936-4DA6-925E-2354A45E4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FCB8C-EABE-4367-9D62-1DCC90C16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954512-1ADB-4BFF-8DBF-E00D16D14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C361A0-7166-4CC1-832B-3B3B7755D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397725-0BBD-4F8E-B01E-B3E67898D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144917-9C67-4380-B629-E1313C202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AD15B4-F211-403A-AA74-63EF3789A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9CB6AD-94E5-4CBF-82FC-FA390CF4B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EC8184-860E-412C-8927-9517D488B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866A03-B804-49E3-B685-868EDEB95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32BDA5-214E-474C-9F03-E45B7BE00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D603D2-C2FB-4D12-A9B4-2E00BE8B9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3B65C-908D-4969-B0F3-AAB2CB581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8788F8-18F8-45F4-815C-E1A58F407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47B51A-5E9E-4DDC-AD6E-39026E13E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7BB83A-79CB-44C4-830E-73324AF2F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81A1F7-F035-4AF2-8C3F-D5457A811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DF2DBF-6DC6-4EB9-9467-6A97EE4FA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2D316E-102F-4239-A76D-C34694CC0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4A1C0D-01AA-4FC8-BB69-EE5E886B9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A68231-94AF-400D-AB1B-510593CEF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4F68A3-0D13-4EA4-9EAC-F4E1BDA82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0175D-567D-4EC2-8AD7-9C8BB0D6C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64363-B1ED-41F0-88D0-FC763196C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3375F-BBCB-4FB5-BDF5-50744A19B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0E9B3-961E-437D-91ED-6A5D9F52B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150E2-1B0A-4185-B478-8A388D0BD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ahoma"/>
              </a:rPr>
              <a:t>Fin500J  Topic 5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ahoma"/>
              </a:rPr>
              <a:t>Fall 2010  Olin Business School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012B5-5FB0-4379-A416-BBC5A97D0A28}" type="slidenum">
              <a:rPr b="0" lang="en-US" sz="1200" spc="-1" strike="noStrike">
                <a:solidFill>
                  <a:srgbClr val="045c75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ahoma"/>
              </a:rPr>
              <a:t>Fin500J  Topic 5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ahoma"/>
              </a:rPr>
              <a:t>Fall 2010  Olin Business School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423C0-4333-4F1A-89B0-CAECBF389875}" type="slidenum">
              <a:rPr b="0" lang="en-US" sz="1200" spc="-1" strike="noStrike">
                <a:solidFill>
                  <a:srgbClr val="d1eaee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ahoma"/>
              </a:rPr>
              <a:t>Fin500J  Topic 5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ahoma"/>
              </a:rPr>
              <a:t>Fall 2010  Olin Business School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BB5A5-0F1C-4952-AD99-6EEF1361F44D}" type="slidenum">
              <a:rPr b="0" lang="en-US" sz="1200" spc="-1" strike="noStrike">
                <a:solidFill>
                  <a:srgbClr val="d1eaee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ahoma"/>
              </a:rPr>
              <a:t>Fin500J  Topic 5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ahoma"/>
              </a:rPr>
              <a:t>Fall 2010  Olin Business School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37C63-B9D8-424D-BC42-8C69DD1DE67E}" type="slidenum">
              <a:rPr b="0" lang="en-US" sz="1200" spc="-1" strike="noStrike">
                <a:solidFill>
                  <a:srgbClr val="045c75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png"/><Relationship Id="rId3" Type="http://schemas.openxmlformats.org/officeDocument/2006/relationships/image" Target="../media/image5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4.png"/><Relationship Id="rId3" Type="http://schemas.openxmlformats.org/officeDocument/2006/relationships/image" Target="../media/image5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ahoma"/>
              </a:rPr>
              <a:t>Fin500J  Topic 5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Slide Number Placeholder 4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1A277-2D7B-4B41-8C63-7A60C22B19CB}" type="slidenum">
              <a:rPr b="0" lang="en-US" sz="1200" spc="-1" strike="noStrike">
                <a:solidFill>
                  <a:srgbClr val="045c75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Footer Placeholder 5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ahoma"/>
              </a:rPr>
              <a:t>Fall 2010  Olin Business School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Content Placeholder 7"/>
          <p:cNvSpPr/>
          <p:nvPr/>
        </p:nvSpPr>
        <p:spPr>
          <a:xfrm>
            <a:off x="380880" y="1447920"/>
            <a:ext cx="8534520" cy="43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Constantia"/>
              </a:rPr>
              <a:t>Numerical Methods for Optim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onstantia"/>
              </a:rPr>
              <a:t>                              </a:t>
            </a:r>
            <a:r>
              <a:rPr b="0" lang="en-US" sz="2000" spc="-1" strike="noStrike">
                <a:solidFill>
                  <a:srgbClr val="04617b"/>
                </a:solidFill>
                <a:latin typeface="Constantia"/>
              </a:rPr>
              <a:t>Philip H. Dybvi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4617b"/>
                </a:solidFill>
                <a:latin typeface="Constantia"/>
              </a:rPr>
              <a:t>Reference: Optimization Toolbox User’s Guide in Matlab, 2008 by the MathWorks, In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17b"/>
                </a:solidFill>
                <a:latin typeface="Constantia"/>
              </a:rPr>
              <a:t>Slides designed by Yajun Wa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Title 1" descr=""/>
          <p:cNvPicPr/>
          <p:nvPr/>
        </p:nvPicPr>
        <p:blipFill>
          <a:blip r:embed="rId1"/>
          <a:stretch/>
        </p:blipFill>
        <p:spPr>
          <a:xfrm>
            <a:off x="182520" y="139680"/>
            <a:ext cx="8796240" cy="1506600"/>
          </a:xfrm>
          <a:prstGeom prst="rect">
            <a:avLst/>
          </a:prstGeom>
          <a:ln w="0">
            <a:noFill/>
          </a:ln>
        </p:spPr>
      </p:pic>
      <p:sp>
        <p:nvSpPr>
          <p:cNvPr id="269" name="Date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ahoma"/>
              </a:rPr>
              <a:t>Fin500J  Topic 5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0" name="Footer Placeholder 3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ahoma"/>
              </a:rPr>
              <a:t>Fall 2010  Olin Business School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1" name="Slide Number Placeholder 4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9DBA2-0562-4C3E-A660-D6AFD4BD9F72}" type="slidenum">
              <a:rPr b="0" lang="en-US" sz="1200" spc="-1" strike="noStrike">
                <a:solidFill>
                  <a:srgbClr val="045c75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72" name="Picture 2" descr=""/>
          <p:cNvPicPr/>
          <p:nvPr/>
        </p:nvPicPr>
        <p:blipFill>
          <a:blip r:embed="rId2"/>
          <a:stretch/>
        </p:blipFill>
        <p:spPr>
          <a:xfrm>
            <a:off x="533520" y="1447920"/>
            <a:ext cx="6534000" cy="217152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4" descr=""/>
          <p:cNvPicPr/>
          <p:nvPr/>
        </p:nvPicPr>
        <p:blipFill>
          <a:blip r:embed="rId3"/>
          <a:stretch/>
        </p:blipFill>
        <p:spPr>
          <a:xfrm>
            <a:off x="4343400" y="2895480"/>
            <a:ext cx="4478400" cy="35528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74" name="Object 3"/>
              <p:cNvSpPr txBox="1"/>
              <p:nvPr/>
            </p:nvSpPr>
            <p:spPr>
              <a:xfrm>
                <a:off x="152280" y="3855960"/>
                <a:ext cx="4114800" cy="181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''</m:t>
                            </m:r>
                          </m:sup>
                        </m:s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k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f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k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Δx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f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k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Δx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f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k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Δx</m:t>
                            </m:r>
                          </m:den>
                        </m:f>
                      </m:e>
                      <m:e>
                        <m:r>
                          <m:t xml:space="preserve">⇒</m:t>
                        </m:r>
                        <m:r>
                          <m:t xml:space="preserve">Δx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sSup>
                              <m:e>
                                <m:r>
                                  <m:t xml:space="preserve">f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k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f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''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k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Multiple variable case:</m:t>
                        </m:r>
                      </m:e>
                      <m:e>
                        <m:r>
                          <m:t xml:space="preserve">Δx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∇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f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k</m:t>
                            </m:r>
                          </m:sup>
                        </m:sSup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∇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k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75" name="Rounded Rectangle 12"/>
          <p:cNvSpPr/>
          <p:nvPr/>
        </p:nvSpPr>
        <p:spPr>
          <a:xfrm>
            <a:off x="76320" y="3809880"/>
            <a:ext cx="4190760" cy="19051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bd0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Date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ahoma"/>
              </a:rPr>
              <a:t>Fin500J  Topic 5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7" name="Footer Placeholder 3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ahoma"/>
              </a:rPr>
              <a:t>Fall 2010  Olin Business School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8" name="Slide Number Placeholder 4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11D8E-B53C-4683-B28B-35E35B79AAF9}" type="slidenum">
              <a:rPr b="0" lang="en-US" sz="1200" spc="-1" strike="noStrike">
                <a:solidFill>
                  <a:srgbClr val="045c75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79" name="Title 1" descr=""/>
          <p:cNvPicPr/>
          <p:nvPr/>
        </p:nvPicPr>
        <p:blipFill>
          <a:blip r:embed="rId1"/>
          <a:stretch/>
        </p:blipFill>
        <p:spPr>
          <a:xfrm>
            <a:off x="182520" y="79200"/>
            <a:ext cx="8583480" cy="141480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2" descr=""/>
          <p:cNvPicPr/>
          <p:nvPr/>
        </p:nvPicPr>
        <p:blipFill>
          <a:blip r:embed="rId2"/>
          <a:stretch/>
        </p:blipFill>
        <p:spPr>
          <a:xfrm>
            <a:off x="990720" y="1371600"/>
            <a:ext cx="6648480" cy="3753000"/>
          </a:xfrm>
          <a:prstGeom prst="rect">
            <a:avLst/>
          </a:prstGeom>
          <a:ln w="0">
            <a:noFill/>
          </a:ln>
        </p:spPr>
      </p:pic>
      <p:sp>
        <p:nvSpPr>
          <p:cNvPr id="281" name="Rectangle 3"/>
          <p:cNvSpPr/>
          <p:nvPr/>
        </p:nvSpPr>
        <p:spPr>
          <a:xfrm>
            <a:off x="1143000" y="5334120"/>
            <a:ext cx="65530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Newton’s method may fail if Hessian is not positive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defini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Date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ahoma"/>
              </a:rPr>
              <a:t>Fin500J  Topic 5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" name="Footer Placeholder 3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ahoma"/>
              </a:rPr>
              <a:t>Fall 2010  Olin Business School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" name="Slide Number Placeholder 4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9941E-5602-4354-8D37-0E753E1D2FF8}" type="slidenum">
              <a:rPr b="0" lang="en-US" sz="1200" spc="-1" strike="noStrike">
                <a:solidFill>
                  <a:srgbClr val="045c75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85" name="Title 1" descr=""/>
          <p:cNvPicPr/>
          <p:nvPr/>
        </p:nvPicPr>
        <p:blipFill>
          <a:blip r:embed="rId1"/>
          <a:stretch/>
        </p:blipFill>
        <p:spPr>
          <a:xfrm>
            <a:off x="212760" y="79200"/>
            <a:ext cx="8755200" cy="1384560"/>
          </a:xfrm>
          <a:prstGeom prst="rect">
            <a:avLst/>
          </a:prstGeom>
          <a:ln w="0">
            <a:noFill/>
          </a:ln>
        </p:spPr>
      </p:pic>
      <p:sp>
        <p:nvSpPr>
          <p:cNvPr id="286" name="Rectangle 3"/>
          <p:cNvSpPr/>
          <p:nvPr/>
        </p:nvSpPr>
        <p:spPr>
          <a:xfrm>
            <a:off x="762120" y="35053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The function “fminunc” uses BFGS (Broyden, Fletcher, Goldfarb and Shanno) Hessian Update in the Quasi-Newton algorithm.  The formula  given by BFGS is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87" name="Picture 2" descr=""/>
          <p:cNvPicPr/>
          <p:nvPr/>
        </p:nvPicPr>
        <p:blipFill>
          <a:blip r:embed="rId2"/>
          <a:stretch/>
        </p:blipFill>
        <p:spPr>
          <a:xfrm>
            <a:off x="762120" y="1333440"/>
            <a:ext cx="5629320" cy="201924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12" descr=""/>
          <p:cNvPicPr/>
          <p:nvPr/>
        </p:nvPicPr>
        <p:blipFill>
          <a:blip r:embed="rId3"/>
          <a:stretch/>
        </p:blipFill>
        <p:spPr>
          <a:xfrm>
            <a:off x="990720" y="4390920"/>
            <a:ext cx="3457440" cy="101916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13" descr=""/>
          <p:cNvPicPr/>
          <p:nvPr/>
        </p:nvPicPr>
        <p:blipFill>
          <a:blip r:embed="rId4"/>
          <a:stretch/>
        </p:blipFill>
        <p:spPr>
          <a:xfrm>
            <a:off x="4581360" y="4495680"/>
            <a:ext cx="2733840" cy="8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Rectangle 2" descr=""/>
          <p:cNvPicPr/>
          <p:nvPr/>
        </p:nvPicPr>
        <p:blipFill>
          <a:blip r:embed="rId1"/>
          <a:stretch/>
        </p:blipFill>
        <p:spPr>
          <a:xfrm>
            <a:off x="152280" y="457200"/>
            <a:ext cx="8613720" cy="1066680"/>
          </a:xfrm>
          <a:prstGeom prst="rect">
            <a:avLst/>
          </a:prstGeom>
          <a:ln w="0">
            <a:noFill/>
          </a:ln>
        </p:spPr>
      </p:pic>
      <p:sp>
        <p:nvSpPr>
          <p:cNvPr id="291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ahoma"/>
              </a:rPr>
              <a:t>Fin500J  Topic 5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2" name="Slide Number Placeholder 4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F5532-899E-400B-82C7-567E56AC9734}" type="slidenum">
              <a:rPr b="0" lang="en-US" sz="1200" spc="-1" strike="noStrike">
                <a:solidFill>
                  <a:srgbClr val="045c75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" name="Footer Placeholder 5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ahoma"/>
              </a:rPr>
              <a:t>Fall 2010  Olin Business School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" name="Rectangle 3"/>
          <p:cNvSpPr/>
          <p:nvPr/>
        </p:nvSpPr>
        <p:spPr>
          <a:xfrm>
            <a:off x="457200" y="1371600"/>
            <a:ext cx="777240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Both the objective function and the constraints are lin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xample: maximizing profit or minimizing c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Objective fun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nstantia"/>
              </a:rPr>
              <a:t>                    </a:t>
            </a:r>
            <a:r>
              <a:rPr b="0" i="1" lang="en-US" sz="2000" spc="-1" strike="noStrike">
                <a:solidFill>
                  <a:srgbClr val="000000"/>
                </a:solidFill>
                <a:latin typeface="Constantia"/>
              </a:rPr>
              <a:t>Max or Min  Z = c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Constanti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Constantia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Constanti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Constantia"/>
              </a:rPr>
              <a:t> +c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Constanti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Constantia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Constantia"/>
              </a:rPr>
              <a:t>2 </a:t>
            </a:r>
            <a:r>
              <a:rPr b="0" i="1" lang="en-US" sz="2000" spc="-1" strike="noStrike">
                <a:solidFill>
                  <a:srgbClr val="000000"/>
                </a:solidFill>
                <a:latin typeface="Constantia"/>
              </a:rPr>
              <a:t>+…..c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Constantia"/>
              </a:rPr>
              <a:t>n</a:t>
            </a:r>
            <a:r>
              <a:rPr b="0" i="1" lang="en-US" sz="2000" spc="-1" strike="noStrike">
                <a:solidFill>
                  <a:srgbClr val="000000"/>
                </a:solidFill>
                <a:latin typeface="Constantia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Constantia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where   </a:t>
            </a:r>
            <a:r>
              <a:rPr b="0" i="1" lang="en-US" sz="2000" spc="-1" strike="noStrike">
                <a:solidFill>
                  <a:srgbClr val="000000"/>
                </a:solidFill>
                <a:latin typeface="Constantia"/>
              </a:rPr>
              <a:t>c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Constantia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= payoff of each unit of the</a:t>
            </a:r>
            <a:r>
              <a:rPr b="0" i="1" lang="en-US" sz="2000" spc="-1" strike="noStrike">
                <a:solidFill>
                  <a:srgbClr val="000000"/>
                </a:solidFill>
                <a:latin typeface="Constantia"/>
              </a:rPr>
              <a:t> jth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                          </a:t>
            </a:r>
            <a:r>
              <a:rPr b="0" i="1" lang="en-US" sz="2000" spc="-1" strike="noStrike">
                <a:solidFill>
                  <a:srgbClr val="000000"/>
                </a:solidFill>
                <a:latin typeface="Constantia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Constantia"/>
              </a:rPr>
              <a:t>j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= magnitude of the </a:t>
            </a:r>
            <a:r>
              <a:rPr b="0" i="1" lang="en-US" sz="2000" spc="-1" strike="noStrike">
                <a:solidFill>
                  <a:srgbClr val="000000"/>
                </a:solidFill>
                <a:latin typeface="Constantia"/>
              </a:rPr>
              <a:t>jth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The constraints  can be represented b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nstantia"/>
              </a:rPr>
              <a:t>                   </a:t>
            </a:r>
            <a:r>
              <a:rPr b="0" i="1" lang="en-US" sz="2000" spc="-1" strike="noStrike">
                <a:solidFill>
                  <a:srgbClr val="000000"/>
                </a:solidFill>
                <a:latin typeface="Constanti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Constantia"/>
              </a:rPr>
              <a:t>i1</a:t>
            </a:r>
            <a:r>
              <a:rPr b="0" i="1" lang="en-US" sz="2000" spc="-1" strike="noStrike">
                <a:solidFill>
                  <a:srgbClr val="000000"/>
                </a:solidFill>
                <a:latin typeface="Constantia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Constantia"/>
              </a:rPr>
              <a:t>1 </a:t>
            </a:r>
            <a:r>
              <a:rPr b="0" i="1" lang="en-US" sz="2000" spc="-1" strike="noStrike">
                <a:solidFill>
                  <a:srgbClr val="000000"/>
                </a:solidFill>
                <a:latin typeface="Constantia"/>
              </a:rPr>
              <a:t>+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Constantia"/>
              </a:rPr>
              <a:t>i2</a:t>
            </a:r>
            <a:r>
              <a:rPr b="0" i="1" lang="en-US" sz="2000" spc="-1" strike="noStrike">
                <a:solidFill>
                  <a:srgbClr val="000000"/>
                </a:solidFill>
                <a:latin typeface="Constantia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Constanti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Constantia"/>
              </a:rPr>
              <a:t>+…..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Constantia"/>
              </a:rPr>
              <a:t>in</a:t>
            </a:r>
            <a:r>
              <a:rPr b="0" i="1" lang="en-US" sz="2000" spc="-1" strike="noStrike">
                <a:solidFill>
                  <a:srgbClr val="000000"/>
                </a:solidFill>
                <a:latin typeface="Constantia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Constantia"/>
              </a:rPr>
              <a:t>n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i="1" lang="en-US" sz="2000" spc="-1" strike="noStrike">
                <a:solidFill>
                  <a:srgbClr val="000000"/>
                </a:solidFill>
                <a:latin typeface="Constantia"/>
              </a:rPr>
              <a:t>  b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Constantia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where </a:t>
            </a:r>
            <a:r>
              <a:rPr b="0" i="1" lang="en-US" sz="2000" spc="-1" strike="noStrike">
                <a:solidFill>
                  <a:srgbClr val="000000"/>
                </a:solidFill>
                <a:latin typeface="Constanti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Constantia"/>
              </a:rPr>
              <a:t>ij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= amount of the </a:t>
            </a:r>
            <a:r>
              <a:rPr b="0" i="1" lang="en-US" sz="2000" spc="-1" strike="noStrike">
                <a:solidFill>
                  <a:srgbClr val="000000"/>
                </a:solidFill>
                <a:latin typeface="Constantia"/>
              </a:rPr>
              <a:t>ith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resource that is consumed for ea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unit of  the</a:t>
            </a:r>
            <a:r>
              <a:rPr b="0" i="1" lang="en-US" sz="2000" spc="-1" strike="noStrike">
                <a:solidFill>
                  <a:srgbClr val="000000"/>
                </a:solidFill>
                <a:latin typeface="Constantia"/>
              </a:rPr>
              <a:t> jth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activity,   </a:t>
            </a:r>
            <a:r>
              <a:rPr b="0" i="1" lang="en-US" sz="2000" spc="-1" strike="noStrike">
                <a:solidFill>
                  <a:srgbClr val="000000"/>
                </a:solidFill>
                <a:latin typeface="Constantia"/>
              </a:rPr>
              <a:t>b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Constanti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= amount of the </a:t>
            </a:r>
            <a:r>
              <a:rPr b="0" i="1" lang="en-US" sz="2000" spc="-1" strike="noStrike">
                <a:solidFill>
                  <a:srgbClr val="000000"/>
                </a:solidFill>
                <a:latin typeface="Constantia"/>
              </a:rPr>
              <a:t>ith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resource avail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Finally, we add the constraint that all activities have a positive value,  </a:t>
            </a:r>
            <a:r>
              <a:rPr b="0" i="1" lang="en-US" sz="2000" spc="-1" strike="noStrike">
                <a:solidFill>
                  <a:srgbClr val="000000"/>
                </a:solidFill>
                <a:latin typeface="Constantia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Constanti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nstantia"/>
              </a:rPr>
              <a:t>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Rectangle 2" descr=""/>
          <p:cNvPicPr/>
          <p:nvPr/>
        </p:nvPicPr>
        <p:blipFill>
          <a:blip r:embed="rId1"/>
          <a:stretch/>
        </p:blipFill>
        <p:spPr>
          <a:xfrm>
            <a:off x="0" y="-152280"/>
            <a:ext cx="8613720" cy="1450800"/>
          </a:xfrm>
          <a:prstGeom prst="rect">
            <a:avLst/>
          </a:prstGeom>
          <a:ln w="0">
            <a:noFill/>
          </a:ln>
        </p:spPr>
      </p:pic>
      <p:sp>
        <p:nvSpPr>
          <p:cNvPr id="296" name="Text Box 4"/>
          <p:cNvSpPr/>
          <p:nvPr/>
        </p:nvSpPr>
        <p:spPr>
          <a:xfrm>
            <a:off x="593640" y="4114800"/>
            <a:ext cx="649296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Total Profit = 150 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nstanti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+ 175 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nstanti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Maximize Z = 150 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nstanti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+ 175 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nstanti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7" name="Oval 5"/>
          <p:cNvSpPr/>
          <p:nvPr/>
        </p:nvSpPr>
        <p:spPr>
          <a:xfrm>
            <a:off x="304920" y="4495680"/>
            <a:ext cx="4647960" cy="304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8" name="Text Box 6"/>
          <p:cNvSpPr/>
          <p:nvPr/>
        </p:nvSpPr>
        <p:spPr>
          <a:xfrm>
            <a:off x="5181480" y="4419720"/>
            <a:ext cx="2438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nstantia"/>
              </a:rPr>
              <a:t>Objective fun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99" name="Picture 8" descr=""/>
          <p:cNvPicPr/>
          <p:nvPr/>
        </p:nvPicPr>
        <p:blipFill>
          <a:blip r:embed="rId2"/>
          <a:stretch/>
        </p:blipFill>
        <p:spPr>
          <a:xfrm>
            <a:off x="380880" y="914400"/>
            <a:ext cx="5658120" cy="3048120"/>
          </a:xfrm>
          <a:prstGeom prst="rect">
            <a:avLst/>
          </a:prstGeom>
          <a:ln w="0">
            <a:noFill/>
          </a:ln>
        </p:spPr>
      </p:pic>
      <p:sp>
        <p:nvSpPr>
          <p:cNvPr id="300" name="Date Placeholder 6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ahoma"/>
              </a:rPr>
              <a:t>Fin500J  Topic 5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Slide Number Placeholder 7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74000-B700-4447-824D-4E83445FAE2D}" type="slidenum">
              <a:rPr b="0" lang="en-US" sz="1200" spc="-1" strike="noStrike">
                <a:solidFill>
                  <a:srgbClr val="045c75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2" name="Footer Placeholder 8"/>
          <p:cNvSpPr/>
          <p:nvPr/>
        </p:nvSpPr>
        <p:spPr>
          <a:xfrm>
            <a:off x="2590920" y="6340320"/>
            <a:ext cx="3352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ahoma"/>
              </a:rPr>
              <a:t>Fall 2010  Olin Business School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" name="Text Box 5"/>
          <p:cNvSpPr/>
          <p:nvPr/>
        </p:nvSpPr>
        <p:spPr>
          <a:xfrm>
            <a:off x="6629400" y="1644480"/>
            <a:ext cx="1752480" cy="200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nstanti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= amount of regular 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nstanti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= amount of premiu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Text Box 7"/>
          <p:cNvSpPr/>
          <p:nvPr/>
        </p:nvSpPr>
        <p:spPr>
          <a:xfrm>
            <a:off x="492120" y="4800600"/>
            <a:ext cx="4972320" cy="18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7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nstanti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+ 11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nstanti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77       (material constrain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10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nstanti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+ 8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nstanti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120      (time constrain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nstanti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9                      (storage constrain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nstanti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6                      (storage constrain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nstanti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,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nstanti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0                  (positivity constrain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Object 12" descr=""/>
          <p:cNvPicPr/>
          <p:nvPr/>
        </p:nvPicPr>
        <p:blipFill>
          <a:blip r:embed="rId1"/>
          <a:stretch/>
        </p:blipFill>
        <p:spPr>
          <a:xfrm>
            <a:off x="2793960" y="1803240"/>
            <a:ext cx="4938840" cy="4178520"/>
          </a:xfrm>
          <a:prstGeom prst="rect">
            <a:avLst/>
          </a:prstGeom>
          <a:ln w="0">
            <a:noFill/>
          </a:ln>
        </p:spPr>
      </p:pic>
      <p:pic>
        <p:nvPicPr>
          <p:cNvPr id="306" name="Rectangle 4" descr=""/>
          <p:cNvPicPr/>
          <p:nvPr/>
        </p:nvPicPr>
        <p:blipFill>
          <a:blip r:embed="rId2"/>
          <a:stretch/>
        </p:blipFill>
        <p:spPr>
          <a:xfrm>
            <a:off x="152280" y="304920"/>
            <a:ext cx="8613720" cy="1218960"/>
          </a:xfrm>
          <a:prstGeom prst="rect">
            <a:avLst/>
          </a:prstGeom>
          <a:ln w="0">
            <a:noFill/>
          </a:ln>
        </p:spPr>
      </p:pic>
      <p:sp>
        <p:nvSpPr>
          <p:cNvPr id="307" name="Rectangle 5"/>
          <p:cNvSpPr/>
          <p:nvPr/>
        </p:nvSpPr>
        <p:spPr>
          <a:xfrm>
            <a:off x="341640" y="4724280"/>
            <a:ext cx="1564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(5) 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nstanti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,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nstanti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Line 7"/>
          <p:cNvSpPr/>
          <p:nvPr/>
        </p:nvSpPr>
        <p:spPr>
          <a:xfrm flipH="1">
            <a:off x="4647960" y="44956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Line 8"/>
          <p:cNvSpPr/>
          <p:nvPr/>
        </p:nvSpPr>
        <p:spPr>
          <a:xfrm flipH="1">
            <a:off x="5562720" y="49528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0" name="Line 9"/>
          <p:cNvSpPr/>
          <p:nvPr/>
        </p:nvSpPr>
        <p:spPr>
          <a:xfrm>
            <a:off x="3657600" y="48006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1" name="Line 10"/>
          <p:cNvSpPr/>
          <p:nvPr/>
        </p:nvSpPr>
        <p:spPr>
          <a:xfrm flipV="1">
            <a:off x="4419720" y="48765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Line 11"/>
          <p:cNvSpPr/>
          <p:nvPr/>
        </p:nvSpPr>
        <p:spPr>
          <a:xfrm>
            <a:off x="3962520" y="419112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3" name="Date Placeholder 9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ahoma"/>
              </a:rPr>
              <a:t>Fin500J  Topic 5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4" name="Slide Number Placeholder 10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84FBB-0829-4BDB-A6C0-F0321145ECD2}" type="slidenum">
              <a:rPr b="0" lang="en-US" sz="1200" spc="-1" strike="noStrike">
                <a:solidFill>
                  <a:srgbClr val="045c75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Footer Placeholder 1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ahoma"/>
              </a:rPr>
              <a:t>Fall 2010  Olin Business School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Text Box 3"/>
          <p:cNvSpPr/>
          <p:nvPr/>
        </p:nvSpPr>
        <p:spPr>
          <a:xfrm>
            <a:off x="196560" y="1752480"/>
            <a:ext cx="234036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(1) 7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nstanti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+ 11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nstanti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77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→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nstanti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-7/11 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nstanti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+7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Rectangle 4"/>
          <p:cNvSpPr/>
          <p:nvPr/>
        </p:nvSpPr>
        <p:spPr>
          <a:xfrm>
            <a:off x="214920" y="2666880"/>
            <a:ext cx="248220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(2) 10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nstanti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+ 8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nstanti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12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→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nstanti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-5/4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nstanti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+ 1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Rectangle 4"/>
          <p:cNvSpPr/>
          <p:nvPr/>
        </p:nvSpPr>
        <p:spPr>
          <a:xfrm>
            <a:off x="322200" y="3505320"/>
            <a:ext cx="12704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(3) 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nstanti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9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9" name="Rectangle 6"/>
          <p:cNvSpPr/>
          <p:nvPr/>
        </p:nvSpPr>
        <p:spPr>
          <a:xfrm>
            <a:off x="373680" y="4114800"/>
            <a:ext cx="12704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(4) 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nstanti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6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Rectangle 3" descr=""/>
          <p:cNvPicPr/>
          <p:nvPr/>
        </p:nvPicPr>
        <p:blipFill>
          <a:blip r:embed="rId1"/>
          <a:stretch/>
        </p:blipFill>
        <p:spPr>
          <a:xfrm>
            <a:off x="152280" y="304920"/>
            <a:ext cx="8613720" cy="1066680"/>
          </a:xfrm>
          <a:prstGeom prst="rect">
            <a:avLst/>
          </a:prstGeom>
          <a:ln w="0">
            <a:noFill/>
          </a:ln>
        </p:spPr>
      </p:pic>
      <p:sp>
        <p:nvSpPr>
          <p:cNvPr id="321" name="Text Box 4"/>
          <p:cNvSpPr/>
          <p:nvPr/>
        </p:nvSpPr>
        <p:spPr>
          <a:xfrm>
            <a:off x="533520" y="1447920"/>
            <a:ext cx="6568920" cy="17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Now we need to add the objective function to the plot.  Start wit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Z = 0  (0=150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nstanti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+ 175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nstanti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an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Z = 500 (500=150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nstanti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+ 175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nstanti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ahoma"/>
              </a:rPr>
              <a:t>Fin500J  Topic 5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Slide Number Placeholder 4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37DEF-6C5E-43C9-B92C-A2B9D9FE70D9}" type="slidenum">
              <a:rPr b="0" lang="en-US" sz="1200" spc="-1" strike="noStrike">
                <a:solidFill>
                  <a:srgbClr val="045c75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Footer Placeholder 5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ahoma"/>
              </a:rPr>
              <a:t>Fall 2010  Olin Business School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25" name="Object 2" descr=""/>
          <p:cNvPicPr/>
          <p:nvPr/>
        </p:nvPicPr>
        <p:blipFill>
          <a:blip r:embed="rId2"/>
          <a:stretch/>
        </p:blipFill>
        <p:spPr>
          <a:xfrm>
            <a:off x="3808440" y="1976400"/>
            <a:ext cx="4726080" cy="3967200"/>
          </a:xfrm>
          <a:prstGeom prst="rect">
            <a:avLst/>
          </a:prstGeom>
          <a:ln w="0">
            <a:noFill/>
          </a:ln>
        </p:spPr>
      </p:pic>
      <p:sp>
        <p:nvSpPr>
          <p:cNvPr id="326" name="Text Box 4"/>
          <p:cNvSpPr/>
          <p:nvPr/>
        </p:nvSpPr>
        <p:spPr>
          <a:xfrm>
            <a:off x="490320" y="3029040"/>
            <a:ext cx="104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Z=120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7" name="Text Box 4"/>
          <p:cNvSpPr/>
          <p:nvPr/>
        </p:nvSpPr>
        <p:spPr>
          <a:xfrm>
            <a:off x="477720" y="3352680"/>
            <a:ext cx="104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Z=155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8" name="Text Box 5"/>
          <p:cNvSpPr/>
          <p:nvPr/>
        </p:nvSpPr>
        <p:spPr>
          <a:xfrm>
            <a:off x="533520" y="3733920"/>
            <a:ext cx="3047760" cy="10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Still in feasible reg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nstanti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*= 9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nstanti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*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1.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9" name="Oval 15"/>
          <p:cNvSpPr/>
          <p:nvPr/>
        </p:nvSpPr>
        <p:spPr>
          <a:xfrm>
            <a:off x="6964200" y="4572000"/>
            <a:ext cx="46080" cy="763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Date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ahoma"/>
              </a:rPr>
              <a:t>Fin500J  Topic 5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1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7D3CC-5743-48C4-AB88-D52DD2D58B9E}" type="slidenum">
              <a:rPr b="0" lang="en-US" sz="1200" spc="-1" strike="noStrike">
                <a:solidFill>
                  <a:srgbClr val="045c75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2" name="Footer Placeholder 6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ahoma"/>
              </a:rPr>
              <a:t>Fall 2010  Olin Business School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33" name="Title 7" descr=""/>
          <p:cNvPicPr/>
          <p:nvPr/>
        </p:nvPicPr>
        <p:blipFill>
          <a:blip r:embed="rId1"/>
          <a:stretch/>
        </p:blipFill>
        <p:spPr>
          <a:xfrm>
            <a:off x="60480" y="0"/>
            <a:ext cx="8553240" cy="1158840"/>
          </a:xfrm>
          <a:prstGeom prst="rect">
            <a:avLst/>
          </a:prstGeom>
          <a:ln w="0">
            <a:noFill/>
          </a:ln>
        </p:spPr>
      </p:pic>
      <p:sp>
        <p:nvSpPr>
          <p:cNvPr id="334" name="Rectangle 3"/>
          <p:cNvSpPr/>
          <p:nvPr/>
        </p:nvSpPr>
        <p:spPr>
          <a:xfrm>
            <a:off x="4419720" y="3733920"/>
            <a:ext cx="4038480" cy="20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Step 1: &gt;&gt;optimtool in the commend window to open the optimization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toolbo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tep 2: Define matrices A, Aeq and the vectors f, b, lb, ub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35" name="Picture 2" descr=""/>
          <p:cNvPicPr/>
          <p:nvPr/>
        </p:nvPicPr>
        <p:blipFill>
          <a:blip r:embed="rId2"/>
          <a:stretch/>
        </p:blipFill>
        <p:spPr>
          <a:xfrm>
            <a:off x="609480" y="1066680"/>
            <a:ext cx="6391440" cy="2000520"/>
          </a:xfrm>
          <a:prstGeom prst="rect">
            <a:avLst/>
          </a:prstGeom>
          <a:ln w="0">
            <a:noFill/>
          </a:ln>
        </p:spPr>
      </p:pic>
      <p:sp>
        <p:nvSpPr>
          <p:cNvPr id="336" name="Rounded Rectangle 9"/>
          <p:cNvSpPr/>
          <p:nvPr/>
        </p:nvSpPr>
        <p:spPr>
          <a:xfrm>
            <a:off x="1143000" y="1600200"/>
            <a:ext cx="3657600" cy="10666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bd0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37" name="Picture 2" descr=""/>
          <p:cNvPicPr/>
          <p:nvPr/>
        </p:nvPicPr>
        <p:blipFill>
          <a:blip r:embed="rId3"/>
          <a:stretch/>
        </p:blipFill>
        <p:spPr>
          <a:xfrm>
            <a:off x="1066680" y="3648240"/>
            <a:ext cx="2876760" cy="2752560"/>
          </a:xfrm>
          <a:prstGeom prst="rect">
            <a:avLst/>
          </a:prstGeom>
          <a:ln w="0">
            <a:noFill/>
          </a:ln>
        </p:spPr>
      </p:pic>
      <p:sp>
        <p:nvSpPr>
          <p:cNvPr id="338" name="Rounded Rectangle 12"/>
          <p:cNvSpPr/>
          <p:nvPr/>
        </p:nvSpPr>
        <p:spPr>
          <a:xfrm>
            <a:off x="990720" y="3505320"/>
            <a:ext cx="2971800" cy="28954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bd0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Rectangle 3"/>
          <p:cNvSpPr/>
          <p:nvPr/>
        </p:nvSpPr>
        <p:spPr>
          <a:xfrm>
            <a:off x="762120" y="3124080"/>
            <a:ext cx="40384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Example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Date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ahoma"/>
              </a:rPr>
              <a:t>Fin500J  Topic 5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2A9EE-0DE6-4524-8BA7-D86F45B8155B}" type="slidenum">
              <a:rPr b="0" lang="en-US" sz="1200" spc="-1" strike="noStrike">
                <a:solidFill>
                  <a:srgbClr val="045c75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Footer Placeholder 6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ahoma"/>
              </a:rPr>
              <a:t>Fall 2010  Olin Business School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43" name="Title 7" descr=""/>
          <p:cNvPicPr/>
          <p:nvPr/>
        </p:nvPicPr>
        <p:blipFill>
          <a:blip r:embed="rId1"/>
          <a:stretch/>
        </p:blipFill>
        <p:spPr>
          <a:xfrm>
            <a:off x="-92160" y="-79200"/>
            <a:ext cx="8553600" cy="116496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4" descr=""/>
          <p:cNvPicPr/>
          <p:nvPr/>
        </p:nvPicPr>
        <p:blipFill>
          <a:blip r:embed="rId2"/>
          <a:stretch/>
        </p:blipFill>
        <p:spPr>
          <a:xfrm>
            <a:off x="5791320" y="1295280"/>
            <a:ext cx="3019320" cy="209556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14" descr="linearprograming.jpg"/>
          <p:cNvPicPr/>
          <p:nvPr/>
        </p:nvPicPr>
        <p:blipFill>
          <a:blip r:embed="rId3"/>
          <a:stretch/>
        </p:blipFill>
        <p:spPr>
          <a:xfrm>
            <a:off x="380880" y="914400"/>
            <a:ext cx="5181840" cy="5514840"/>
          </a:xfrm>
          <a:prstGeom prst="rect">
            <a:avLst/>
          </a:prstGeom>
          <a:ln w="0">
            <a:noFill/>
          </a:ln>
        </p:spPr>
      </p:pic>
      <p:cxnSp>
        <p:nvCxnSpPr>
          <p:cNvPr id="346" name="Straight Arrow Connector 16"/>
          <p:cNvCxnSpPr/>
          <p:nvPr/>
        </p:nvCxnSpPr>
        <p:spPr>
          <a:xfrm flipV="1">
            <a:off x="3047760" y="1751760"/>
            <a:ext cx="2972520" cy="76284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347" name="Oval 17"/>
          <p:cNvSpPr/>
          <p:nvPr/>
        </p:nvSpPr>
        <p:spPr>
          <a:xfrm>
            <a:off x="1371600" y="5715000"/>
            <a:ext cx="457200" cy="457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8" name="Rectangle 3"/>
          <p:cNvSpPr/>
          <p:nvPr/>
        </p:nvSpPr>
        <p:spPr>
          <a:xfrm>
            <a:off x="5867280" y="3886200"/>
            <a:ext cx="2590920" cy="18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File-&gt;export to workspa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can export the results including lambda,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Date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ahoma"/>
              </a:rPr>
              <a:t>Fin500J  Topic 5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0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0BDAA-4F73-4103-8323-D352B772DE9D}" type="slidenum">
              <a:rPr b="0" lang="en-US" sz="1200" spc="-1" strike="noStrike">
                <a:solidFill>
                  <a:srgbClr val="045c75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1" name="Footer Placeholder 6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ahoma"/>
              </a:rPr>
              <a:t>Fall 2010  Olin Business School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52" name="Title 7" descr=""/>
          <p:cNvPicPr/>
          <p:nvPr/>
        </p:nvPicPr>
        <p:blipFill>
          <a:blip r:embed="rId1"/>
          <a:stretch/>
        </p:blipFill>
        <p:spPr>
          <a:xfrm>
            <a:off x="133200" y="152280"/>
            <a:ext cx="8553600" cy="115884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9" descr=""/>
          <p:cNvPicPr/>
          <p:nvPr/>
        </p:nvPicPr>
        <p:blipFill>
          <a:blip r:embed="rId2"/>
          <a:stretch/>
        </p:blipFill>
        <p:spPr>
          <a:xfrm>
            <a:off x="609480" y="1523880"/>
            <a:ext cx="6143760" cy="1971720"/>
          </a:xfrm>
          <a:prstGeom prst="rect">
            <a:avLst/>
          </a:prstGeom>
          <a:ln w="0">
            <a:noFill/>
          </a:ln>
        </p:spPr>
      </p:pic>
      <p:sp>
        <p:nvSpPr>
          <p:cNvPr id="354" name="Rectangle 3"/>
          <p:cNvSpPr/>
          <p:nvPr/>
        </p:nvSpPr>
        <p:spPr>
          <a:xfrm>
            <a:off x="457200" y="3992400"/>
            <a:ext cx="8229600" cy="202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Step 1: &gt;&gt;optimtool in the commend window to open the optimization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toolbo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tep 2: Define matrices H,A and the vectors f, b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5" name="Rounded Rectangle 13"/>
          <p:cNvSpPr/>
          <p:nvPr/>
        </p:nvSpPr>
        <p:spPr>
          <a:xfrm>
            <a:off x="3657600" y="1828800"/>
            <a:ext cx="2133720" cy="13716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bd0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2" descr=""/>
          <p:cNvPicPr/>
          <p:nvPr/>
        </p:nvPicPr>
        <p:blipFill>
          <a:blip r:embed="rId1"/>
          <a:stretch/>
        </p:blipFill>
        <p:spPr>
          <a:xfrm>
            <a:off x="533520" y="1905120"/>
            <a:ext cx="7888320" cy="4670280"/>
          </a:xfrm>
          <a:prstGeom prst="rect">
            <a:avLst/>
          </a:prstGeom>
          <a:ln w="0">
            <a:noFill/>
          </a:ln>
        </p:spPr>
      </p:pic>
      <p:sp>
        <p:nvSpPr>
          <p:cNvPr id="207" name="Text Box 3"/>
          <p:cNvSpPr/>
          <p:nvPr/>
        </p:nvSpPr>
        <p:spPr>
          <a:xfrm>
            <a:off x="228600" y="730080"/>
            <a:ext cx="853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Recall, with optimization, we are seeking </a:t>
            </a:r>
            <a:r>
              <a:rPr b="0" i="1" lang="en-US" sz="2800" spc="-1" strike="noStrike">
                <a:solidFill>
                  <a:srgbClr val="000000"/>
                </a:solidFill>
                <a:latin typeface="Constantia"/>
              </a:rPr>
              <a:t>f '(x)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=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Line 4"/>
          <p:cNvSpPr/>
          <p:nvPr/>
        </p:nvSpPr>
        <p:spPr>
          <a:xfrm flipV="1">
            <a:off x="4952880" y="1599840"/>
            <a:ext cx="990720" cy="121932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Line 7"/>
          <p:cNvSpPr/>
          <p:nvPr/>
        </p:nvSpPr>
        <p:spPr>
          <a:xfrm flipV="1">
            <a:off x="2895480" y="5105520"/>
            <a:ext cx="685800" cy="4572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Date Placeholder 7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ahoma"/>
              </a:rPr>
              <a:t>Fin500J  Topic 5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Slide Number Placeholder 8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F7D61-868B-483F-A7C0-81B5D8C13102}" type="slidenum">
              <a:rPr b="0" lang="en-US" sz="1200" spc="-1" strike="noStrike">
                <a:solidFill>
                  <a:srgbClr val="045c75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Footer Placeholder 9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ahoma"/>
              </a:rPr>
              <a:t>Fall 2010  Olin Business School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" name="Text Box 5"/>
          <p:cNvSpPr/>
          <p:nvPr/>
        </p:nvSpPr>
        <p:spPr>
          <a:xfrm>
            <a:off x="6028200" y="1371600"/>
            <a:ext cx="142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 '(x) =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 "(x)&lt;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Text Box 6"/>
          <p:cNvSpPr/>
          <p:nvPr/>
        </p:nvSpPr>
        <p:spPr>
          <a:xfrm>
            <a:off x="1523880" y="5257800"/>
            <a:ext cx="1695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 '(x) =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 "(x)&gt;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Rectangle 3" descr=""/>
          <p:cNvPicPr/>
          <p:nvPr/>
        </p:nvPicPr>
        <p:blipFill>
          <a:blip r:embed="rId1"/>
          <a:stretch/>
        </p:blipFill>
        <p:spPr>
          <a:xfrm>
            <a:off x="60480" y="42840"/>
            <a:ext cx="8553240" cy="1347840"/>
          </a:xfrm>
          <a:prstGeom prst="rect">
            <a:avLst/>
          </a:prstGeom>
          <a:ln w="0">
            <a:noFill/>
          </a:ln>
        </p:spPr>
      </p:pic>
      <p:sp>
        <p:nvSpPr>
          <p:cNvPr id="357" name="Text Box 4"/>
          <p:cNvSpPr/>
          <p:nvPr/>
        </p:nvSpPr>
        <p:spPr>
          <a:xfrm>
            <a:off x="609480" y="1600200"/>
            <a:ext cx="868680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8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ahoma"/>
              </a:rPr>
              <a:t>Fin500J  Topic 5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9" name="Slide Number Placeholder 4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81DFD-99FD-499E-A226-3E6652230DFB}" type="slidenum">
              <a:rPr b="0" lang="en-US" sz="1200" spc="-1" strike="noStrike">
                <a:solidFill>
                  <a:srgbClr val="045c75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0" name="Footer Placeholder 5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ahoma"/>
              </a:rPr>
              <a:t>Fall 2010  Olin Business School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61" name="Picture 7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4981680" cy="191448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8" descr=""/>
          <p:cNvPicPr/>
          <p:nvPr/>
        </p:nvPicPr>
        <p:blipFill>
          <a:blip r:embed="rId3"/>
          <a:stretch/>
        </p:blipFill>
        <p:spPr>
          <a:xfrm>
            <a:off x="5943600" y="1295280"/>
            <a:ext cx="1295280" cy="22860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9" descr=""/>
          <p:cNvPicPr/>
          <p:nvPr/>
        </p:nvPicPr>
        <p:blipFill>
          <a:blip r:embed="rId4"/>
          <a:stretch/>
        </p:blipFill>
        <p:spPr>
          <a:xfrm>
            <a:off x="5753160" y="1638360"/>
            <a:ext cx="2476440" cy="2362320"/>
          </a:xfrm>
          <a:prstGeom prst="rect">
            <a:avLst/>
          </a:prstGeom>
          <a:ln w="0">
            <a:noFill/>
          </a:ln>
        </p:spPr>
      </p:pic>
      <p:sp>
        <p:nvSpPr>
          <p:cNvPr id="364" name="Rounded Rectangle 9"/>
          <p:cNvSpPr/>
          <p:nvPr/>
        </p:nvSpPr>
        <p:spPr>
          <a:xfrm>
            <a:off x="5867280" y="1676520"/>
            <a:ext cx="2362320" cy="23619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bd0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65" name="Picture 10" descr=""/>
          <p:cNvPicPr/>
          <p:nvPr/>
        </p:nvPicPr>
        <p:blipFill>
          <a:blip r:embed="rId5"/>
          <a:stretch/>
        </p:blipFill>
        <p:spPr>
          <a:xfrm>
            <a:off x="380880" y="4143240"/>
            <a:ext cx="6600960" cy="187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ahoma"/>
              </a:rPr>
              <a:t>Fin500J  Topic 5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7" name="Slide Number Placeholder 4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78371-B3A3-40BC-A3E9-1652227FDEBA}" type="slidenum">
              <a:rPr b="0" lang="en-US" sz="1200" spc="-1" strike="noStrike">
                <a:solidFill>
                  <a:srgbClr val="045c75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8" name="Footer Placeholder 5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ahoma"/>
              </a:rPr>
              <a:t>Fall 2010  Olin Business School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69" name="Title 7" descr=""/>
          <p:cNvPicPr/>
          <p:nvPr/>
        </p:nvPicPr>
        <p:blipFill>
          <a:blip r:embed="rId1"/>
          <a:stretch/>
        </p:blipFill>
        <p:spPr>
          <a:xfrm>
            <a:off x="-92160" y="-152280"/>
            <a:ext cx="8553600" cy="115884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9" descr="quadprog.jpg"/>
          <p:cNvPicPr/>
          <p:nvPr/>
        </p:nvPicPr>
        <p:blipFill>
          <a:blip r:embed="rId2"/>
          <a:stretch/>
        </p:blipFill>
        <p:spPr>
          <a:xfrm>
            <a:off x="228600" y="838080"/>
            <a:ext cx="5659560" cy="5643720"/>
          </a:xfrm>
          <a:prstGeom prst="rect">
            <a:avLst/>
          </a:prstGeom>
          <a:ln w="0">
            <a:noFill/>
          </a:ln>
        </p:spPr>
      </p:pic>
      <p:sp>
        <p:nvSpPr>
          <p:cNvPr id="371" name="Rectangle 3"/>
          <p:cNvSpPr/>
          <p:nvPr/>
        </p:nvSpPr>
        <p:spPr>
          <a:xfrm>
            <a:off x="5943600" y="990720"/>
            <a:ext cx="320040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onstantia"/>
              </a:rPr>
              <a:t>H=[0.017087987  0.003298885  0.001224849;  0.003298885   0.005900944 0.004488271;  0.001224849   0.004488271   0.063000818]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f=[0; 0; 0]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onstantia"/>
              </a:rPr>
              <a:t>A=[1  1  1; -0.026 -0.008 -0.074; -1  0 0; 0 -1  0; 0 0 -1]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onstantia"/>
              </a:rPr>
              <a:t>b=[1000; -50; 0; 0; 0]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onstantia"/>
              </a:rPr>
              <a:t>The  function ‘quadprog ’ uses an active set strategy. The first phase involves the calculation of a feasible point. The second phase involves the generation of an iterative sequece of feasible  points that converge to the solution.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372" name="Straight Arrow Connector 12"/>
          <p:cNvCxnSpPr/>
          <p:nvPr/>
        </p:nvCxnSpPr>
        <p:spPr>
          <a:xfrm flipV="1">
            <a:off x="2057040" y="1370880"/>
            <a:ext cx="3963240" cy="68652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373" name="Rounded Rectangle 13"/>
          <p:cNvSpPr/>
          <p:nvPr/>
        </p:nvSpPr>
        <p:spPr>
          <a:xfrm>
            <a:off x="304920" y="5486400"/>
            <a:ext cx="1295280" cy="6858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4" name="Straight Connector 15"/>
          <p:cNvSpPr/>
          <p:nvPr/>
        </p:nvSpPr>
        <p:spPr>
          <a:xfrm>
            <a:off x="1371600" y="4876920"/>
            <a:ext cx="838080" cy="144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5" name="Oval 16"/>
          <p:cNvSpPr/>
          <p:nvPr/>
        </p:nvSpPr>
        <p:spPr>
          <a:xfrm>
            <a:off x="762120" y="1447920"/>
            <a:ext cx="1523880" cy="2286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Rectangle 3" descr=""/>
          <p:cNvPicPr/>
          <p:nvPr/>
        </p:nvPicPr>
        <p:blipFill>
          <a:blip r:embed="rId1"/>
          <a:stretch/>
        </p:blipFill>
        <p:spPr>
          <a:xfrm>
            <a:off x="30240" y="-12600"/>
            <a:ext cx="8583480" cy="1506600"/>
          </a:xfrm>
          <a:prstGeom prst="rect">
            <a:avLst/>
          </a:prstGeom>
          <a:ln w="0">
            <a:noFill/>
          </a:ln>
        </p:spPr>
      </p:pic>
      <p:sp>
        <p:nvSpPr>
          <p:cNvPr id="377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ahoma"/>
              </a:rPr>
              <a:t>Fin500J  Topic 5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8" name="Slide Number Placeholder 4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EE14C-B083-4ED3-9D9A-7B0E733D66EA}" type="slidenum">
              <a:rPr b="0" lang="en-US" sz="1200" spc="-1" strike="noStrike">
                <a:solidFill>
                  <a:srgbClr val="045c75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9" name="Footer Placeholder 5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ahoma"/>
              </a:rPr>
              <a:t>Fall 2010  Olin Business School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0" name="Rectangle 3"/>
          <p:cNvSpPr/>
          <p:nvPr/>
        </p:nvSpPr>
        <p:spPr>
          <a:xfrm>
            <a:off x="457200" y="1600200"/>
            <a:ext cx="8229600" cy="20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nstantia"/>
              </a:rPr>
              <a:t>Formul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81" name="Picture 7" descr=""/>
          <p:cNvPicPr/>
          <p:nvPr/>
        </p:nvPicPr>
        <p:blipFill>
          <a:blip r:embed="rId2"/>
          <a:stretch/>
        </p:blipFill>
        <p:spPr>
          <a:xfrm>
            <a:off x="1114560" y="2048040"/>
            <a:ext cx="6914880" cy="30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Rectangle 3" descr=""/>
          <p:cNvPicPr/>
          <p:nvPr/>
        </p:nvPicPr>
        <p:blipFill>
          <a:blip r:embed="rId1"/>
          <a:stretch/>
        </p:blipFill>
        <p:spPr>
          <a:xfrm>
            <a:off x="30240" y="231840"/>
            <a:ext cx="8808840" cy="957240"/>
          </a:xfrm>
          <a:prstGeom prst="rect">
            <a:avLst/>
          </a:prstGeom>
          <a:ln w="0">
            <a:noFill/>
          </a:ln>
        </p:spPr>
      </p:pic>
      <p:sp>
        <p:nvSpPr>
          <p:cNvPr id="383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ahoma"/>
              </a:rPr>
              <a:t>Fin500J  Topic 5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4" name="Slide Number Placeholder 4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80321-2A2B-486B-84FB-912FE97AD42A}" type="slidenum">
              <a:rPr b="0" lang="en-US" sz="1200" spc="-1" strike="noStrike">
                <a:solidFill>
                  <a:srgbClr val="045c75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Footer Placeholder 5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ahoma"/>
              </a:rPr>
              <a:t>Fall 2010  Olin Business School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Rectangle 3"/>
          <p:cNvSpPr/>
          <p:nvPr/>
        </p:nvSpPr>
        <p:spPr>
          <a:xfrm>
            <a:off x="457200" y="1295280"/>
            <a:ext cx="8229600" cy="202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nstantia"/>
              </a:rPr>
              <a:t>Find x that solv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87" name="Picture 2" descr=""/>
          <p:cNvPicPr/>
          <p:nvPr/>
        </p:nvPicPr>
        <p:blipFill>
          <a:blip r:embed="rId2"/>
          <a:stretch/>
        </p:blipFill>
        <p:spPr>
          <a:xfrm>
            <a:off x="2495520" y="1219320"/>
            <a:ext cx="4362480" cy="57132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3" descr=""/>
          <p:cNvPicPr/>
          <p:nvPr/>
        </p:nvPicPr>
        <p:blipFill>
          <a:blip r:embed="rId3"/>
          <a:stretch/>
        </p:blipFill>
        <p:spPr>
          <a:xfrm>
            <a:off x="2562120" y="1857240"/>
            <a:ext cx="2752920" cy="1038240"/>
          </a:xfrm>
          <a:prstGeom prst="rect">
            <a:avLst/>
          </a:prstGeom>
          <a:ln w="0">
            <a:noFill/>
          </a:ln>
        </p:spPr>
      </p:pic>
      <p:sp>
        <p:nvSpPr>
          <p:cNvPr id="389" name="Rectangle 3"/>
          <p:cNvSpPr/>
          <p:nvPr/>
        </p:nvSpPr>
        <p:spPr>
          <a:xfrm>
            <a:off x="457200" y="3124080"/>
            <a:ext cx="8229600" cy="202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Step 1:  Write an M-file objfunc.m for the objective function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dd9"/>
                </a:solidFill>
                <a:latin typeface="Constantia"/>
              </a:rPr>
              <a:t>    </a:t>
            </a:r>
            <a:r>
              <a:rPr b="0" lang="en-US" sz="1600" spc="-1" strike="noStrike">
                <a:solidFill>
                  <a:srgbClr val="009dd9"/>
                </a:solidFill>
                <a:latin typeface="Constantia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 f=objfunc(x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f=exp(x(1))*(4*x(1)^2+2*x(2)^2+4*x(1)*x(2)+2*x(2)+1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Step 2: Write an M-file confun.m for the constraint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dd9"/>
                </a:solidFill>
                <a:latin typeface="Constantia"/>
              </a:rPr>
              <a:t>     </a:t>
            </a:r>
            <a:r>
              <a:rPr b="0" lang="en-US" sz="1600" spc="-1" strike="noStrike">
                <a:solidFill>
                  <a:srgbClr val="009dd9"/>
                </a:solidFill>
                <a:latin typeface="Constantia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 [c, ceq]=confun(x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%Nonlinear inequality constrain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c=[1.5+x(1)*x(2)-x(1)-x(2); -x(1)*x(2)-10]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%Nonlinear equality constrain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ceq=[]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Step 3: &gt;&gt;optimtool to open the optimization toolbo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0" name="Rounded Rectangle 11"/>
          <p:cNvSpPr/>
          <p:nvPr/>
        </p:nvSpPr>
        <p:spPr>
          <a:xfrm>
            <a:off x="2514600" y="1219320"/>
            <a:ext cx="4419720" cy="17524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bd0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Rectangle 3" descr=""/>
          <p:cNvPicPr/>
          <p:nvPr/>
        </p:nvPicPr>
        <p:blipFill>
          <a:blip r:embed="rId1"/>
          <a:stretch/>
        </p:blipFill>
        <p:spPr>
          <a:xfrm>
            <a:off x="30240" y="152280"/>
            <a:ext cx="8808840" cy="963720"/>
          </a:xfrm>
          <a:prstGeom prst="rect">
            <a:avLst/>
          </a:prstGeom>
          <a:ln w="0">
            <a:noFill/>
          </a:ln>
        </p:spPr>
      </p:pic>
      <p:sp>
        <p:nvSpPr>
          <p:cNvPr id="392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ahoma"/>
              </a:rPr>
              <a:t>Fin500J  Topic 5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3" name="Slide Number Placeholder 4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49D1B-969B-491E-9AC3-0D421B179014}" type="slidenum">
              <a:rPr b="0" lang="en-US" sz="1200" spc="-1" strike="noStrike">
                <a:solidFill>
                  <a:srgbClr val="045c75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Footer Placeholder 5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ahoma"/>
              </a:rPr>
              <a:t>Fall 2010  Olin Business School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95" name="Picture 9" descr="fmincon.jpg"/>
          <p:cNvPicPr/>
          <p:nvPr/>
        </p:nvPicPr>
        <p:blipFill>
          <a:blip r:embed="rId2"/>
          <a:stretch/>
        </p:blipFill>
        <p:spPr>
          <a:xfrm>
            <a:off x="1219320" y="914400"/>
            <a:ext cx="5410080" cy="5486400"/>
          </a:xfrm>
          <a:prstGeom prst="rect">
            <a:avLst/>
          </a:prstGeom>
          <a:ln w="0">
            <a:noFill/>
          </a:ln>
        </p:spPr>
      </p:pic>
      <p:sp>
        <p:nvSpPr>
          <p:cNvPr id="396" name="Oval 11"/>
          <p:cNvSpPr/>
          <p:nvPr/>
        </p:nvSpPr>
        <p:spPr>
          <a:xfrm>
            <a:off x="1752480" y="1523880"/>
            <a:ext cx="1752840" cy="2286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Rectangle 12"/>
          <p:cNvSpPr/>
          <p:nvPr/>
        </p:nvSpPr>
        <p:spPr>
          <a:xfrm>
            <a:off x="2133720" y="2133720"/>
            <a:ext cx="609480" cy="2286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8" name="Rectangle 13"/>
          <p:cNvSpPr/>
          <p:nvPr/>
        </p:nvSpPr>
        <p:spPr>
          <a:xfrm>
            <a:off x="2590920" y="3581280"/>
            <a:ext cx="533160" cy="2286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Oval 14"/>
          <p:cNvSpPr/>
          <p:nvPr/>
        </p:nvSpPr>
        <p:spPr>
          <a:xfrm>
            <a:off x="1219320" y="5715000"/>
            <a:ext cx="1371600" cy="6858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0" name="Straight Connector 16"/>
          <p:cNvSpPr/>
          <p:nvPr/>
        </p:nvSpPr>
        <p:spPr>
          <a:xfrm>
            <a:off x="1371600" y="5181480"/>
            <a:ext cx="2133720" cy="1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Date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ahoma"/>
              </a:rPr>
              <a:t>Fin500J  Topic 5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2" name="Footer Placeholder 3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ahoma"/>
              </a:rPr>
              <a:t>Fall 2010  Olin Business School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3" name="Slide Number Placeholder 4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C27B6-AAF9-40B6-B11E-6AF1361CD2B7}" type="slidenum">
              <a:rPr b="0" lang="en-US" sz="1200" spc="-1" strike="noStrike">
                <a:solidFill>
                  <a:srgbClr val="045c75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4" name="Title 1" descr=""/>
          <p:cNvPicPr/>
          <p:nvPr/>
        </p:nvPicPr>
        <p:blipFill>
          <a:blip r:embed="rId1"/>
          <a:stretch/>
        </p:blipFill>
        <p:spPr>
          <a:xfrm>
            <a:off x="158760" y="79200"/>
            <a:ext cx="8929800" cy="1206720"/>
          </a:xfrm>
          <a:prstGeom prst="rect">
            <a:avLst/>
          </a:prstGeom>
          <a:ln w="0">
            <a:noFill/>
          </a:ln>
        </p:spPr>
      </p:pic>
      <p:sp>
        <p:nvSpPr>
          <p:cNvPr id="405" name="Rounded Rectangle 9"/>
          <p:cNvSpPr/>
          <p:nvPr/>
        </p:nvSpPr>
        <p:spPr>
          <a:xfrm>
            <a:off x="380880" y="1447920"/>
            <a:ext cx="3353040" cy="19810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bd0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6" name="Picture 3" descr=""/>
          <p:cNvPicPr/>
          <p:nvPr/>
        </p:nvPicPr>
        <p:blipFill>
          <a:blip r:embed="rId2"/>
          <a:stretch/>
        </p:blipFill>
        <p:spPr>
          <a:xfrm>
            <a:off x="219240" y="4210200"/>
            <a:ext cx="4505040" cy="1428480"/>
          </a:xfrm>
          <a:prstGeom prst="rect">
            <a:avLst/>
          </a:prstGeom>
          <a:ln w="0">
            <a:noFill/>
          </a:ln>
        </p:spPr>
      </p:pic>
      <p:sp>
        <p:nvSpPr>
          <p:cNvPr id="407" name="Down Arrow 11"/>
          <p:cNvSpPr/>
          <p:nvPr/>
        </p:nvSpPr>
        <p:spPr>
          <a:xfrm>
            <a:off x="1600200" y="3505320"/>
            <a:ext cx="228600" cy="6858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bd0d9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Rounded Rectangle 12"/>
          <p:cNvSpPr/>
          <p:nvPr/>
        </p:nvSpPr>
        <p:spPr>
          <a:xfrm>
            <a:off x="304920" y="4267080"/>
            <a:ext cx="4343400" cy="14479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bd0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Picture 4" descr=""/>
          <p:cNvPicPr/>
          <p:nvPr/>
        </p:nvPicPr>
        <p:blipFill>
          <a:blip r:embed="rId3"/>
          <a:stretch/>
        </p:blipFill>
        <p:spPr>
          <a:xfrm>
            <a:off x="5410080" y="4724280"/>
            <a:ext cx="1905120" cy="505080"/>
          </a:xfrm>
          <a:prstGeom prst="rect">
            <a:avLst/>
          </a:prstGeom>
          <a:ln w="0">
            <a:noFill/>
          </a:ln>
        </p:spPr>
      </p:pic>
      <p:sp>
        <p:nvSpPr>
          <p:cNvPr id="410" name="Rounded Rectangle 14"/>
          <p:cNvSpPr/>
          <p:nvPr/>
        </p:nvSpPr>
        <p:spPr>
          <a:xfrm>
            <a:off x="5486400" y="4648320"/>
            <a:ext cx="1905120" cy="6094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bd0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ight Arrow 15"/>
          <p:cNvSpPr/>
          <p:nvPr/>
        </p:nvSpPr>
        <p:spPr>
          <a:xfrm>
            <a:off x="4724280" y="4800600"/>
            <a:ext cx="609840" cy="228600"/>
          </a:xfrm>
          <a:prstGeom prst="rightArrow">
            <a:avLst>
              <a:gd name="adj1" fmla="val 50000"/>
              <a:gd name="adj2" fmla="val 50020"/>
            </a:avLst>
          </a:prstGeom>
          <a:solidFill>
            <a:srgbClr val="0bd0d9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3"/>
          <p:cNvSpPr/>
          <p:nvPr/>
        </p:nvSpPr>
        <p:spPr>
          <a:xfrm>
            <a:off x="4114800" y="1371600"/>
            <a:ext cx="4800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The basic idea is analogous to Newton’s method for unconstrained optimization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In unconstrained optimization, only the objective function must be approximated, in the NLP, both the objective and the constraint must be modeled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An sequential quadratic  programming method uses a quadratic for the objective and a linear model of the constraint ( i.e., a quadratic program at each iteration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3" name="Object 9"/>
              <p:cNvSpPr txBox="1"/>
              <p:nvPr/>
            </p:nvSpPr>
            <p:spPr>
              <a:xfrm>
                <a:off x="533520" y="1525680"/>
                <a:ext cx="3159000" cy="175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in</m:t>
                            </m:r>
                          </m:e>
                          <m:lim>
                            <m:r>
                              <m:t xml:space="preserve">x</m:t>
                            </m:r>
                          </m:lim>
                        </m:limLow>
                        <m:r>
                          <m:rPr>
                            <m:lit/>
                            <m:nor/>
                          </m:rPr>
                          <m:t xml:space="preserve"> 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ubject to</m:t>
                        </m:r>
                      </m:e>
                      <m:e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≤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m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Rectangle 5" descr=""/>
          <p:cNvPicPr/>
          <p:nvPr/>
        </p:nvPicPr>
        <p:blipFill>
          <a:blip r:embed="rId1"/>
          <a:stretch/>
        </p:blipFill>
        <p:spPr>
          <a:xfrm>
            <a:off x="212760" y="195120"/>
            <a:ext cx="8553240" cy="13478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16" name="Object 8"/>
              <p:cNvSpPr txBox="1"/>
              <p:nvPr/>
            </p:nvSpPr>
            <p:spPr>
              <a:xfrm>
                <a:off x="4267080" y="1550880"/>
                <a:ext cx="3124440" cy="112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x</m:t>
                    </m:r>
                    <m:r>
                      <m:t xml:space="preserve">−</m:t>
                    </m:r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17" name="Text Box 9"/>
          <p:cNvSpPr/>
          <p:nvPr/>
        </p:nvSpPr>
        <p:spPr>
          <a:xfrm>
            <a:off x="831240" y="1684440"/>
            <a:ext cx="333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Find the maximum o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Date Placeholder 6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ahoma"/>
              </a:rPr>
              <a:t>Fin500J  Topic 5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Slide Number Placeholder 7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8A44F-DB00-4D03-9D3A-EE5F6C06D697}" type="slidenum">
              <a:rPr b="0" lang="en-US" sz="1200" spc="-1" strike="noStrike">
                <a:solidFill>
                  <a:srgbClr val="045c75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" name="Footer Placeholder 8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ahoma"/>
              </a:rPr>
              <a:t>Fall 2010  Olin Business School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Rounded Rectangle 9"/>
          <p:cNvSpPr/>
          <p:nvPr/>
        </p:nvSpPr>
        <p:spPr>
          <a:xfrm>
            <a:off x="4114800" y="1523880"/>
            <a:ext cx="3657600" cy="12193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bd0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2" name="Object 9"/>
              <p:cNvSpPr txBox="1"/>
              <p:nvPr/>
            </p:nvSpPr>
            <p:spPr>
              <a:xfrm>
                <a:off x="2011320" y="3249720"/>
                <a:ext cx="3703680" cy="105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3" name="Text Box 9"/>
          <p:cNvSpPr/>
          <p:nvPr/>
        </p:nvSpPr>
        <p:spPr>
          <a:xfrm>
            <a:off x="780840" y="2890800"/>
            <a:ext cx="442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o solve the root problem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Text Box 9"/>
          <p:cNvSpPr/>
          <p:nvPr/>
        </p:nvSpPr>
        <p:spPr>
          <a:xfrm>
            <a:off x="709920" y="4338720"/>
            <a:ext cx="70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nd the second condition is satisfied at the ro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5" name="Object 10"/>
              <p:cNvSpPr txBox="1"/>
              <p:nvPr/>
            </p:nvSpPr>
            <p:spPr>
              <a:xfrm>
                <a:off x="1781280" y="4762440"/>
                <a:ext cx="4211640" cy="103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'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∗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x</m:t>
                    </m:r>
                    <m:r>
                      <m:t xml:space="preserve">∗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&l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Date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ahoma"/>
              </a:rPr>
              <a:t>Fin500J  Topic 5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Footer Placeholder 3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ahoma"/>
              </a:rPr>
              <a:t>Fall 2010  Olin Business School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Slide Number Placeholder 4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D0638-5D25-4D09-9DBA-BEF1A23AD16F}" type="slidenum">
              <a:rPr b="0" lang="en-US" sz="1200" spc="-1" strike="noStrike">
                <a:solidFill>
                  <a:srgbClr val="045c75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9" name="Picture 2" descr=""/>
          <p:cNvPicPr/>
          <p:nvPr/>
        </p:nvPicPr>
        <p:blipFill>
          <a:blip r:embed="rId1"/>
          <a:stretch/>
        </p:blipFill>
        <p:spPr>
          <a:xfrm>
            <a:off x="-152280" y="1523880"/>
            <a:ext cx="5333760" cy="4000680"/>
          </a:xfrm>
          <a:prstGeom prst="rect">
            <a:avLst/>
          </a:prstGeom>
          <a:ln w="0">
            <a:noFill/>
          </a:ln>
        </p:spPr>
      </p:pic>
      <p:pic>
        <p:nvPicPr>
          <p:cNvPr id="230" name="Rectangle 5" descr=""/>
          <p:cNvPicPr/>
          <p:nvPr/>
        </p:nvPicPr>
        <p:blipFill>
          <a:blip r:embed="rId2"/>
          <a:stretch/>
        </p:blipFill>
        <p:spPr>
          <a:xfrm>
            <a:off x="133200" y="122400"/>
            <a:ext cx="8553600" cy="1341360"/>
          </a:xfrm>
          <a:prstGeom prst="rect">
            <a:avLst/>
          </a:prstGeom>
          <a:ln w="0">
            <a:noFill/>
          </a:ln>
        </p:spPr>
      </p:pic>
      <p:cxnSp>
        <p:nvCxnSpPr>
          <p:cNvPr id="231" name="Straight Arrow Connector 11"/>
          <p:cNvCxnSpPr/>
          <p:nvPr/>
        </p:nvCxnSpPr>
        <p:spPr>
          <a:xfrm>
            <a:off x="3048120" y="1905120"/>
            <a:ext cx="1676880" cy="216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232" name="Rectangle 3"/>
          <p:cNvSpPr/>
          <p:nvPr/>
        </p:nvSpPr>
        <p:spPr>
          <a:xfrm>
            <a:off x="5029200" y="1523880"/>
            <a:ext cx="373392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We can solve  </a:t>
            </a:r>
            <a:r>
              <a:rPr b="0" i="1" lang="en-US" sz="2000" spc="-1" strike="noStrike">
                <a:solidFill>
                  <a:srgbClr val="000000"/>
                </a:solidFill>
                <a:latin typeface="Constantia"/>
              </a:rPr>
              <a:t>f '(x)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=0 by Bisection using initial interval [1,2], Newton’s  with initial point 1.2  or Secant method with initial points 1.2 and 2 presented in Topic 3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We can also solve it in Matlab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pt-BR" sz="2000" spc="-1" strike="noStrike">
                <a:solidFill>
                  <a:srgbClr val="000000"/>
                </a:solidFill>
                <a:latin typeface="Constantia"/>
              </a:rPr>
              <a:t>&gt;&gt; f=@(x) 2*cos(x)-1/5*x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pt-BR" sz="2000" spc="-1" strike="noStrike">
                <a:solidFill>
                  <a:srgbClr val="000000"/>
                </a:solidFill>
                <a:latin typeface="Constantia"/>
              </a:rPr>
              <a:t>&gt;&gt; fzero(f,[1,2]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pt-BR" sz="2000" spc="-1" strike="noStrike">
                <a:solidFill>
                  <a:srgbClr val="000000"/>
                </a:solidFill>
                <a:latin typeface="Constantia"/>
              </a:rPr>
              <a:t>ans =1.4276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53452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Calibri"/>
              </a:rPr>
              <a:t>Objectives : Using Optimization Toolbox in Matlab to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380880" y="1980720"/>
            <a:ext cx="86868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olve unconstrained optimization with multiple variabl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olve linear programming problem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olve quadratic programming problem (for example: optimal portfolio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olve nonlinear optimization with constraint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ostly, we will focus on minimization in this topic, max f(x) is equivalent to min –f(x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ahoma"/>
              </a:rPr>
              <a:t>Fin500J  Topic 5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Slide Number Placeholder 4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0AF36-E488-4A93-9C11-CAD829CC26C3}" type="slidenum">
              <a:rPr b="0" lang="en-US" sz="1200" spc="-1" strike="noStrike">
                <a:solidFill>
                  <a:srgbClr val="045c75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" name="Footer Placeholder 5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ahoma"/>
              </a:rPr>
              <a:t>Fall 2010  Olin Business School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Calibri"/>
              </a:rPr>
              <a:t>Linear Programming/Quadratic Programming/Nonlinear Programming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f </a:t>
            </a: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f(x)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and the constraints are linear, we have linear programming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f </a:t>
            </a: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f(x)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is quadratic, and the constraints are linear, we have quadratic programming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f </a:t>
            </a: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f(x)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in not linear or quadratic, and/or the constraints are nonlinear, we have nonlinear programming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ahoma"/>
              </a:rPr>
              <a:t>Fin500J  Topic 5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Slide Number Placeholder 4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8EF84-7AFF-47D2-BDC8-BE66C1AE2610}" type="slidenum">
              <a:rPr b="0" lang="en-US" sz="1200" spc="-1" strike="noStrike">
                <a:solidFill>
                  <a:srgbClr val="045c75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Footer Placeholder 5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ahoma"/>
              </a:rPr>
              <a:t>Fall 2010  Olin Business School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Rectangle 2" descr=""/>
          <p:cNvPicPr/>
          <p:nvPr/>
        </p:nvPicPr>
        <p:blipFill>
          <a:blip r:embed="rId1"/>
          <a:stretch/>
        </p:blipFill>
        <p:spPr>
          <a:xfrm>
            <a:off x="30240" y="212760"/>
            <a:ext cx="8905680" cy="1512720"/>
          </a:xfrm>
          <a:prstGeom prst="rect">
            <a:avLst/>
          </a:prstGeom>
          <a:ln w="0">
            <a:noFill/>
          </a:ln>
        </p:spPr>
      </p:pic>
      <p:sp>
        <p:nvSpPr>
          <p:cNvPr id="244" name="Text Box 3"/>
          <p:cNvSpPr/>
          <p:nvPr/>
        </p:nvSpPr>
        <p:spPr>
          <a:xfrm>
            <a:off x="762120" y="1600200"/>
            <a:ext cx="7635600" cy="56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Unconstrained Minimization Problem: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in f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nstanti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,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nstanti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,…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nstanti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Optimality Condition:  x* is a local minimum i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What values of x make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" name="Date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ahoma"/>
              </a:rPr>
              <a:t>Fin500J  Topic 5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018C4-4956-43C3-9AAB-3F7EB61E01CB}" type="slidenum">
              <a:rPr b="0" lang="en-US" sz="1200" spc="-1" strike="noStrike">
                <a:solidFill>
                  <a:srgbClr val="045c75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Footer Placeholder 6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ahoma"/>
              </a:rPr>
              <a:t>Fall 2010  Olin Business School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8" name="Object 8"/>
              <p:cNvSpPr txBox="1"/>
              <p:nvPr/>
            </p:nvSpPr>
            <p:spPr>
              <a:xfrm>
                <a:off x="930240" y="3305160"/>
                <a:ext cx="65977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∇</m:t>
                    </m:r>
                    <m:r>
                      <m:t xml:space="preserve">f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/>
                    </m:sSup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 and </m:t>
                    </m:r>
                    <m:sSup>
                      <m:e>
                        <m:r>
                          <m:t xml:space="preserve">∇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f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/>
                    </m:sSup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is positive definite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Object 9"/>
              <p:cNvSpPr txBox="1"/>
              <p:nvPr/>
            </p:nvSpPr>
            <p:spPr>
              <a:xfrm>
                <a:off x="2376360" y="3809880"/>
                <a:ext cx="5167440" cy="162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 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-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,</m:t>
                        </m:r>
                      </m:e>
                      <m:e>
                        <m:r>
                          <m:t xml:space="preserve">∇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eqArr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  <m:r>
                                      <m:t xml:space="preserve">+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sup>
                                </m:sSup>
                                <m:r>
                                  <m:t xml:space="preserve">−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-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sup>
                                </m:sSup>
                              </m:e>
                              <m:e/>
                            </m:d>
                          </m:e>
                          <m:e/>
                        </m:eqAr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" name="Object 10"/>
              <p:cNvSpPr txBox="1"/>
              <p:nvPr/>
            </p:nvSpPr>
            <p:spPr>
              <a:xfrm>
                <a:off x="3951360" y="5738760"/>
                <a:ext cx="176364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∇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Title 1" descr=""/>
          <p:cNvPicPr/>
          <p:nvPr/>
        </p:nvPicPr>
        <p:blipFill>
          <a:blip r:embed="rId1"/>
          <a:stretch/>
        </p:blipFill>
        <p:spPr>
          <a:xfrm>
            <a:off x="182520" y="139680"/>
            <a:ext cx="8583480" cy="1506600"/>
          </a:xfrm>
          <a:prstGeom prst="rect">
            <a:avLst/>
          </a:prstGeom>
          <a:ln w="0">
            <a:noFill/>
          </a:ln>
        </p:spPr>
      </p:pic>
      <p:sp>
        <p:nvSpPr>
          <p:cNvPr id="252" name="Date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ahoma"/>
              </a:rPr>
              <a:t>Fin500J  Topic 5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" name="Footer Placeholder 3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ahoma"/>
              </a:rPr>
              <a:t>Fall 2010  Olin Business School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" name="Slide Number Placeholder 4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33D40-FBC1-46BD-90A4-0A78317E0F9C}" type="slidenum">
              <a:rPr b="0" lang="en-US" sz="1200" spc="-1" strike="noStrike">
                <a:solidFill>
                  <a:srgbClr val="045c75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" name="Rectangle 3"/>
          <p:cNvSpPr/>
          <p:nvPr/>
        </p:nvSpPr>
        <p:spPr>
          <a:xfrm>
            <a:off x="457200" y="1935000"/>
            <a:ext cx="8229600" cy="43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tep 1: Write an M-file objfun.m and save under the work path of matla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6fc6"/>
                </a:solidFill>
                <a:latin typeface="Tahoma"/>
              </a:rPr>
              <a:t>   </a:t>
            </a:r>
            <a:r>
              <a:rPr b="0" lang="en-US" sz="2000" spc="-1" strike="noStrike">
                <a:solidFill>
                  <a:srgbClr val="0f6fc6"/>
                </a:solidFill>
                <a:latin typeface="Constantia"/>
              </a:rPr>
              <a:t>function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f=objfun(x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f=exp(x(1)+x(2)-1)+exp(x(1)-x(2)-1)+exp(-x(1)-1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tep 2:  &gt;&gt;optimtool in the commend window to open the optimization toolbo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Title 1" descr=""/>
          <p:cNvPicPr/>
          <p:nvPr/>
        </p:nvPicPr>
        <p:blipFill>
          <a:blip r:embed="rId1"/>
          <a:stretch/>
        </p:blipFill>
        <p:spPr>
          <a:xfrm>
            <a:off x="103320" y="-12600"/>
            <a:ext cx="8583480" cy="1506600"/>
          </a:xfrm>
          <a:prstGeom prst="rect">
            <a:avLst/>
          </a:prstGeom>
          <a:ln w="0">
            <a:noFill/>
          </a:ln>
        </p:spPr>
      </p:pic>
      <p:sp>
        <p:nvSpPr>
          <p:cNvPr id="257" name="Date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ahoma"/>
              </a:rPr>
              <a:t>Fin500J  Topic 5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" name="Footer Placeholder 3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ahoma"/>
              </a:rPr>
              <a:t>Fall 2010  Olin Business School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9" name="Slide Number Placeholder 4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07981-7F78-4B5C-8683-9B96B0EEE4C4}" type="slidenum">
              <a:rPr b="0" lang="en-US" sz="1200" spc="-1" strike="noStrike">
                <a:solidFill>
                  <a:srgbClr val="045c75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60" name="Picture 7" descr="finuncon.jpg"/>
          <p:cNvPicPr/>
          <p:nvPr/>
        </p:nvPicPr>
        <p:blipFill>
          <a:blip r:embed="rId2"/>
          <a:stretch/>
        </p:blipFill>
        <p:spPr>
          <a:xfrm>
            <a:off x="228600" y="1295280"/>
            <a:ext cx="6486480" cy="5029200"/>
          </a:xfrm>
          <a:prstGeom prst="rect">
            <a:avLst/>
          </a:prstGeom>
          <a:ln w="0">
            <a:noFill/>
          </a:ln>
        </p:spPr>
      </p:pic>
      <p:cxnSp>
        <p:nvCxnSpPr>
          <p:cNvPr id="261" name="Straight Arrow Connector 9"/>
          <p:cNvCxnSpPr/>
          <p:nvPr/>
        </p:nvCxnSpPr>
        <p:spPr>
          <a:xfrm flipV="1">
            <a:off x="4038120" y="1370880"/>
            <a:ext cx="3048840" cy="68652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262" name="Oval 12"/>
          <p:cNvSpPr/>
          <p:nvPr/>
        </p:nvSpPr>
        <p:spPr>
          <a:xfrm>
            <a:off x="1371600" y="2590920"/>
            <a:ext cx="609480" cy="3045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" name="Oval 13"/>
          <p:cNvSpPr/>
          <p:nvPr/>
        </p:nvSpPr>
        <p:spPr>
          <a:xfrm>
            <a:off x="1219320" y="3048120"/>
            <a:ext cx="609480" cy="2286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4" name="Rounded Rectangle 14"/>
          <p:cNvSpPr/>
          <p:nvPr/>
        </p:nvSpPr>
        <p:spPr>
          <a:xfrm>
            <a:off x="380880" y="5562720"/>
            <a:ext cx="1524240" cy="5331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265" name="Straight Arrow Connector 16"/>
          <p:cNvCxnSpPr/>
          <p:nvPr/>
        </p:nvCxnSpPr>
        <p:spPr>
          <a:xfrm>
            <a:off x="3733920" y="3200400"/>
            <a:ext cx="3201120" cy="53424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266" name="Rectangle 3"/>
          <p:cNvSpPr/>
          <p:nvPr/>
        </p:nvSpPr>
        <p:spPr>
          <a:xfrm>
            <a:off x="6781680" y="1066680"/>
            <a:ext cx="221004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We use the function fminunc to solve unconstrained optimization problem “objfun”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67" name="Picture 2" descr=""/>
          <p:cNvPicPr/>
          <p:nvPr/>
        </p:nvPicPr>
        <p:blipFill>
          <a:blip r:embed="rId3"/>
          <a:stretch/>
        </p:blipFill>
        <p:spPr>
          <a:xfrm>
            <a:off x="6815160" y="3809880"/>
            <a:ext cx="217656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18T05:07:30Z</dcterms:created>
  <dc:creator>Yajun Wang</dc:creator>
  <dc:description/>
  <dc:language>en-US</dc:language>
  <cp:lastModifiedBy>elias</cp:lastModifiedBy>
  <dcterms:modified xsi:type="dcterms:W3CDTF">2012-10-10T06:57:15Z</dcterms:modified>
  <cp:revision>1197</cp:revision>
  <dc:subject/>
  <dc:title>Optimization in Matlab</dc:title>
</cp:coreProperties>
</file>