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A7B3F-A068-453D-ADF0-49758A30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A7CB9-3048-4EAD-9C41-64D61848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C3749-91E0-4549-87DA-073C9AAB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9AD36-FC8E-427E-93D4-AD136048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D1291-24E1-4009-9C5B-23166E87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67281-D0E8-4E3F-88AF-426C3F35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CB3BB-7AE8-46E4-A876-CF0D1A45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E2B34-BFE1-438A-AFEC-7058C31C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7B2F5-A585-49CD-8AFC-05DC73E3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556BA-F33C-4F51-8F76-D493160B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93398-F145-4990-AAD2-E0FD51CB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763E5-72A8-4667-8A5B-CA732E21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7AEB1-78A1-44F2-8A2D-091049A2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CE03E-9412-46EF-8B76-DC1F876F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C67DA-AAFB-49E2-A8DE-3917212D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A07FD-0A77-4814-948D-042FA9D1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4BAA9-4E9C-4696-9B4E-65F433CA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87B5A-0C74-493B-9012-99EC661F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EC07E-9480-4B6D-AF7D-7FBAC42D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058AD-58A3-4EB0-B79F-96E45B5A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C365B-ECE0-4C4E-A597-79566271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A6C3D-0A44-419B-AD18-40ACEFDA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96623-1D19-4C2E-80BD-CA34A3B8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82B38-3886-4F85-8566-8FD2C702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723E6-97AC-4950-9537-3F0282B5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20A42-ACE0-4411-99A9-237008FB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A4231-DB05-477A-B491-BB4CBBF0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18AF4-949A-4D34-A897-7CC73BAA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20EF7-A6C5-4343-8ECE-58113F85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65A5C-D22C-42AF-A832-5CAFEB21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4DC55-55AE-4D1D-9CDE-4241DC56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DE728-1C54-4D3A-98BA-9368F74D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FD202-9451-4456-A602-27FAC3ED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CDC-6827-4E67-B98C-25FE9749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828-8A3C-4B32-BD2D-103E1811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E88-FC64-4665-A12C-B15C12E9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643-E85A-4799-8113-A322E0C0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185-2C73-41F4-B2A9-1271785A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B95-FEB1-41C2-BE52-61494DB3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C07-A8B5-4325-BBE4-7144D161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E5E-0CDF-4C42-BF43-3479FC38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78A-B9D8-49D4-9172-1A79BA3F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9ED-632B-483C-9EE5-230B5E32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81A-216B-4C63-B760-50309ABA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8B7-AD07-4C28-ACA3-7F93FACC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AFA7-878D-4C34-AB1D-8B36BF6B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FDAD-08AD-4642-A3C7-C7E1FE7C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366D-5703-4E4C-AB97-7BE1F8D2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92E0-3261-4D97-938A-E84BBF3C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CFE6-1E6A-4F78-808E-47512F37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6811-6D75-4B9B-82D0-8691F9E0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8B0B-BDF2-4987-9E69-AE84B06E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4ACA-2075-4E49-88AC-9BECF5FA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E340-61A1-46AF-BEF4-3DC31297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1D03-71DF-4D0E-BDAB-9B12F6CF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74B3-1E12-45E8-9A13-2FB42E31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4D35-43EF-429C-9BD7-438011F9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9DCF-93FF-43EF-A4E9-0BDC636A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D1BC5-B211-454C-B45B-5D2B09BB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ED1DD-7208-4DE0-AAD5-6AB61C14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3A956-A9A3-4F4D-A965-732E70AF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03B7B-22FE-4C79-B481-ADAFC063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73587-F906-4EFF-AC4E-AC078861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FA4F-1202-4912-A920-B653F048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31A72-470F-4264-84A1-07729FF0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2C17F-310F-4A4A-97BC-E6B64D37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D0E95-B405-42AC-A8F3-2A5AA885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EA0F1-AC18-4439-AA10-B46BC87A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CE1E2-705A-4118-B5F5-B4A7A277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31F34-3668-4722-847C-190D2716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49B7B-5AAE-4CFE-BC7B-83A2DA29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96776-EFD1-4B5F-A0E8-B602897B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56112-FB8C-4A34-BD5F-F88F6FC5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88B43-E946-4075-B2EF-0F202FD7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A5D62-4E5A-49CB-91F8-2C73810F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2212A-60ED-4CC5-A61F-72130637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28F1E-D93B-4D6F-B09C-63BCA13C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7E82F-9F8F-4454-B73D-434D5780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45486-6BC5-4D08-BDD3-86AB65BA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4B643-2EBF-4A9D-99EC-41865D2A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2A47E-D5B8-4F63-B8E2-71BD33CB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73911-CD55-4115-A031-DDFDC22E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F513B-24BA-4286-9BC4-04A8DA09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FB559-A1B9-4C66-95CE-E0AFA2AF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AFCBC-C002-4330-81C6-736E2CFF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E07AF-46DF-429A-B05E-8E0F1A8D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8809E-D5AE-4333-9954-59928CB5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2131B-C758-4036-8621-C9A73434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377A4-AA32-4BC1-8A82-7B32453D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7DECB-61AE-4CF2-8C4D-59FB624E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E08F3-AC0E-4A0F-995E-E6DFA3ED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15B6C-C608-4C79-868F-FA42F09A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C2E30-2DEF-4EA1-886C-074F96DC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8C70F-4C16-47E2-81CE-34DCE050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151F5-161D-45BD-AA99-5A90DCDD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2C321-5352-4C3F-B041-5C3C3DC2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BD71E-090A-4DBC-983B-2AECB66B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73D82-5A88-49B0-B5A4-8501D343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4D737-4607-4D21-9E72-67CB3427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065CC-DDA8-491E-B4C8-925843D0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1F526-97A8-4F3A-86B3-3A259186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CAF46-B69D-4173-8F67-37982040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F77A3-DA2A-40A5-8F86-A008C216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CCC18-DDB8-483E-A4A1-BFF833D5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03626-0759-4E53-AE8A-D59152A9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39C5B-1E91-479A-AEF6-5DCA195B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4464D-C9E4-4938-971A-665F5A22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D6166-669B-4694-BFAD-39EFA33B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EED8-D0A6-4A88-BA23-3ABF5E78705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DC75-435A-47D9-B4C1-DA52E4B9B66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9E9F-0282-4FB3-AD6E-3CCC34DCA5CD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9B75-FD52-4194-A39F-FCBC8AA8482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28FD-DAE2-47B2-AA60-E29AC4CD45D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ABA1-037F-4BC7-A478-DA89D6A64CF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E745-2D4D-4E40-B85B-E6EDBF84A03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2A3B-AA24-459B-935E-1C4BA054B56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26D1-F71F-4030-857F-CBCC0826106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FCDA-7F52-4EF1-BCDE-BFCA945B873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im environment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dumy entity to check whether sim engine is starte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2247840" y="2376360"/>
            <a:ext cx="46483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6" name="Picture 7" descr=""/>
          <p:cNvPicPr/>
          <p:nvPr/>
        </p:nvPicPr>
        <p:blipFill>
          <a:blip r:embed="rId1"/>
          <a:stretch/>
        </p:blipFill>
        <p:spPr>
          <a:xfrm>
            <a:off x="642960" y="1933560"/>
            <a:ext cx="8096400" cy="40672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자유형 5"/>
          <p:cNvSpPr/>
          <p:nvPr/>
        </p:nvSpPr>
        <p:spPr>
          <a:xfrm>
            <a:off x="2571840" y="3857760"/>
            <a:ext cx="1714320" cy="12859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아래쪽 화살표 6"/>
          <p:cNvSpPr/>
          <p:nvPr/>
        </p:nvSpPr>
        <p:spPr>
          <a:xfrm rot="16200000">
            <a:off x="535680" y="3607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splengin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ApplyForc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3714840" y="1643040"/>
            <a:ext cx="4562280" cy="4838760"/>
          </a:xfrm>
          <a:prstGeom prst="rect">
            <a:avLst/>
          </a:prstGeom>
          <a:ln w="0">
            <a:noFill/>
          </a:ln>
        </p:spPr>
      </p:pic>
      <p:sp>
        <p:nvSpPr>
          <p:cNvPr id="483" name="아래쪽 화살표 4"/>
          <p:cNvSpPr/>
          <p:nvPr/>
        </p:nvSpPr>
        <p:spPr>
          <a:xfrm rot="16200000">
            <a:off x="310752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reateEntity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6" name="Picture 6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6010200" cy="4905360"/>
          </a:xfrm>
          <a:prstGeom prst="rect">
            <a:avLst/>
          </a:prstGeom>
          <a:ln w="0">
            <a:noFill/>
          </a:ln>
        </p:spPr>
      </p:pic>
      <p:sp>
        <p:nvSpPr>
          <p:cNvPr id="487" name="모서리가 둥근 직사각형 4"/>
          <p:cNvSpPr/>
          <p:nvPr/>
        </p:nvSpPr>
        <p:spPr>
          <a:xfrm>
            <a:off x="642960" y="2571840"/>
            <a:ext cx="8072280" cy="3500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6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286160" cy="36860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2"/>
          <a:stretch/>
        </p:blipFill>
        <p:spPr>
          <a:xfrm>
            <a:off x="4000680" y="29289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6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6010200" cy="490536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5"/>
          <p:cNvSpPr/>
          <p:nvPr/>
        </p:nvSpPr>
        <p:spPr>
          <a:xfrm rot="16200000">
            <a:off x="132156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1704960" y="2143080"/>
            <a:ext cx="55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pplyForce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NewEntit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Position: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\n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BoxShap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Dimensions: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Mass:0.1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m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1.Force(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.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cmd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ity_control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entity_control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2319480" y="2838600"/>
            <a:ext cx="450504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SPLEngine” comman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6" name="Picture 9" descr=""/>
          <p:cNvPicPr/>
          <p:nvPr/>
        </p:nvPicPr>
        <p:blipFill>
          <a:blip r:embed="rId1"/>
          <a:stretch/>
        </p:blipFill>
        <p:spPr>
          <a:xfrm>
            <a:off x="566640" y="1981080"/>
            <a:ext cx="8010720" cy="359100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ontrol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자유형 5"/>
          <p:cNvSpPr/>
          <p:nvPr/>
        </p:nvSpPr>
        <p:spPr>
          <a:xfrm flipV="1">
            <a:off x="1857240" y="3714120"/>
            <a:ext cx="3143520" cy="9284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-19800" y="392904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아래쪽 화살표 7"/>
          <p:cNvSpPr/>
          <p:nvPr/>
        </p:nvSpPr>
        <p:spPr>
          <a:xfrm rot="16200000">
            <a:off x="378720" y="4321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8"/>
          <p:cNvSpPr/>
          <p:nvPr/>
        </p:nvSpPr>
        <p:spPr>
          <a:xfrm rot="1502400">
            <a:off x="3050640" y="2244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5:18:26Z</dcterms:modified>
  <cp:revision>986</cp:revision>
  <dc:subject/>
  <dc:title>슬라이드 1</dc:title>
</cp:coreProperties>
</file>