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FBBB2-8EB1-4010-8D2D-00865707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20FC9-6B2D-4A6E-A018-E6C8ADCC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92954-626A-458A-ACB3-D5584760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78BAF-CF8D-4703-AACE-66F4F86C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3172C-3239-4C59-9683-6AC23762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B3570-F506-4A27-8139-B0360E1A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2C00B-2C0F-4705-8C96-A3F9AD66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C0C3D-2F32-4D13-98BF-B007A9ED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C51EF-9C1F-4D9B-808C-0B04B3F9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890E4-6C5F-4DB3-AEB4-33977601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E7B51-CDA8-43E6-B0FB-8C1A9745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CDF73-C83D-48DA-89C7-8031A9EF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1F95C-53FA-4534-A9B5-BC66CFD2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BD96B-C1DB-4648-9780-7C3E3814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29079-D25B-45E0-9B95-FE6C1450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05805-FF65-4704-A76D-28A2D799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96ADC-88BA-498F-AE65-FBD38BCA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6F1AA-D229-4E6C-864B-60D20786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76BE4-7FF9-4C2D-B49F-F6B0773A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01AFD-0571-4443-8B7F-47124A90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46329-70D5-4F55-A519-768C1364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BB25B-539C-49DE-A9DA-B505D6F0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00EAF-927B-4641-821D-D01C43C5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D7F8A-D33D-48CE-95C4-9A320243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DC949-B431-4D1D-BEFC-A6FFCD1D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A0191-18B8-4376-88E6-F2B847CB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7B957-B7D2-4DE0-8BDD-396C2C41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D42A3-1DAB-4366-87E3-A07A0835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48130-42F9-422C-ABA7-D1AAD22A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1A8AA-B2F4-4995-A6FA-3154B8D8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937F3-8EF5-482F-9A3C-D2C793A0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7FA00-7914-4F3F-A3E6-F8CDD013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1CA04-B33F-4C19-9875-DE5B1BA5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450B-D7B3-47A3-B520-B0C87128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1080-80EA-4FC4-B274-814E9248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CFD-4B04-4AC9-A455-FD62ACD3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83B-98FC-4EED-A123-90F230E5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62A9-446F-4BAD-B4AA-28857702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9762-5989-4874-807E-FA39C96D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63A8-9F83-4D85-A2B9-604D5D6A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8A22-FCAC-4554-9A41-44676F5D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D90F-E2AD-469A-B949-B2CEABAA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321-A64E-4328-887D-298FE61B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F61-F4C8-442E-AE71-06AA732F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6086-7082-4DBC-8007-09651C8A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7EB7-668C-461C-B02D-5F9C4C34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6F50-823E-4C8B-A458-1136DB3E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324A-27BB-42F8-A6F9-4C67C552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55E9-2CC5-47D1-A415-4D4F5AA8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8891-47EE-4E4F-92C1-3C433BE4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9786-5EEE-41AC-AE53-86992949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D175-75AD-4EC6-959E-29FEAADB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C4AC-DBFA-497D-B7E3-2B60A537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463D-8583-4255-976B-89D1469A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63E9-5406-4767-BBAB-A78A3DB1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02CA-5206-4084-8047-111D4900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30EB-70F6-4A84-A4FC-E7779E58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14BFE-F9A5-4583-A26E-C88F522B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150B-567B-4030-8520-37D7C4FE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D5723-D584-4017-ADAE-3BB3E524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D4445-C294-4FC9-B745-BE1597A3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B0DEB-F20C-455B-B4BE-3BF56DC1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E4DE9-63D3-4F31-B0EF-0AC380E2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F76D1-5AA4-4F77-BA19-A9C84769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B3682-4E69-4B30-94FA-F41B3993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E8685-1118-4877-989E-375D5510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E2256-CACA-43B0-A013-D0C00FFD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436B7-1AE8-40B5-9355-14515E86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7D10F-D746-421F-A021-84B910EF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E33AF-2C73-4B37-A789-97058BC0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3DCE1-0F0D-48C9-81C1-A3615BFD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D7E1D-39AC-44B9-9922-A7C46D4F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8909E-06D3-4E73-93AC-3660C7F7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4B386-2EE7-45E9-8352-D9DE7C12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B1706-8EA9-432A-B965-88BB5C52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5D9C5-184A-49D7-AEF8-7BA237C5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ADF18-EB35-4021-B9F8-ED4B29B6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811CB-23B1-42C0-B921-A495E982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96CDA-A7F7-44C7-A72D-A884FC3C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3F115-7759-4998-B09E-8A381C30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AF162-2ADF-43A1-9782-CB8925B1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F7878-7789-4EDE-8FA9-5DFFDA41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495AB-FDCE-4758-BBBD-2E7188E1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A52F9-1A95-413A-8C88-42A0B4CA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DDC18-B866-48C2-B2BB-93D577C2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1B728-0110-486D-9334-5CFD27F8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BB9B9-1941-4C79-8C58-EC4E951D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4F5FF-145F-43C2-86B3-E8E02EAE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A5E4B-4206-4A58-8A0B-11269545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8AF07-1DEF-4F76-B4E2-83FC7EDF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80B1E-DBFF-4797-AA6C-72B4B2A7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AEDE2-BD59-4670-84DE-895F3C94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9AFA9-FF94-4F84-879B-B0513603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183A5-3CAE-462C-A34A-6D434DF6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61507-D4BB-4B4D-9086-06CB553C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D28D9-3ABA-4D01-AF7F-E50C8733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2D000-C959-4EE9-8D21-910B7EE7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DFDEC-72C3-4A4F-B5CC-5AE2225C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FD3C6-760D-4089-A81E-970430F2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126A8-FEA3-4B12-B4BA-4007A782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21D68-85BC-4EFC-A0AE-67977312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D56D9-418C-44AC-8101-9D3BE433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30579-0063-4F74-A2FE-35BBEF8D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A81A4-26B2-4AE7-822B-B8E71BF5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571C9-D9CD-4082-BE9E-FF5A94E5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D2242-2A70-4FE0-BB5C-8362C90C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87A4A-B6C6-46BE-A9AA-A7752941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73517-9C96-4ED7-824D-81CB0E15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E492-5579-41E4-8E5A-591501EB9D7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F3A2-01A8-4DB6-8AA9-0E7FB0EB4CB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DE68-ECFC-47FD-ABF7-BCE19ED121BC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04EB-995A-4EF4-BA18-00B4E11970F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8DB8-3F49-4601-8661-2BE6478154B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E51E-9D4E-419E-A39C-6643E947BC5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7AA0-E9A5-4A73-8A47-DBE04B8734F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0D03-06CF-40CD-B3F7-1C02AE3AB75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F86A-C65E-40C7-9FF2-F61D4C6B8EF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FBE2-DDDE-4B49-ADAE-1D5BA801CBC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im environment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dumy entity to check whether sim engine is starte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2262240" y="2519280"/>
            <a:ext cx="46195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WaitForEntityCreation” and “WaitForServiceCrea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343080" y="2000160"/>
            <a:ext cx="8458200" cy="3772080"/>
          </a:xfrm>
          <a:prstGeom prst="rect">
            <a:avLst/>
          </a:prstGeom>
          <a:ln w="0">
            <a:noFill/>
          </a:ln>
        </p:spPr>
      </p:pic>
      <p:sp>
        <p:nvSpPr>
          <p:cNvPr id="478" name="자유형 5"/>
          <p:cNvSpPr/>
          <p:nvPr/>
        </p:nvSpPr>
        <p:spPr>
          <a:xfrm>
            <a:off x="2143080" y="4214880"/>
            <a:ext cx="1857600" cy="107136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아래쪽 화살표 6"/>
          <p:cNvSpPr/>
          <p:nvPr/>
        </p:nvSpPr>
        <p:spPr>
          <a:xfrm rot="16200000">
            <a:off x="178560" y="3893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splengin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CreateEntit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2" name="Picture 6" descr=""/>
          <p:cNvPicPr/>
          <p:nvPr/>
        </p:nvPicPr>
        <p:blipFill>
          <a:blip r:embed="rId1"/>
          <a:stretch/>
        </p:blipFill>
        <p:spPr>
          <a:xfrm>
            <a:off x="4000680" y="1571760"/>
            <a:ext cx="4809960" cy="4848120"/>
          </a:xfrm>
          <a:prstGeom prst="rect">
            <a:avLst/>
          </a:prstGeom>
          <a:ln w="0">
            <a:noFill/>
          </a:ln>
        </p:spPr>
      </p:pic>
      <p:sp>
        <p:nvSpPr>
          <p:cNvPr id="483" name="아래쪽 화살표 4"/>
          <p:cNvSpPr/>
          <p:nvPr/>
        </p:nvSpPr>
        <p:spPr>
          <a:xfrm rot="16200000">
            <a:off x="3464640" y="5607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reateEntity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933480" y="1828800"/>
            <a:ext cx="7277040" cy="4743360"/>
          </a:xfrm>
          <a:prstGeom prst="rect">
            <a:avLst/>
          </a:prstGeom>
          <a:ln w="0">
            <a:noFill/>
          </a:ln>
        </p:spPr>
      </p:pic>
      <p:sp>
        <p:nvSpPr>
          <p:cNvPr id="487" name="모서리가 둥근 직사각형 4"/>
          <p:cNvSpPr/>
          <p:nvPr/>
        </p:nvSpPr>
        <p:spPr>
          <a:xfrm>
            <a:off x="642960" y="2714760"/>
            <a:ext cx="8072280" cy="3286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6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4286160" cy="3686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2"/>
          <a:stretch/>
        </p:blipFill>
        <p:spPr>
          <a:xfrm>
            <a:off x="3714840" y="2714760"/>
            <a:ext cx="42861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아래쪽 화살표 5"/>
          <p:cNvSpPr/>
          <p:nvPr/>
        </p:nvSpPr>
        <p:spPr>
          <a:xfrm rot="16200000">
            <a:off x="392760" y="267840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1"/>
          <a:stretch/>
        </p:blipFill>
        <p:spPr>
          <a:xfrm>
            <a:off x="933480" y="1828800"/>
            <a:ext cx="72770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728640" y="2143080"/>
            <a:ext cx="63849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reateEntity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o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ange(1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0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NewEntit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i) 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Position: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.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\n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AddBoxShap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Dimensions: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Mass:0.1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plengine1.ExecuteScriptText(s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entity_creation.p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entity_creation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cript for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5" descr=""/>
          <p:cNvPicPr/>
          <p:nvPr/>
        </p:nvPicPr>
        <p:blipFill>
          <a:blip r:embed="rId1"/>
          <a:stretch/>
        </p:blipFill>
        <p:spPr>
          <a:xfrm>
            <a:off x="2181240" y="2862360"/>
            <a:ext cx="47815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ntity Creation in the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SPLEngine” comman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1"/>
          <a:stretch/>
        </p:blipFill>
        <p:spPr>
          <a:xfrm>
            <a:off x="685800" y="2147760"/>
            <a:ext cx="8172360" cy="3781440"/>
          </a:xfrm>
          <a:prstGeom prst="rect">
            <a:avLst/>
          </a:prstGeom>
          <a:ln w="0">
            <a:noFill/>
          </a:ln>
        </p:spPr>
      </p:pic>
      <p:sp>
        <p:nvSpPr>
          <p:cNvPr id="468" name="자유형 5"/>
          <p:cNvSpPr/>
          <p:nvPr/>
        </p:nvSpPr>
        <p:spPr>
          <a:xfrm flipV="1">
            <a:off x="1928880" y="3785400"/>
            <a:ext cx="3286080" cy="10717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-19800" y="407196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아래쪽 화살표 7"/>
          <p:cNvSpPr/>
          <p:nvPr/>
        </p:nvSpPr>
        <p:spPr>
          <a:xfrm rot="16200000">
            <a:off x="378720" y="4464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8"/>
          <p:cNvSpPr/>
          <p:nvPr/>
        </p:nvSpPr>
        <p:spPr>
          <a:xfrm rot="1502400">
            <a:off x="3036600" y="2816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30T05:00:48Z</dcterms:modified>
  <cp:revision>983</cp:revision>
  <dc:subject/>
  <dc:title>슬라이드 1</dc:title>
</cp:coreProperties>
</file>