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089F-498F-4C1F-BFDC-81BD394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E7BD-8D11-4588-BAE9-B958B9FB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D2EC-3CF9-4807-87CC-DB314C3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5C9F-3B2C-4C04-9BCF-10C18A0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DCC6F-868A-42C6-9553-5E4D0A8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E0B9-9E3F-4F24-8D1B-0C67FD6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63F7-9810-454F-B80C-A72ED9C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E1329-9E59-443E-ACA4-F734932C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D8CB-0B60-4D15-8F33-2F99E0ED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C8F7-D2F5-4FC9-BBE2-D230E84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53BE-AB64-4C97-871F-FF5DB67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82BF-D41D-41CD-90ED-68DB495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BBCC0-7BCB-4600-B92E-5B89D89B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F57BF-DCF7-4E6F-9FAA-2B1935A4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05196-22F6-480B-BFFD-4B233DC6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7BA3-938C-4102-B068-FADB929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CB1A-EDF6-49B7-8CB7-6585864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4928F-81E7-4069-A0BE-8EAB305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1466-1FDD-45D2-A4E0-83C6DF8B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994B-6D9B-4CE8-8111-2898FA86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F7264-D714-49A3-8CC8-276F0A5F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2490-62BC-4B4A-9CE9-F29461F8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F884E-387B-4DED-85CE-D351BA3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B756-4A7E-4B9C-ABD3-96E882D8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44DE8-EC9B-454A-8730-0D63A11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64571-D54E-4738-B0F9-CD74E95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E984B-D450-4BFD-A685-3D6AB036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66A2-8BC8-4116-9CAC-5B8EF27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78292-8EB0-4E7F-B501-2A6B9F0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CBD83-EC0D-4BDA-806B-9E413DD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13053-6516-4393-BF42-DB04F90A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E0ED-2490-4DA6-957F-F6541251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FE7C-894E-412E-8B54-51E82B2A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1E9-1835-4882-8ABF-DF0EFE37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AE3-5CA0-4437-AA11-6A14021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5C5-FC53-4AEE-9AD4-9E3861E4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B56-C35A-4E3F-A9F7-0DA0659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017-6E9D-42D0-A0F7-E0237BA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A55-BF55-44FA-AB27-2FCA4F5A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D03-DF16-485F-BC95-7CE1FC3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72D-C6BE-4BD9-8663-4F78680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B7B-2EF3-4AA3-A27B-906B4B9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ABF-85D2-483E-967E-A3FFB1C7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C8A-A31D-4549-AD3F-C90E5196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893-8D84-4CBF-A023-C08C08A7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507-D27D-4D34-AF06-D864D0ED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35C-6B65-4FD5-87F7-BE54B10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4CB8-F582-4C97-9A57-2D1F65A7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DDBC-14A7-4463-9441-578333D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0528-A24E-4EA6-A5DF-639310B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4BD1-EFB7-4832-AFDB-D64A5E9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4DB6-8F14-4D81-930E-AFB9FC8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5347-DFDD-4BE1-BB1B-7D8A8D6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28E-07E0-40B2-9EE2-EC158C5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C7BC-5A44-45BA-8233-CFE3C03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6B5E-AE13-4E2A-9E72-009E8045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2E04-5C6E-4B3F-90C0-AA835BBD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6E66-D64E-47C2-9B7C-27120626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7A15-7EA2-4018-B77F-E8B259F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9D40-5340-4783-8F62-5096B15C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27CA-4A82-48CB-B821-C8538278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97D2-9739-4E2D-BECD-700B5F4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1545-EBEB-45D9-935F-9C459181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49B0-F5CB-4986-9A32-639E267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6977-702A-4F8E-B9EF-D286F27F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5E81-3B72-4077-9173-0D7AF19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041E-CC3B-411B-A60B-4BC92117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7464-84FC-4D0C-9833-0CE5FE3F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5EF4-DE35-4F8F-B16F-B795FE8D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90A5-84A8-467E-B7DA-8425CDB3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1A90-9459-4996-A982-2D44524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4A21-DAA4-4554-B09E-76EC19E1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B6D2-816B-4964-A32B-1B52365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B959-67A2-4C4F-98A8-D8A5F26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460B-5EAF-407D-9333-7E375E7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4145-59A6-4637-A869-405BDE4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F71C-CD34-4CEF-AA58-014B4AC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7959-3722-4DC9-8115-8071837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44C3-1D76-491E-9A36-C2AE822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F4FEF-A583-4515-BD25-4D4099B8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99D9-DBF3-4545-AED6-A9288A48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5A3C-E2F0-4066-BD11-2B7B7DF2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D817-FA8F-4FCF-BCEB-16FFD0E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0754-311A-4F9D-B5F7-1F0A1054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7AE2-E707-445F-841D-18A0AE1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0E63-B244-433C-AD05-FFE8725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CF3F-1925-4176-AC5E-D5994155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0B1B-1829-425B-838C-DA48965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0072-1133-49E4-8163-CBAEE1A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EF16-BEAE-4CEA-96DF-960D295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CEF2-764C-458D-AE6A-7F3F351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F03F-FBB3-4C40-AAC6-B4151ABA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241E-124D-4472-9B99-C24D4911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B9E3-5F46-4871-A0BB-88A0031B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298BE-3AB4-4451-BADD-3554A87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91F3C-1878-4B91-8AF7-897A2B08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A518B-FCF3-45E1-8C05-030F5ABB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A4FF-80C2-418F-856E-2CA333A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1F0E-1983-4D0A-BE38-AD267A2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D1A2C-FA20-4D17-933D-C750D13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B6CF1-0DC7-4A9D-AFC5-05547DA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CD71-B7CE-4ED9-8D55-E518EF4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D310-4B94-45E1-92BA-F1FB605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002E-5C19-4367-A726-BAA3D66C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74FE-9B9C-4217-AA94-F92B79E1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D5C2-9930-4F0E-BD80-0358ED00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E6C74-EEFB-4C2C-9444-DFBB4AA1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6461-55A9-4081-862B-7A2ACDA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148-7BD6-493A-953D-02E4A5CED57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E82-3EC5-49CB-9F27-AE372E4B92B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1E19-EA61-4B11-B01D-C4CA1DED741D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771-457D-4F74-AB4F-E47D654932B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96C-EB84-47C8-8EC8-2C3D1E2F122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3495-8750-4311-AE5F-9D7C70A3C40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FF4E-DF0E-4C3B-8CEE-BF0AD66DBB5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F27-DBEF-439D-B818-19B4EF1EFC6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184-79A3-4751-A69F-5A3022DB65E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916-B619-420A-BEF1-DA8254F937C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ent2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JointControl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786200" y="1500120"/>
            <a:ext cx="3714840" cy="48801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16200000">
            <a:off x="4107600" y="5964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Control1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  <p:sp>
        <p:nvSpPr>
          <p:cNvPr id="475" name="모서리가 둥근 직사각형 4"/>
          <p:cNvSpPr/>
          <p:nvPr/>
        </p:nvSpPr>
        <p:spPr>
          <a:xfrm>
            <a:off x="3714840" y="2071800"/>
            <a:ext cx="5214960" cy="37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4286160" cy="3686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"/>
          <p:cNvPicPr/>
          <p:nvPr/>
        </p:nvPicPr>
        <p:blipFill>
          <a:blip r:embed="rId2"/>
          <a:stretch/>
        </p:blipFill>
        <p:spPr>
          <a:xfrm>
            <a:off x="4214880" y="27147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아래쪽 화살표 5"/>
          <p:cNvSpPr/>
          <p:nvPr/>
        </p:nvSpPr>
        <p:spPr>
          <a:xfrm rot="16200000">
            <a:off x="346464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383868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93200" y="1803240"/>
            <a:ext cx="37558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ointControl1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nt2.JointAngle(-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joint_simple.p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joint_simpl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basic script for the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4114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Joint Contro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cript for the joint sampl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2490840" y="1747800"/>
            <a:ext cx="416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30T04:39:32Z</dcterms:modified>
  <cp:revision>972</cp:revision>
  <dc:subject/>
  <dc:title>슬라이드 1</dc:title>
</cp:coreProperties>
</file>