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F2BEE-2F32-45B9-9D09-46ADAFA0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F5CF4-576C-4892-A68D-F69C8D8C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9775-FE95-4981-B03A-CACD44B4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58A5-F86C-46D8-8389-36F71613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76A63-B350-46ED-A299-EC4A718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6AF3-DFD0-427D-80AA-7A388D2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96CE6-CD38-4D03-B5C5-6877E648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B628-1112-47F4-A4FE-812D5366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CE5BC-B948-462F-B05B-C8009C0A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6E78B-F8B7-44FB-BBA1-9727543E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E0C0D-85BE-4B07-9124-62EBC0DF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A64B2-2BA7-4E97-9DD1-2163E754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4B4F7-8129-4AB2-97D9-7CF2823E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523AB-5A7B-4C6D-81F2-05E3D893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007C2-7BC6-4DD5-A1C8-1405D6FC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17E23-DB43-4074-99A0-31FF3DF2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5C96D-5094-4D4C-8094-4AB61F2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AC268-D1A6-4A88-9947-D58ABBBD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8576D-A5CB-4059-AE4A-1CB12455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0C4AD-876A-476B-ABAE-A2FAED46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DEABB-839D-42A8-B883-11535F9C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3B443-9F45-4BB6-94FE-B3AEA94A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427C3-A238-4BFF-829D-76129064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ED86C-C2DE-495D-8E1A-D51824CC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83E66-0297-4BFE-90B3-6DA9D5A6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6F709-2463-45B8-9C01-D0702FE4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ED2C1-0B51-45E8-AF56-D8056E04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6127E-0182-40DF-8FBA-15D98470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977CE-A51E-4B0F-A97A-BB2844C9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305A3-4005-478F-95EB-9BAECDEE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5CB7F-7895-4E7E-8888-C5A2B115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AD6F1-8E41-4B0B-9428-92CC5CE3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02594-61E2-4964-B965-52D68A48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D8C-EA1D-47D1-B378-B9163630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F7C-5C8F-4588-9900-77C6FE2B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696-E844-4EA2-B77A-D40B0C81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768-0269-4565-8926-1718A23B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A01-97A3-4F52-BDDB-FD8F3577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DBB-EE9F-4BCF-9602-C7E4EB80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387-3C25-46E6-A7FD-787738F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180-B0F8-4148-AC0F-E4EB10B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05B-CD05-4004-8E63-EC77C20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57C-61B0-407F-8E59-836AA2D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B60-78DA-4571-93B7-7A68BC4B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A4A-DD9D-4118-A6E6-CC912652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E157-BF54-4D7D-B950-473B05D8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AD52-E7E1-4AB3-AF0F-E33DC233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CFEC-AB00-4266-A240-96025A34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2A2A-3676-495B-A11A-B0A1FAD0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E56C-DC09-42F9-89B9-24FE2008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A5B9-DB3D-44B3-B299-8332A59C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ECFA-D7BC-46BB-BF3A-191B824E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002E-020C-4156-96EF-A67404F8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89B7-DDC3-472D-B0EE-A0E9E7C9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7A14-10E3-4CB5-A14C-66AB353D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3338-FA50-4C31-8593-70C440FE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537C-6963-4487-9009-80D25411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B517-E96B-4608-BB47-31EBDD24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C5CD-C845-43AA-8154-8FD74D18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E6C5-2942-46B2-BE27-E39DBF6C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9B36-1B49-43F3-8D5D-54CE599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0B97-A107-49A9-9DDB-080F6BEB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2047-A26B-4CB8-9905-347D1F9B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84E1-BBC8-4E9B-BD6C-FCC76692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C6021-26F3-42A5-AD64-2B7AF7A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6A3BB-A3B9-421D-BCD6-C88C2567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E1BF-58EF-4F87-A6B6-427D7B89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1D4C-3FCE-4F22-BB46-73738596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701E-FF5E-42B6-A876-AA117967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EC7A-F3DB-4AAC-90C4-53D22CF0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2D8F-B42D-42CA-BDC1-F4C3B184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1730-5325-4F90-9E37-E78E6EF2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4A274-CAE1-412D-8857-6B474D00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B466-E6D5-4768-AD50-5D21D397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0F70-71AF-4E26-9232-2F57F9A0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7EED-2966-4503-85E8-BBC30568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F89B-9F02-42D0-A32C-D1E6010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DD865-7815-4834-9F54-0A07DA20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C17C5-4ED9-4650-A1ED-7EBB83B7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5A80-8AF3-44EB-AE5F-3947C003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57B3F-9EB4-439D-8C95-7792958A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7039-5DDC-4ACE-999C-FEC9557B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E0799-E8E2-4DA5-8C3C-D898F5C7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B467-A53A-49EE-A086-F0274359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882C4-6111-47FD-AFB2-989C5209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91529-6122-457D-B405-EC6C6C42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0886F-9EED-4180-854C-3A3E4B19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4FD0-294C-4A34-BBBF-662F046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15DFD-4EFF-417D-956F-AA820867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D558-90AF-4E5A-805F-33C8AB05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A6F7-0F19-40FE-98A6-0E6E2A09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89F66-82D0-4957-82E6-947CBB1F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C53A-3D24-4A9F-A256-69137A8D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10283-B3C5-470F-97FF-7171F456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91947-BC83-4202-9E6E-DB414B8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35C68-694D-45D5-914D-91D50068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2727B-1631-47FE-8498-F7DD3366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3E697-EDA1-41D5-BFB0-BF02FBD3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4249C-F347-40FD-80FA-79658DDB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D4C91-1A4F-4198-92C8-44FB4C43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DA839-ADFF-40A1-B4C6-E1A723D0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411A-E67D-4919-9717-66A88421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4B51F-9747-457F-9CEC-3DB36C75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1B99-89A3-4269-862F-30D43F97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7F558-0B79-4882-9F80-477CF408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4CF0D-BE5A-464E-A0B4-A16022CE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A55A1-FDDE-4564-A1AF-0164890A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CA920-FAFC-4B14-BF16-5DB8A3C9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7A92-E724-4A4E-A218-317E46210A7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3C60-19AD-49AF-A7A0-3897FCB045E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6906-8633-421F-8A34-B2471202A44E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AA0F-01DD-48B0-8BD7-77F1B25A2A4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105E-AE20-4E17-87EC-DEB157DAA6A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FB80-6814-4014-B3BE-A1A7D5CC563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B2A-5FA6-49D2-9B38-2E70F1C5682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E05F-C0D8-489A-9BD8-D1946867CDE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DA6-1EE8-43EC-AF28-C781A527B0A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84C4-95EE-4469-B26D-21106AF7708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 with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04" name="아래쪽 화살표 5"/>
          <p:cNvSpPr/>
          <p:nvPr/>
        </p:nvSpPr>
        <p:spPr>
          <a:xfrm rot="16200000">
            <a:off x="210744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2281320" y="1928880"/>
            <a:ext cx="4374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zeExplorer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355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27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) o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-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50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3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0.1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maz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maz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2496960" y="1857240"/>
            <a:ext cx="3646800" cy="4719600"/>
          </a:xfrm>
          <a:prstGeom prst="rect">
            <a:avLst/>
          </a:prstGeom>
          <a:ln w="0">
            <a:noFill/>
          </a:ln>
        </p:spPr>
      </p:pic>
      <p:sp>
        <p:nvSpPr>
          <p:cNvPr id="514" name="아래쪽 화살표 5"/>
          <p:cNvSpPr/>
          <p:nvPr/>
        </p:nvSpPr>
        <p:spPr>
          <a:xfrm rot="16200000">
            <a:off x="1893240" y="546480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아래쪽 화살표 6"/>
          <p:cNvSpPr/>
          <p:nvPr/>
        </p:nvSpPr>
        <p:spPr>
          <a:xfrm rot="5400000">
            <a:off x="5822280" y="48218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아래쪽 화살표 8"/>
          <p:cNvSpPr/>
          <p:nvPr/>
        </p:nvSpPr>
        <p:spPr>
          <a:xfrm rot="5400000">
            <a:off x="6107760" y="2107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MazeExplorer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4714920" y="928800"/>
            <a:ext cx="3071880" cy="5786280"/>
          </a:xfrm>
          <a:prstGeom prst="rect">
            <a:avLst/>
          </a:prstGeom>
          <a:ln w="0">
            <a:noFill/>
          </a:ln>
        </p:spPr>
      </p:pic>
      <p:sp>
        <p:nvSpPr>
          <p:cNvPr id="520" name="아래쪽 화살표 8"/>
          <p:cNvSpPr/>
          <p:nvPr/>
        </p:nvSpPr>
        <p:spPr>
          <a:xfrm rot="16200000">
            <a:off x="446472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Explorer()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4514760" cy="4971960"/>
          </a:xfrm>
          <a:prstGeom prst="rect">
            <a:avLst/>
          </a:prstGeom>
          <a:ln w="0">
            <a:noFill/>
          </a:ln>
        </p:spPr>
      </p:pic>
      <p:sp>
        <p:nvSpPr>
          <p:cNvPr id="524" name="모서리가 둥근 직사각형 4"/>
          <p:cNvSpPr/>
          <p:nvPr/>
        </p:nvSpPr>
        <p:spPr>
          <a:xfrm>
            <a:off x="1857240" y="2428920"/>
            <a:ext cx="6072480" cy="3500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2500200" y="207180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857680" y="2238480"/>
            <a:ext cx="3143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Maze Explore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357280" y="2028960"/>
            <a:ext cx="4286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neral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olution for the Maze Miss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o along the left wall or righ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4" name="직사각형 3"/>
          <p:cNvSpPr/>
          <p:nvPr/>
        </p:nvSpPr>
        <p:spPr>
          <a:xfrm>
            <a:off x="2786040" y="2500200"/>
            <a:ext cx="3571920" cy="3143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직선 연결선 5"/>
          <p:cNvSpPr/>
          <p:nvPr/>
        </p:nvSpPr>
        <p:spPr>
          <a:xfrm>
            <a:off x="2786040" y="3929040"/>
            <a:ext cx="1000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직선 연결선 6"/>
          <p:cNvSpPr/>
          <p:nvPr/>
        </p:nvSpPr>
        <p:spPr>
          <a:xfrm>
            <a:off x="5000760" y="2500200"/>
            <a:ext cx="0" cy="7146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직선 연결선 10"/>
          <p:cNvSpPr/>
          <p:nvPr/>
        </p:nvSpPr>
        <p:spPr>
          <a:xfrm flipH="1">
            <a:off x="5643720" y="4429080"/>
            <a:ext cx="7142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직선 연결선 13"/>
          <p:cNvSpPr/>
          <p:nvPr/>
        </p:nvSpPr>
        <p:spPr>
          <a:xfrm flipV="1">
            <a:off x="4500720" y="5143680"/>
            <a:ext cx="0" cy="490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직선 연결선 16"/>
          <p:cNvSpPr/>
          <p:nvPr/>
        </p:nvSpPr>
        <p:spPr>
          <a:xfrm>
            <a:off x="3071880" y="428616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직선 연결선 17"/>
          <p:cNvSpPr/>
          <p:nvPr/>
        </p:nvSpPr>
        <p:spPr>
          <a:xfrm>
            <a:off x="3071880" y="278604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직선 연결선 18"/>
          <p:cNvSpPr/>
          <p:nvPr/>
        </p:nvSpPr>
        <p:spPr>
          <a:xfrm flipH="1">
            <a:off x="3214800" y="4071960"/>
            <a:ext cx="49032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선 연결선 20"/>
          <p:cNvSpPr/>
          <p:nvPr/>
        </p:nvSpPr>
        <p:spPr>
          <a:xfrm flipH="1">
            <a:off x="3642840" y="2642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선 연결선 21"/>
          <p:cNvSpPr/>
          <p:nvPr/>
        </p:nvSpPr>
        <p:spPr>
          <a:xfrm flipH="1">
            <a:off x="3223800" y="3704400"/>
            <a:ext cx="490680" cy="9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직선 연결선 22"/>
          <p:cNvSpPr/>
          <p:nvPr/>
        </p:nvSpPr>
        <p:spPr>
          <a:xfrm flipH="1">
            <a:off x="3928680" y="3786120"/>
            <a:ext cx="9720" cy="2761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선 연결선 24"/>
          <p:cNvSpPr/>
          <p:nvPr/>
        </p:nvSpPr>
        <p:spPr>
          <a:xfrm>
            <a:off x="478620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직선 연결선 25"/>
          <p:cNvSpPr/>
          <p:nvPr/>
        </p:nvSpPr>
        <p:spPr>
          <a:xfrm>
            <a:off x="5214960" y="2643120"/>
            <a:ext cx="0" cy="71460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직선 연결선 26"/>
          <p:cNvSpPr/>
          <p:nvPr/>
        </p:nvSpPr>
        <p:spPr>
          <a:xfrm flipH="1" flipV="1">
            <a:off x="4929120" y="3490920"/>
            <a:ext cx="214560" cy="9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distances against for the left side wall and front wa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직사각형 3"/>
          <p:cNvSpPr/>
          <p:nvPr/>
        </p:nvSpPr>
        <p:spPr>
          <a:xfrm>
            <a:off x="2571840" y="2643120"/>
            <a:ext cx="142920" cy="292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직사각형 4"/>
          <p:cNvSpPr/>
          <p:nvPr/>
        </p:nvSpPr>
        <p:spPr>
          <a:xfrm>
            <a:off x="2786040" y="2357280"/>
            <a:ext cx="3276720" cy="20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모서리가 둥근 직사각형 5"/>
          <p:cNvSpPr/>
          <p:nvPr/>
        </p:nvSpPr>
        <p:spPr>
          <a:xfrm>
            <a:off x="4429080" y="4165560"/>
            <a:ext cx="714600" cy="1143000"/>
          </a:xfrm>
          <a:custGeom>
            <a:avLst/>
            <a:gdLst>
              <a:gd name="textAreaLeft" fmla="*/ 34560 w 714600"/>
              <a:gd name="textAreaRight" fmla="*/ 680040 w 714600"/>
              <a:gd name="textAreaTop" fmla="*/ 34560 h 1143000"/>
              <a:gd name="textAreaBottom" fmla="*/ 1108440 h 1143000"/>
            </a:gdLst>
            <a:ahLst/>
            <a:rect l="textAreaLeft" t="textAreaTop" r="textAreaRight" b="textAreaBottom"/>
            <a:pathLst>
              <a:path w="21600" h="34543">
                <a:moveTo>
                  <a:pt x="3600" y="0"/>
                </a:moveTo>
                <a:arcTo wR="3600" hR="3600" stAng="16200000" swAng="-5400000"/>
                <a:lnTo>
                  <a:pt x="0" y="30943"/>
                </a:lnTo>
                <a:arcTo wR="3600" hR="3600" stAng="10800000" swAng="-5400000"/>
                <a:lnTo>
                  <a:pt x="18000" y="34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73" name="직선 화살표 연결선 9"/>
          <p:cNvCxnSpPr/>
          <p:nvPr/>
        </p:nvCxnSpPr>
        <p:spPr>
          <a:xfrm flipH="1" flipV="1">
            <a:off x="4071600" y="4451040"/>
            <a:ext cx="357840" cy="21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4" name="직선 화살표 연결선 10"/>
          <p:cNvCxnSpPr/>
          <p:nvPr/>
        </p:nvCxnSpPr>
        <p:spPr>
          <a:xfrm flipH="1" flipV="1">
            <a:off x="4785480" y="3521880"/>
            <a:ext cx="10440" cy="65484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475" name="직선 화살표 연결선 12"/>
          <p:cNvCxnSpPr/>
          <p:nvPr/>
        </p:nvCxnSpPr>
        <p:spPr>
          <a:xfrm flipH="1" flipV="1">
            <a:off x="4123800" y="3858840"/>
            <a:ext cx="377280" cy="37872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76" name="TextBox 15"/>
          <p:cNvSpPr/>
          <p:nvPr/>
        </p:nvSpPr>
        <p:spPr>
          <a:xfrm>
            <a:off x="1922040" y="38577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4136760" y="18572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4860000" y="3000240"/>
            <a:ext cx="18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3143160" y="342756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7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3214800" y="4308480"/>
            <a:ext cx="12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자유형 20"/>
          <p:cNvSpPr/>
          <p:nvPr/>
        </p:nvSpPr>
        <p:spPr>
          <a:xfrm rot="17992800">
            <a:off x="5831280" y="4331520"/>
            <a:ext cx="1052640" cy="5493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TextBox 21"/>
          <p:cNvSpPr/>
          <p:nvPr/>
        </p:nvSpPr>
        <p:spPr>
          <a:xfrm>
            <a:off x="6252840" y="457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righ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urn right slightly (about 30 degrees) for the left and front wall detec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10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2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5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less than 200 millimeter, turn right 30 degrees (-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직사각형 3"/>
          <p:cNvSpPr/>
          <p:nvPr/>
        </p:nvSpPr>
        <p:spPr>
          <a:xfrm>
            <a:off x="3071880" y="2428920"/>
            <a:ext cx="21420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직사각형 4"/>
          <p:cNvSpPr/>
          <p:nvPr/>
        </p:nvSpPr>
        <p:spPr>
          <a:xfrm>
            <a:off x="3286080" y="3786120"/>
            <a:ext cx="135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모서리가 둥근 직사각형 5"/>
          <p:cNvSpPr/>
          <p:nvPr/>
        </p:nvSpPr>
        <p:spPr>
          <a:xfrm>
            <a:off x="4214880" y="428616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90" name="직선 화살표 연결선 9"/>
          <p:cNvCxnSpPr/>
          <p:nvPr/>
        </p:nvCxnSpPr>
        <p:spPr>
          <a:xfrm flipV="1">
            <a:off x="5285160" y="3357360"/>
            <a:ext cx="2520" cy="93096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491" name="TextBox 15"/>
          <p:cNvSpPr/>
          <p:nvPr/>
        </p:nvSpPr>
        <p:spPr>
          <a:xfrm>
            <a:off x="2257200" y="371484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TextBox 19"/>
          <p:cNvSpPr/>
          <p:nvPr/>
        </p:nvSpPr>
        <p:spPr>
          <a:xfrm>
            <a:off x="5429160" y="3191040"/>
            <a:ext cx="12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5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자유형 20"/>
          <p:cNvSpPr/>
          <p:nvPr/>
        </p:nvSpPr>
        <p:spPr>
          <a:xfrm flipV="1" rot="14829000">
            <a:off x="5729040" y="2601720"/>
            <a:ext cx="801720" cy="408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c0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TextBox 21"/>
          <p:cNvSpPr/>
          <p:nvPr/>
        </p:nvSpPr>
        <p:spPr>
          <a:xfrm>
            <a:off x="6157800" y="2000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urn left 30 degre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 open space on the left sid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f 3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맑은 고딕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distance of LRF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is greater than 1500 millimeter, turn left 30 degrees (30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neral solution for the Maze Miss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seudo code for Maze Mis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781360" y="1928880"/>
            <a:ext cx="358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41:59Z</dcterms:modified>
  <cp:revision>976</cp:revision>
  <dc:subject/>
  <dc:title>슬라이드 1</dc:title>
</cp:coreProperties>
</file>