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D167A-B472-4499-8C02-5DDB34B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4B2D3-41D5-4765-9866-04CF443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1128-FD01-4859-A08C-AD109A3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248A-4918-4153-9401-4C7C47C2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802AC-C722-4FF0-8952-FEDE480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8CAA-71D5-4C44-A1A9-F48B506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94345-C5AE-49AB-9FAC-E9224C80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26CB-208C-45F7-B1CC-05F2B4E5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C63A-D7F5-4D42-8AE9-82F7CA48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9570-7FB5-490B-BDF4-074DF5D0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B17B5-5EDB-436D-865E-199D959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C63A1-F948-4281-9D74-1246057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54DEA-A79E-43D8-A29D-B83CB78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1C88A-7A87-40E4-8080-84CE2CA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34D23-A457-4B5F-8E9E-34720E10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E55B-B532-4497-8F85-099EE8F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AEA2-4371-4074-BCB6-AB0CBF1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FC7FC-BC48-4D89-8260-3A5B9B9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AF58F-1EB5-4E3E-A488-B749AB69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D17B4-E696-4179-9419-BA21381D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F6D4-143C-44EE-BF6F-4B1329D9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D9F08-78AB-4887-B2DF-40CEB964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5020-EADC-4F9C-ACDD-44E7CD0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31F5-4AB0-4E03-A45E-C07F886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BF6ED-9C66-4F38-B174-74B486A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A597D-DA1A-405D-B3D3-BBCDEE55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86B45-B77E-484C-B7A7-8F2B0AF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5241D-7F05-4372-B703-E400E8C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C4A06-7D7B-41A4-8654-9DBF355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B20A0-DDB1-4FB8-B834-FF33C6B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28B8C-17BA-415F-9FE3-88E5A5CC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2138B-A395-4B40-9FD0-1A56291C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525B-A3A1-490D-B738-A32A279D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452-7C56-420C-9B38-69A27997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B05-DC36-4F11-BDF2-439A2527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761-81A1-49FD-B392-C81E4BA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BA6-E05E-437E-95D1-3561F787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6F7-227B-4FB8-A5E3-00F8140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D9C-A91A-46B2-81F6-405A93B4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3E5-509B-40AD-BF34-D087D50B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AC0-916D-4B06-A0C3-ABF6CC11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693-2B07-47BC-9576-C1DA970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6E3-D1F7-4E9A-9FB2-E21CBFAB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73C-0920-42C5-8B28-C79E24B4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71C-696E-4F1D-847E-10BBC24B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9485-DAE3-4C47-91CC-68B02536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340B-6C68-4AA1-A2A9-AE489F7D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889-348F-4E1E-B418-32F295F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0971-B510-4F67-9B24-6AE4DA36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CA26-2E13-404A-AFF0-B8FCC16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716-79E2-4DBC-A63C-4C870D6B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F586-1DE5-4140-9A01-20959DF0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62A7-05A5-441E-8905-BE2ADEA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6D91-2A03-4E3F-8EB9-22BE73AA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87CE-58A5-4345-8B13-CE1382DA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5E6-AB2B-4243-B701-71B988A2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ACBC-F614-417B-A04D-F82BD55E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D173-3E2A-437E-A863-564A99F9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9740-DEF0-4CE4-A158-08778FE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0346-8E7A-45E1-A0DB-E10B680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6D2D-28F4-4C30-AE9C-E526C9A6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B416-B4FE-4300-BA59-79451D9E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28C5-48C1-4C8B-A66A-1EA3A0B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CCEC-9317-4AD4-91DC-5EE8ADA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54D2-96E9-4F73-B3F3-5ACF315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D37B-3D15-4482-A731-D34AB3E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FD6B-D9F4-43E1-B07D-08F4A54D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DEAE-58E4-4674-9ABB-4713EE74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703E-6CFD-482B-806D-0166B91D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20F4-162D-4833-96A2-6409FD8C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CD4C-BBB8-4182-8316-87F2BB97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4006-1EE2-4F4F-A199-F086354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5F23-9EB3-40D5-94EF-E8F2C585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8555-C7D0-4206-AD8F-B3127A7D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7BB8-445F-4E5B-9B18-B683F645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A861-27D4-46DA-8022-9932294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5425-8D1E-4658-8ACC-FF6E0F8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15FB-C0E7-4CA5-AEC5-89B8764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4BCE-9789-4008-9DFE-359F6C5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2702-0F92-45A6-9DC2-F5AC1309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DE1C-7C0B-4FFD-8324-39FE5A1D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88753-A96A-4ECF-BDA2-64A23C0D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3913-E7A3-4E4E-8321-DD0FC2F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688C-41E8-423E-BCA5-7BA59257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5128-E2FB-4ED5-AB32-8E1E8B5C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34BC5-F544-45CF-9020-FE5D17C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04D6-3D68-4070-A579-4503C059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5BAC-B0CC-479A-80C8-8E57037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F2AD-3239-466F-94DE-D40F41DD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473BB-F085-4F93-90F6-81A951C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70F0F-A445-4E3F-A95C-73169CA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39AF-F791-45C7-89A0-E62BCE96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56B8-FE64-4100-A861-D0F85FB6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BB1AA-6BBA-423B-A71A-FA7E92CD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EFE5-ACE5-40E2-B518-26844A91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E7B9-3B0B-42D8-B289-E8961DF8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4900-C4EA-463B-BE97-37E5F912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DF70-F7D1-4A1C-A8CE-B62C6A0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6D6CA-B96C-4A2C-99BF-E91914B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2615-9E0C-41F9-8DEE-7BC871A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C94CB-8DDB-48A3-A9FA-64B6E3F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02511-3029-40FE-8A53-C567F27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0B18-9D5A-4C70-8630-69A5DB08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EF4D-9485-46D4-AF46-907DE79A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CF67F-6D75-4155-AE23-2FAB9F03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E710-FDF6-4F17-88F6-95382F92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361F-D18A-4022-9887-F6B26EBB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E2A08-7306-49BA-B4D7-082B10C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8D30-EA23-4F8D-B6EB-DA6A6488E71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DE19-3836-431D-9C33-A49C1C5B84F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9C5B-912C-43C1-8765-F8CBF295109D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85E4-2317-4890-8FB2-0B7B67ADB60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6C68-CBAA-483B-8262-305C3B6834F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4562-3D9F-4FD9-AD07-0B2E90391B4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D62-9F24-4AC7-83B0-9E1CBAF4414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D14-437F-4A87-A281-E8F3E76267A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15F1-BC43-4B31-9360-AF31E206735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6BBD-D1AA-4E22-B9F3-78D43B520263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352760" cy="51433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19645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4622760" y="1143000"/>
            <a:ext cx="3740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모서리가 둥근 직사각형 4"/>
          <p:cNvSpPr/>
          <p:nvPr/>
        </p:nvSpPr>
        <p:spPr>
          <a:xfrm>
            <a:off x="2857680" y="1928880"/>
            <a:ext cx="607212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Bumper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713120" y="1071720"/>
            <a:ext cx="3787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Event(bumper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57192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94" name="모서리가 둥근 직사각형 4"/>
          <p:cNvSpPr/>
          <p:nvPr/>
        </p:nvSpPr>
        <p:spPr>
          <a:xfrm>
            <a:off x="2857680" y="3429000"/>
            <a:ext cx="6072120" cy="25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28920" y="21002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d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mper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5324400" cy="54864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5"/>
          <p:cNvSpPr/>
          <p:nvPr/>
        </p:nvSpPr>
        <p:spPr>
          <a:xfrm rot="16200000">
            <a:off x="2750400" y="18925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6"/>
          <p:cNvSpPr/>
          <p:nvPr/>
        </p:nvSpPr>
        <p:spPr>
          <a:xfrm rot="16200000">
            <a:off x="2750400" y="3250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227320" y="1803240"/>
            <a:ext cx="5325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Presse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umper.HardwareIdentifi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Na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 ' / ' + p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EventReaction(bumper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Pressed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.HardwareIdentifi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Front bumper was 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-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ea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umper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a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uch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bumper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bumper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Add “/Procedure_SensorNotify:proc2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"/>
          <a:stretch/>
        </p:blipFill>
        <p:spPr>
          <a:xfrm>
            <a:off x="2228760" y="2205000"/>
            <a:ext cx="4486320" cy="415296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764360" y="5883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아래쪽 화살표 6"/>
          <p:cNvSpPr/>
          <p:nvPr/>
        </p:nvSpPr>
        <p:spPr>
          <a:xfrm rot="5400000">
            <a:off x="5979240" y="4955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Bumper Sensor Dete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2352600" y="1833480"/>
            <a:ext cx="4438800" cy="466740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29:34Z</dcterms:modified>
  <cp:revision>966</cp:revision>
  <dc:subject/>
  <dc:title>슬라이드 1</dc:title>
</cp:coreProperties>
</file>