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678EF-8918-4A77-93F7-7E310AF1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D771B-7424-4C57-B30F-F27BCD41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EAAEE-9B58-4232-988D-CC1C4BBC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9B6F6-E3CC-4D90-96B6-035F653E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1D06C-ABF7-4A11-BC2E-EB6335D6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3C6C0-3149-4BFC-BDE2-66043185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BFD2F-EA61-429E-91E1-3D90067E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00E8A-DDE0-4545-9930-2F95C561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A980F-ABD6-4DED-8D02-C34E7296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446CB-73AF-46BC-B1EF-A62E3307A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1AF59-9419-44F9-ABF9-F3E39B0D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8E58D-55C0-4641-881B-C02BEE14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434E8-E256-4600-995B-A7D89E98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2A25F-9A29-4478-AE0A-C49FD5B5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DC267-D783-4C5F-9FB9-002A7FEF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25542-45C6-4FD7-9A97-028CD704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EB541-A8E8-4DED-BA94-311397C8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FC26C-69E0-46B8-9068-2A2C2148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6BD0F-8903-4812-9417-DF8E0D8D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82AB4-E3DD-4267-833C-B07D57FC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246F9-B811-429D-AA5B-575F5A6F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04EE0-6294-40E6-9456-08417401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EC2BE-60FA-4A6A-AE24-75BA067B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B5390-DCFB-4140-93B3-B27F34B7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700C5-16C7-4FEF-8A33-8ADCAC1F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7C229-2F3B-4600-B6BA-85399B5D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12CCC-2481-4557-A243-0C31644E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4A40F-961E-4661-BBEB-4AB25DD9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2AF1C-9766-41E5-9D0B-CB8F865E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FBE72-5298-437D-B207-DA60CA7A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373BB-14BE-40DE-BF3D-98C4B8D6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81D63-63EA-4808-959C-03CD70BE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73051-80C7-4D68-A49D-4392D8DC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D5A0-6B85-434D-A247-95D51492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8018-D01A-40C5-AFAB-FBBD0A3C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6A96-C567-4EE7-8E54-DF983654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D000-988F-4F79-8182-9B152B93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D27-F395-4B5D-B5DE-C0CFB4F6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AAEA-53B9-4B3E-8DB4-9EC8E964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EF3E-E7F1-496A-81BE-29C0ADC8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5126-E4DA-429A-9E23-B148F1E3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79DD-E0D5-4F95-AAD9-C9503F99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1256-EE09-4870-B951-6E07F2D6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7D86-D1EF-406F-9657-77DD0CCD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6F4F-4DEE-4386-A981-89CD60CB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739C-45E5-4E6B-BBAA-FDDD022D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E771-18F4-498A-829C-B62DAD30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2CD3-E1EB-474E-8B6E-CB61DC39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5BFD-FA91-4AE6-B0FA-1E73036B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6AE8-51B9-44BB-A0B6-A296619E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36F2-5F8C-4F56-A140-8CA7386F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F6F2-50C8-4835-A597-16504532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5965-3B7F-404D-83A7-E0C26E57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0A00-2966-4E76-BBC4-6D4102B0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D5B1-65F0-46D0-825B-3C213B81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E00B-DCEF-42A4-8277-AA07CCBB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0108-15A8-42E9-9F94-53433DB9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257A0-09BF-4C6B-9ACF-567F3BDB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1B4BF-4F5C-4454-B565-EAFD4BD9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0AA75-02EB-427E-8C1F-73B760D8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AC225-999B-4EC5-B706-2E71FB01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3E7F1-A132-49E9-B0EB-014167E9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C2F6B-E0F3-4D97-84DC-183E498B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6D0E1-D570-4EA4-9732-E26F05C4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6B51E-0333-4970-B6DF-7D338D4B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2EDDC-7612-4C3F-A02B-1B8533CF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04B79-20DF-4675-8272-E4217A54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66F40-6808-4010-8856-39ECB72F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DF205-33FE-40CE-8063-A0FD01D6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2D9EF-B34A-4856-9219-B54CAFCC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8F096-5C18-44E2-8940-BA981D61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6DDB9-3E29-48AB-B098-CA8BA96E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3644B-F90B-45D8-AAA3-CD7F9EBC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AC2D5-6C1A-4146-AAE5-0B4D4820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B198B-566C-49AF-8C48-3653E7BA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E6ED0-E0BB-4110-AF02-65B7B937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30995-7B64-40DA-84B4-C3C177F2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A72C5-BB85-453D-9BB5-36C26F50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35E3D-DB86-4A79-BC89-9C2894CD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47444-55EF-482B-B0D1-8A4D7EB5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3D9C4-AE58-4B33-A84E-C8790697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400F8-9465-48DE-9BB8-E0165C62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7841B-39EE-466E-88A6-8D2DA40C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08F9F-7113-4F1F-82BE-7240E329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7834C-691D-4253-A222-F20A26FC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DFF55-6F9F-4B95-9423-F0CDF5B6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F74BE-545E-4AED-8E06-8804056B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A6A16-193D-4B7D-9CEB-7CD37F70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99792-39F8-4C26-BFC2-8283E300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399D1-1706-4D26-9B26-717BA4EA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B1FEE-B9AF-4C44-9E68-1C7E7E3D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866D4-681E-46A4-9D29-71DAF1DC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72771-8AF1-4BCB-813E-6FDAA8F3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D5FCB-0D1B-4A39-A863-0E8ED8B0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94F2A-B4BF-461B-B63C-65C11635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64E13-F354-4BD1-9A14-36F97CEB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B566B-2030-4FEF-80DD-20D9F8EC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00FB3-3631-4A09-BF6F-4E27466B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CF98D-419C-49FF-92DE-8081FAB2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72382-3155-4CD1-8D1D-715F9EB4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859D2-F409-47F3-BD49-5DA34880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D4290-F2DF-477C-BC09-26F79FBB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F3245-4BD9-4FF6-B12A-2B3A7A4F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F004E-8560-46F4-88D3-ABB648C4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6CF55-D69C-4AFB-AA84-2D0F7C87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CFD86-053C-4446-85A8-12150878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A872F-6A32-475F-A1B2-3C5783EC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DDF32-86DD-4536-9B1A-E4B4E83A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7550-E5A4-49F7-BB2A-0809E31714E9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332C-7FB0-4D7C-B4FA-06616D1D2C9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0ACA-FE96-446D-8C0B-F4E813F36FB4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E761-633D-40DB-AAEA-3F31CDD2D11F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1407-DA0C-44E6-8E2A-830A48FEB87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125B-9199-4264-B6C8-0B72331615EE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813E-A691-4709-805F-1BE6C1688B65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04E8-C0C7-4965-8832-7434E6C0B26F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5D90-F9EF-43EC-8FF4-94855BC74B7E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8505-EB0D-4117-AD08-9C23F4A432B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ake a robot mov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2428920" y="1738440"/>
            <a:ext cx="4271760" cy="4905360"/>
          </a:xfrm>
          <a:prstGeom prst="rect">
            <a:avLst/>
          </a:prstGeom>
          <a:ln w="0">
            <a:noFill/>
          </a:ln>
        </p:spPr>
      </p:pic>
      <p:sp>
        <p:nvSpPr>
          <p:cNvPr id="474" name="아래쪽 화살표 4"/>
          <p:cNvSpPr/>
          <p:nvPr/>
        </p:nvSpPr>
        <p:spPr>
          <a:xfrm rot="16200000">
            <a:off x="1750320" y="61794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Procedure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LRFEventReaction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4714920" y="1143000"/>
            <a:ext cx="36972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LRFEventReaction(lrf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0" name="Picture 5" descr=""/>
          <p:cNvPicPr/>
          <p:nvPr/>
        </p:nvPicPr>
        <p:blipFill>
          <a:blip r:embed="rId1"/>
          <a:stretch/>
        </p:blipFill>
        <p:spPr>
          <a:xfrm>
            <a:off x="3929040" y="1000080"/>
            <a:ext cx="4210200" cy="5695920"/>
          </a:xfrm>
          <a:prstGeom prst="rect">
            <a:avLst/>
          </a:prstGeom>
          <a:ln w="0">
            <a:noFill/>
          </a:ln>
        </p:spPr>
      </p:pic>
      <p:sp>
        <p:nvSpPr>
          <p:cNvPr id="481" name="모서리가 둥근 직사각형 4"/>
          <p:cNvSpPr/>
          <p:nvPr/>
        </p:nvSpPr>
        <p:spPr>
          <a:xfrm>
            <a:off x="2714760" y="1928880"/>
            <a:ext cx="6072120" cy="4143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4" name="Picture 6" descr=""/>
          <p:cNvPicPr/>
          <p:nvPr/>
        </p:nvPicPr>
        <p:blipFill>
          <a:blip r:embed="rId1"/>
          <a:stretch/>
        </p:blipFill>
        <p:spPr>
          <a:xfrm>
            <a:off x="2428920" y="1957320"/>
            <a:ext cx="42861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ion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7" name="Picture 2" descr=""/>
          <p:cNvPicPr/>
          <p:nvPr/>
        </p:nvPicPr>
        <p:blipFill>
          <a:blip r:embed="rId1"/>
          <a:stretch/>
        </p:blipFill>
        <p:spPr>
          <a:xfrm>
            <a:off x="2357280" y="1857240"/>
            <a:ext cx="42865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ion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2357280" y="1814400"/>
            <a:ext cx="42865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4" name="Picture 5" descr=""/>
          <p:cNvPicPr/>
          <p:nvPr/>
        </p:nvPicPr>
        <p:blipFill>
          <a:blip r:embed="rId1"/>
          <a:stretch/>
        </p:blipFill>
        <p:spPr>
          <a:xfrm>
            <a:off x="3929040" y="1000080"/>
            <a:ext cx="4210200" cy="5695920"/>
          </a:xfrm>
          <a:prstGeom prst="rect">
            <a:avLst/>
          </a:prstGeom>
          <a:ln w="0">
            <a:noFill/>
          </a:ln>
        </p:spPr>
      </p:pic>
      <p:sp>
        <p:nvSpPr>
          <p:cNvPr id="455" name="아래쪽 화살표 4"/>
          <p:cNvSpPr/>
          <p:nvPr/>
        </p:nvSpPr>
        <p:spPr>
          <a:xfrm rot="16200000">
            <a:off x="3393360" y="23216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2238480" y="1803240"/>
            <a:ext cx="47527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sTurning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RFEventReaction(lrf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global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sTurn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lrf.DistanceMeasurements[180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d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000) an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IsTurning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alse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sTurning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Turn(9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3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0.3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3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sTurning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_lrf_reaction.p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ead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robot_lrf_reaction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basic python script and robot environm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4" name="Picture 6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638600" cy="4390920"/>
          </a:xfrm>
          <a:prstGeom prst="rect">
            <a:avLst/>
          </a:prstGeom>
          <a:ln w="0">
            <a:noFill/>
          </a:ln>
        </p:spPr>
      </p:pic>
      <p:sp>
        <p:nvSpPr>
          <p:cNvPr id="465" name="아래쪽 화살표 5"/>
          <p:cNvSpPr/>
          <p:nvPr/>
        </p:nvSpPr>
        <p:spPr>
          <a:xfrm rot="16200000">
            <a:off x="1892880" y="560772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아래쪽 화살표 6"/>
          <p:cNvSpPr/>
          <p:nvPr/>
        </p:nvSpPr>
        <p:spPr>
          <a:xfrm rot="5400000">
            <a:off x="6036480" y="46792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LRF Sensor Reac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base1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9" name="Picture 8" descr=""/>
          <p:cNvPicPr/>
          <p:nvPr/>
        </p:nvPicPr>
        <p:blipFill>
          <a:blip r:embed="rId1"/>
          <a:stretch/>
        </p:blipFill>
        <p:spPr>
          <a:xfrm>
            <a:off x="2286000" y="1643040"/>
            <a:ext cx="4714920" cy="4905360"/>
          </a:xfrm>
          <a:prstGeom prst="rect">
            <a:avLst/>
          </a:prstGeom>
          <a:ln w="0">
            <a:noFill/>
          </a:ln>
        </p:spPr>
      </p:pic>
      <p:sp>
        <p:nvSpPr>
          <p:cNvPr id="470" name="아래쪽 화살표 8"/>
          <p:cNvSpPr/>
          <p:nvPr/>
        </p:nvSpPr>
        <p:spPr>
          <a:xfrm rot="16200000">
            <a:off x="1678680" y="60364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17:14Z</dcterms:modified>
  <cp:revision>953</cp:revision>
  <dc:subject/>
  <dc:title>슬라이드 1</dc:title>
</cp:coreProperties>
</file>