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2FE39-EC5D-4566-BDF7-9B3CEA94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B08B4-AE96-4CE9-93C9-EC94F5C4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A1364-9CDD-4CF2-817C-206CBF3C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33110-8717-4CC3-9815-B13A9AFB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F784A-FF5E-4C87-B60C-61D72C5C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2F954-27C5-472F-BD1E-14FB1D36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90B4D-73E8-4A9C-A5DE-99F71629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B2D8D-A1D9-41BD-9CAD-C8EA4E4E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83239-39BA-4CFC-BBA9-1778B69D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913B0-B57B-432E-971A-F6EF1027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98E53-BBA7-4C5F-800F-A1F0C772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9A083-19BB-4410-98D9-D28CE52B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0E328-55D5-40E9-875D-22423204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8F2EE-2E0E-4F1F-A363-68DA529C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BB525-EC2F-4684-9894-A07CE5FB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1F5D1-08CD-4F77-B299-E0B76C7E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6172C-9393-4D25-86C8-01CA9377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DBA41-DBEF-488B-A5F5-C2907AE3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A0894-C5A9-48A6-B322-C506A06C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9E8B7-86F5-429A-8446-EC7A51C0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E3348-1097-4BC4-B919-E8B1C67C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332B8-DDE0-4F1A-B494-79B22049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5D88A-6651-40E0-9E2A-89BD1628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B5AF9-745B-49FB-9D84-307F5D82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8242B-32E9-44E8-847B-37F0E0A4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B4989-4CC6-4C9B-BCC8-4E3109A3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8B609-0806-4DC6-B9C1-13DEC3D6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F7B4B-78AE-4701-8791-76C311A3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F7050-139A-4FFF-974E-916032F1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480C7-8C3D-49DF-B3D9-A428AAAF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B039D-F678-476B-B6A8-AC25A557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78C7C-79AD-4B63-A21B-A3CDA3CC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067B4-8747-4640-B60D-498033B3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3FD-EA4C-4D18-B9F2-C26CFC2C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E5A8-283B-4437-8846-44D59E46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7174-EA58-4D38-8B22-72A876FB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3E22-BED9-4EE4-9E8E-026657D0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788A-DECE-4116-830C-55EAECC9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53F8-DBE7-4A90-B382-E408D0AD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FEE7-F794-4524-9EA7-D54405F0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A19D-CCCF-4AD5-826F-B8EC405A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E3BE-8D3D-4AB2-9ECA-0B0DA369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5291-C826-4970-8E94-21EE00BF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E538-0B7D-4481-ADB7-5F70DBFC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984A-CA4B-4E85-93B8-D80139E2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9122-C1FB-46DB-B499-BF22D311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7A45-D6AB-44D1-85B9-AFFE858C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9F2E-B221-4BA1-BC22-53573129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7D9A-D69B-486C-B4DB-C9529E35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A030-4A3B-40ED-85D3-5F788008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A1EA-4B36-4259-9882-E6D45964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C6B2-5BFF-4A18-AB6B-99C8383B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53FD-9743-497C-A077-493D71B5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4CDC-58C6-44AF-B480-209E6F43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C8FF-970B-4E33-A90B-BA7E7707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0BB0-AFD2-424B-89B0-610FA46E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1890-53B2-458C-BEA7-66610496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EF189-2AB0-436B-82D7-C2090851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E8218-E33D-4866-8D12-A7E4C78F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2FBD4-2D39-41AB-813B-6CFFF841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B575C-F8CA-43EB-B6DA-E9C49B69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9D6BE-766A-4D7B-A81F-8547BD56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2E3FD-7086-48D0-934B-58F3DD22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9A2F6-566A-4A70-A222-4A6E9C13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1A505-F903-4FD3-AF1C-5F0EB91F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3E77D-B934-4CCA-8DD8-9D91E1FE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4C274-1109-4A7F-8816-3DED2A0B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24CEA-A49A-41CF-B8FF-44D33F86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BF9FD-3A70-4BB4-82BC-6117A738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A69E7-1D69-4CB1-B23C-B3B66556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38125-3403-4439-B253-5BAA314B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FB0FB-5ECA-4D5D-884A-CF79E299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BDA67-D268-45DF-8C6E-ABD9FDF3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EAF7C-0B15-41C3-9002-CCFEBC36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3F6A6-6C1F-4DAE-A81B-D31E888F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3D756-919A-4D5B-B7BE-C0009119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3FC03-2629-4C53-926D-9277F3CA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0C9A6-A175-42C6-BF07-F624951E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C3CBE-B02F-46FD-A25F-DA7A7995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0043B-1E6F-4802-9644-FAC33CE6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F64DA-CB7F-4F56-8763-A76399F8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4270E-B647-4412-8FD7-FDFD80C7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072F6-8D33-4509-AD24-F0A7B480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68B3E-842F-4BBC-A61A-77CFDC8C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CF8BF-2D00-4843-BE34-45D554DB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4618D-D983-43DA-B915-7D529123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8B056-9A1F-4C1B-9E1C-B6149F0D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912A3-A365-4EC3-AAEE-8DAFD4DC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0CB66-45B3-4FF5-B61C-9B74E5A4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EC829-BBBC-4DE9-94FA-CAF65F53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5A195-C333-4CB9-ABA2-C91F63C0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796F9-416E-401D-A030-078240E5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573A6-00D4-4C73-90C4-BF37A4CA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7A4E6-7CA2-4B6B-A63B-3B85AD4E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5EFAC-C130-4EF7-B3AF-42660C2A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B7765-E308-437B-A546-7B3CBFB6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510C3-A04E-439A-B3DD-E1E5CF19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9AABA-7115-452C-8A0C-34D440EB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F77B0-9A2C-450E-9A57-016E193F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BBA75-F816-4A29-9EC1-9A84250F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C5EC8-8CAA-4E23-B91A-E583974B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D36F4-0C03-4B9C-ADF0-A0F021B4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BC971-31AF-49C4-8EA5-2B9A32E4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B9BE3-DEC8-430B-B96B-E95D4FD3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FB0C2-D542-4869-8519-F8D7D8D4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16863-994F-43C5-BC86-5C0223EA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C7D5A-A385-473A-83ED-A49051A4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3CFCA-4E26-4EEE-BCFC-8C0481A1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EC38-3085-46ED-B058-E0ED960A58A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76F5-9672-4B37-BA2B-A17BAEB5423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10DA-4E30-4216-B2E1-8F827B884E38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E8D0-C017-4FB5-AFA0-3CAB12E2E28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2C06-F696-496D-BE5F-47287219AFC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302D-C3A9-482C-B840-73CA8829F22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8427-CBAB-4187-8EEB-305210C1A2A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1E09-9E8A-455F-BBFF-9AA65F5FDEC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EF0C-BA29-45C0-8395-C1FA0BAF347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9785-2815-49FF-9558-CEFDDFB11B1A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LRF Sensor Detec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ake a robot move with 0.3 and 0.3 powe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5" name="Picture 8" descr=""/>
          <p:cNvPicPr/>
          <p:nvPr/>
        </p:nvPicPr>
        <p:blipFill>
          <a:blip r:embed="rId1"/>
          <a:stretch/>
        </p:blipFill>
        <p:spPr>
          <a:xfrm>
            <a:off x="2643120" y="1643040"/>
            <a:ext cx="3935520" cy="4929120"/>
          </a:xfrm>
          <a:prstGeom prst="rect">
            <a:avLst/>
          </a:prstGeom>
          <a:ln w="0">
            <a:noFill/>
          </a:ln>
        </p:spPr>
      </p:pic>
      <p:sp>
        <p:nvSpPr>
          <p:cNvPr id="476" name="아래쪽 화살표 8"/>
          <p:cNvSpPr/>
          <p:nvPr/>
        </p:nvSpPr>
        <p:spPr>
          <a:xfrm rot="16200000">
            <a:off x="2107440" y="610740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base1” and “lrf1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CheckLRF” modu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9" name="Picture 7" descr=""/>
          <p:cNvPicPr/>
          <p:nvPr/>
        </p:nvPicPr>
        <p:blipFill>
          <a:blip r:embed="rId1"/>
          <a:stretch/>
        </p:blipFill>
        <p:spPr>
          <a:xfrm>
            <a:off x="4714920" y="1071720"/>
            <a:ext cx="3530520" cy="5362560"/>
          </a:xfrm>
          <a:prstGeom prst="rect">
            <a:avLst/>
          </a:prstGeom>
          <a:ln w="0">
            <a:noFill/>
          </a:ln>
        </p:spPr>
      </p:pic>
      <p:sp>
        <p:nvSpPr>
          <p:cNvPr id="480" name="아래쪽 화살표 7"/>
          <p:cNvSpPr/>
          <p:nvPr/>
        </p:nvSpPr>
        <p:spPr>
          <a:xfrm rot="16200000">
            <a:off x="4107600" y="5607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eckLRF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3" name="Picture 7" descr=""/>
          <p:cNvPicPr/>
          <p:nvPr/>
        </p:nvPicPr>
        <p:blipFill>
          <a:blip r:embed="rId1"/>
          <a:stretch/>
        </p:blipFill>
        <p:spPr>
          <a:xfrm>
            <a:off x="1928880" y="1714680"/>
            <a:ext cx="5010120" cy="4476600"/>
          </a:xfrm>
          <a:prstGeom prst="rect">
            <a:avLst/>
          </a:prstGeom>
          <a:ln w="0">
            <a:noFill/>
          </a:ln>
        </p:spPr>
      </p:pic>
      <p:sp>
        <p:nvSpPr>
          <p:cNvPr id="484" name="모서리가 둥근 직사각형 4"/>
          <p:cNvSpPr/>
          <p:nvPr/>
        </p:nvSpPr>
        <p:spPr>
          <a:xfrm>
            <a:off x="1500120" y="2643120"/>
            <a:ext cx="6072120" cy="1857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7" name="Picture 5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6448320" cy="41907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6" descr=""/>
          <p:cNvPicPr/>
          <p:nvPr/>
        </p:nvPicPr>
        <p:blipFill>
          <a:blip r:embed="rId2"/>
          <a:stretch/>
        </p:blipFill>
        <p:spPr>
          <a:xfrm>
            <a:off x="4357800" y="278604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istance detection 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through lrf sensor event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Options of LRF Senso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3071880" y="1857240"/>
            <a:ext cx="3105000" cy="4095720"/>
          </a:xfrm>
          <a:prstGeom prst="rect">
            <a:avLst/>
          </a:prstGeom>
          <a:ln w="0">
            <a:noFill/>
          </a:ln>
        </p:spPr>
      </p:pic>
      <p:sp>
        <p:nvSpPr>
          <p:cNvPr id="493" name="아래쪽 화살표 4"/>
          <p:cNvSpPr/>
          <p:nvPr/>
        </p:nvSpPr>
        <p:spPr>
          <a:xfrm rot="5400000">
            <a:off x="5536440" y="29646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아래쪽 화살표 5"/>
          <p:cNvSpPr/>
          <p:nvPr/>
        </p:nvSpPr>
        <p:spPr>
          <a:xfrm rot="5400000">
            <a:off x="6036480" y="496476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Build sim environment and basic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/Procedure_SensorNotify:proc1” op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405160" y="2205000"/>
            <a:ext cx="4333680" cy="4438800"/>
          </a:xfrm>
          <a:prstGeom prst="rect">
            <a:avLst/>
          </a:prstGeom>
          <a:ln w="0">
            <a:noFill/>
          </a:ln>
        </p:spPr>
      </p:pic>
      <p:sp>
        <p:nvSpPr>
          <p:cNvPr id="498" name="아래쪽 화살표 4"/>
          <p:cNvSpPr/>
          <p:nvPr/>
        </p:nvSpPr>
        <p:spPr>
          <a:xfrm rot="16200000">
            <a:off x="1892880" y="617940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아래쪽 화살표 5"/>
          <p:cNvSpPr/>
          <p:nvPr/>
        </p:nvSpPr>
        <p:spPr>
          <a:xfrm rot="5400000">
            <a:off x="6179400" y="51793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base1” into Python and make a robot mov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2643120" y="1714680"/>
            <a:ext cx="3952800" cy="4943160"/>
          </a:xfrm>
          <a:prstGeom prst="rect">
            <a:avLst/>
          </a:prstGeom>
          <a:ln w="0">
            <a:noFill/>
          </a:ln>
        </p:spPr>
      </p:pic>
      <p:sp>
        <p:nvSpPr>
          <p:cNvPr id="503" name="아래쪽 화살표 4"/>
          <p:cNvSpPr/>
          <p:nvPr/>
        </p:nvSpPr>
        <p:spPr>
          <a:xfrm rot="16200000">
            <a:off x="1892880" y="575064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아래쪽 화살표 5"/>
          <p:cNvSpPr/>
          <p:nvPr/>
        </p:nvSpPr>
        <p:spPr>
          <a:xfrm rot="16200000">
            <a:off x="1893240" y="6107760"/>
            <a:ext cx="285480" cy="6426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Procedure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LRFEvent” with event valu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5000760" y="1143000"/>
            <a:ext cx="3544920" cy="5514840"/>
          </a:xfrm>
          <a:prstGeom prst="rect">
            <a:avLst/>
          </a:prstGeom>
          <a:ln w="0">
            <a:noFill/>
          </a:ln>
        </p:spPr>
      </p:pic>
      <p:sp>
        <p:nvSpPr>
          <p:cNvPr id="508" name="아래쪽 화살표 4"/>
          <p:cNvSpPr/>
          <p:nvPr/>
        </p:nvSpPr>
        <p:spPr>
          <a:xfrm rot="16200000">
            <a:off x="4821840" y="5893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LRFEvent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1" name="Picture 7" descr=""/>
          <p:cNvPicPr/>
          <p:nvPr/>
        </p:nvPicPr>
        <p:blipFill>
          <a:blip r:embed="rId1"/>
          <a:stretch/>
        </p:blipFill>
        <p:spPr>
          <a:xfrm>
            <a:off x="1928880" y="1714680"/>
            <a:ext cx="5010120" cy="4476600"/>
          </a:xfrm>
          <a:prstGeom prst="rect">
            <a:avLst/>
          </a:prstGeom>
          <a:ln w="0">
            <a:noFill/>
          </a:ln>
        </p:spPr>
      </p:pic>
      <p:sp>
        <p:nvSpPr>
          <p:cNvPr id="512" name="모서리가 둥근 직사각형 4"/>
          <p:cNvSpPr/>
          <p:nvPr/>
        </p:nvSpPr>
        <p:spPr>
          <a:xfrm>
            <a:off x="1285920" y="4572000"/>
            <a:ext cx="6143760" cy="1071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sensor even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6448320" cy="41907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3" descr=""/>
          <p:cNvPicPr/>
          <p:nvPr/>
        </p:nvPicPr>
        <p:blipFill>
          <a:blip r:embed="rId2"/>
          <a:stretch/>
        </p:blipFill>
        <p:spPr>
          <a:xfrm>
            <a:off x="4357800" y="278604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7" descr=""/>
          <p:cNvPicPr/>
          <p:nvPr/>
        </p:nvPicPr>
        <p:blipFill>
          <a:blip r:embed="rId1"/>
          <a:stretch/>
        </p:blipFill>
        <p:spPr>
          <a:xfrm>
            <a:off x="3357720" y="1714680"/>
            <a:ext cx="5010120" cy="447660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4"/>
          <p:cNvSpPr/>
          <p:nvPr/>
        </p:nvSpPr>
        <p:spPr>
          <a:xfrm rot="16200000">
            <a:off x="2821680" y="253548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아래쪽 화살표 5"/>
          <p:cNvSpPr/>
          <p:nvPr/>
        </p:nvSpPr>
        <p:spPr>
          <a:xfrm rot="16200000">
            <a:off x="2821680" y="4464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TextBox 3"/>
          <p:cNvSpPr/>
          <p:nvPr/>
        </p:nvSpPr>
        <p:spPr>
          <a:xfrm>
            <a:off x="2176560" y="1928880"/>
            <a:ext cx="59612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CheckLRF(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CheckLR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True: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str(lrf1.DistanceMeasurements[180]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LR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istanc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time.sleep(0.5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LRFEvent(lrf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str(lrf.DistanceMeasurements[180]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LRF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istance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d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'robot_lrf.py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robot_lrf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istance detection 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through while loop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 and robot environm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5" name="Picture 5" descr=""/>
          <p:cNvPicPr/>
          <p:nvPr/>
        </p:nvPicPr>
        <p:blipFill>
          <a:blip r:embed="rId1"/>
          <a:stretch/>
        </p:blipFill>
        <p:spPr>
          <a:xfrm>
            <a:off x="2343240" y="1990800"/>
            <a:ext cx="4457520" cy="3724200"/>
          </a:xfrm>
          <a:prstGeom prst="rect">
            <a:avLst/>
          </a:prstGeom>
          <a:ln w="0">
            <a:noFill/>
          </a:ln>
        </p:spPr>
      </p:pic>
      <p:sp>
        <p:nvSpPr>
          <p:cNvPr id="466" name="아래쪽 화살표 5"/>
          <p:cNvSpPr/>
          <p:nvPr/>
        </p:nvSpPr>
        <p:spPr>
          <a:xfrm rot="16200000">
            <a:off x="1821600" y="42505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istance detection through while loop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“WaitForEntityCreation” and “WaitForServiceCreation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1"/>
          <a:stretch/>
        </p:blipFill>
        <p:spPr>
          <a:xfrm>
            <a:off x="609480" y="1643040"/>
            <a:ext cx="7925040" cy="4915080"/>
          </a:xfrm>
          <a:prstGeom prst="rect">
            <a:avLst/>
          </a:prstGeom>
          <a:ln w="0">
            <a:noFill/>
          </a:ln>
        </p:spPr>
      </p:pic>
      <p:sp>
        <p:nvSpPr>
          <p:cNvPr id="470" name="자유형 5"/>
          <p:cNvSpPr/>
          <p:nvPr/>
        </p:nvSpPr>
        <p:spPr>
          <a:xfrm>
            <a:off x="2643120" y="3857760"/>
            <a:ext cx="1643040" cy="178596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아래쪽 화살표 6"/>
          <p:cNvSpPr/>
          <p:nvPr/>
        </p:nvSpPr>
        <p:spPr>
          <a:xfrm rot="16200000">
            <a:off x="464400" y="35362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아래쪽 화살표 7"/>
          <p:cNvSpPr/>
          <p:nvPr/>
        </p:nvSpPr>
        <p:spPr>
          <a:xfrm rot="1502400">
            <a:off x="2479320" y="21016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16:53Z</dcterms:modified>
  <cp:revision>947</cp:revision>
  <dc:subject/>
  <dc:title>슬라이드 1</dc:title>
</cp:coreProperties>
</file>