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CD0BF-6265-4716-9C08-8970274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A326-56FD-4514-9D1E-CDD67CA1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E4912-121C-4CEA-A48E-3B293412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374D7-87CF-4658-8192-8B9D1CF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3A4E-A3CC-4C52-87E0-6CC3846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8F75D-D3FB-4EDA-945C-5B0BF54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C30A-FDA7-4AE9-8149-48BDEE70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CBF0-44FE-4AD9-BD28-49E35680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24B81-74D3-4FB3-9D5A-527B5E4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FD7A-BCED-4653-A094-64B80EE9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F17C8-C8D2-4FEF-88AD-AEDECE7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0DFA1-C876-4939-AA62-CFB242BC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5815-8730-4FA0-8668-7AFD2120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5247-AF09-44C3-92BD-CC2BE1D6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BD899-9763-4878-8DA5-E5FC9B0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4CC0-4CC6-44D5-A2BF-45F0260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E77F-EC37-444F-BF9D-A6B5A25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2A17F-D9F8-403C-A540-8723A69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4CD40-3FF3-4BFA-88ED-2C216CE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787A-CFB1-4BF6-9555-7B5DCED6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EA865-6FC5-4EA1-B4DF-527DB123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8B646-A487-4724-901B-B94C0FC0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12AAA-AEC7-435D-B030-FC42F51B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217E-24BE-4635-BB12-B533880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E2F62-DB52-4FA6-A8B7-7A9C5ED2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5AA79-5133-4246-BA7F-1786A672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18189-DA15-4F74-B0B7-1D449AA8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2D341-E275-4076-B835-BFA6C31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AB77A-6CAD-45DE-9DF9-F00855E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1DBAD-9836-4670-8991-A77A3F9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7DFE-A351-40C2-842E-4B9DE06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4C78D-15AA-4455-B6AE-82F68063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CB84E-12F8-4C72-98DB-BAC6D0D9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738-8F3E-4626-8CC3-23BB6852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657-DA55-4012-9BB2-26338054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A26-A32C-4530-98AE-1B70E3DE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DE7-AE22-4BC7-ACCD-9513DF80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D14-8606-4F2C-87E4-C9B0D25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C38-9B4E-449E-B851-24EBB11F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118-AEA9-4D63-8CB6-826FEC9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A4B-7469-442E-8ACB-AB26ECC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6F9-24FA-451A-AC4D-837B9F00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D05-5907-4115-A31E-9A812DC1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972-C238-4D3E-ADD2-B03FC7F6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39B-9D5E-4E81-9B4D-D58A0466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BA6F-9C1D-4FB5-95BD-F28DA028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D73D-C473-43E7-A732-0612F71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6BA5-084C-4B37-86FF-1EBE33BC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079C-28C3-47E2-B221-B24BE38F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3101-1AD6-407B-9AE1-757AEE5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D7F8-43C7-4331-8A08-FB290A4C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8153-3049-49A7-8F03-6016842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03BF-858C-4331-A280-0E95BB6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CC1C-ADDF-464E-A399-B1D3483A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426-56BF-460A-A705-12D7C53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C29-042B-4004-824A-B9DC5E12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783-F0F2-4AC4-B706-EE10B4BA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1A81-C4F4-45A5-9685-3888D41D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3E62-964F-438C-BCF7-0E9617C3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1E26-C5B3-43FD-9955-D22DA9C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7791-7EAF-4856-94D3-DC03E3C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B2BB-85DE-425E-AB3B-9AD1EB00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5C85-D6F7-4663-B655-3A2F6ECD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9560-AC32-4F32-BDF7-8D03396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39FF-2002-457D-A941-B9B15F45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E94B-FB8C-4323-B9FE-307469D5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3AF1-8358-48AC-AFBC-ACF2A47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ED40-6A3A-4637-B5D8-09898276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A736-0C87-428F-ABA5-741F6AEE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7093-B69B-4434-A82F-E3B99619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DD68-1441-4419-8FCB-15B43B90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12E2-8C45-4A30-A4D5-DD76FB7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8028-5F23-4C33-A6C8-59475CA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93A6-AA68-4360-973F-A056A10A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F12B-D873-43E8-8CF0-AF62DDA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A7EE-8445-4A41-95D2-8C21D234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4E6C-95E3-40FF-A371-7FA35E6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9AD9-FAB5-42A7-9CF3-4897351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EA1F-ED92-4C85-B3E0-E60FD0D5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9728-93B6-4D34-A243-6D008EB8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37DB-C8D8-4E40-A85D-D95BC812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FCBD-7036-4508-8740-434547F5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E08E-F4E7-4954-94E8-E2BC4572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A7A9-B318-470B-9A7F-D585644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8872-F2AF-4E62-A253-5D97795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A7A4-24AA-4D40-BE07-B09EBC83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0BAC-71FD-4F7E-BC9B-170387B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EBE7-4F3C-476C-B3DC-CC76CAFC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0EBE-77B7-422A-944E-6880BBC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8BDF-B08B-483D-B653-50A72DC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3918-AFCB-4DAA-B351-E002B8FB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3481-0FF4-4E7E-8FE5-68EA1984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9F04-2D33-463F-BE0B-2B2F2EC8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3D80-ABD3-4A57-8C1D-1B95635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3C82-7D41-4263-BF80-6F4C257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3EE7-0EE3-4CDB-99CD-1F567B0E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B2250-A00B-4D2F-BA1B-9BD7B76D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96227-7456-4188-A5F7-C47C7352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2ABD-5DAF-40F5-BD8D-EA6930A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E8F6-7D97-4E40-A224-8B6887B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4B6C-4896-4A4A-88AE-090ABFE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7E6B6-7655-415F-BBE3-3C21632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691C0-887F-4BDD-92E3-23C57B0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C8FD9-5692-449F-A665-03FC372A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58C01-46B0-4ADE-B8E4-26734169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A57D-827D-4024-9707-899032EB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E8CC-7155-4133-BAA4-89BB45A4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FCBBC-B4D2-4140-8E03-0C85A52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4875-B31B-4E70-8CBE-0CB5ED74BEA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3EA8-4D9F-458A-8FFE-5E1A5F4159E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8C61-7696-4174-A021-911CA8D12E65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836-C548-4EDA-A0B1-6D09338B0C02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A01-73A8-4F15-BC3D-6A07E6E1B20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B3B6-2A31-44BB-8B90-5A5D58488E7C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B7B-5116-4ED2-851E-F26AE899A26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7AD-763A-4334-B189-B9F6F3156DC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7990-9281-4BCE-836A-6E182CC0A53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895E-078F-4AF6-8B0F-76B86EF3086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the instance of “base1” in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33240" y="1981080"/>
            <a:ext cx="7877520" cy="4305600"/>
          </a:xfrm>
          <a:prstGeom prst="rect">
            <a:avLst/>
          </a:prstGeom>
          <a:ln w="0">
            <a:noFill/>
          </a:ln>
        </p:spPr>
      </p:pic>
      <p:sp>
        <p:nvSpPr>
          <p:cNvPr id="473" name="자유형 4"/>
          <p:cNvSpPr/>
          <p:nvPr/>
        </p:nvSpPr>
        <p:spPr>
          <a:xfrm flipV="1">
            <a:off x="3786120" y="5714280"/>
            <a:ext cx="1500120" cy="1429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아래쪽 화살표 6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아래쪽 화살표 7"/>
          <p:cNvSpPr/>
          <p:nvPr/>
        </p:nvSpPr>
        <p:spPr>
          <a:xfrm rot="1502400">
            <a:off x="3050640" y="2459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628560" y="1714680"/>
            <a:ext cx="7886880" cy="4324320"/>
          </a:xfrm>
          <a:prstGeom prst="rect">
            <a:avLst/>
          </a:prstGeom>
          <a:ln w="0">
            <a:noFill/>
          </a:ln>
        </p:spPr>
      </p:pic>
      <p:sp>
        <p:nvSpPr>
          <p:cNvPr id="479" name="자유형 4"/>
          <p:cNvSpPr/>
          <p:nvPr/>
        </p:nvSpPr>
        <p:spPr>
          <a:xfrm>
            <a:off x="3857760" y="5038560"/>
            <a:ext cx="500040" cy="5716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아래쪽 화살표 5"/>
          <p:cNvSpPr/>
          <p:nvPr/>
        </p:nvSpPr>
        <p:spPr>
          <a:xfrm rot="16200000">
            <a:off x="749880" y="478872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(left, right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84" name="모서리가 둥근 직사각형 4"/>
          <p:cNvSpPr/>
          <p:nvPr/>
        </p:nvSpPr>
        <p:spPr>
          <a:xfrm>
            <a:off x="2571840" y="4143240"/>
            <a:ext cx="500040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571840" y="207180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DrivePatter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4391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DrivePatter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495" name="모서리가 둥근 직사각형 4"/>
          <p:cNvSpPr/>
          <p:nvPr/>
        </p:nvSpPr>
        <p:spPr>
          <a:xfrm>
            <a:off x="2571840" y="4929120"/>
            <a:ext cx="5000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286160" cy="3686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4286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voke “RobotPosition”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419200" y="1857240"/>
            <a:ext cx="430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ive Robot with Patter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obotPosition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4081320" cy="4624560"/>
          </a:xfrm>
          <a:prstGeom prst="rect">
            <a:avLst/>
          </a:prstGeom>
          <a:ln w="0">
            <a:noFill/>
          </a:ln>
        </p:spPr>
      </p:pic>
      <p:sp>
        <p:nvSpPr>
          <p:cNvPr id="507" name="모서리가 둥근 직사각형 4"/>
          <p:cNvSpPr/>
          <p:nvPr/>
        </p:nvSpPr>
        <p:spPr>
          <a:xfrm>
            <a:off x="2571840" y="2643120"/>
            <a:ext cx="5000400" cy="150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Read Robot Positi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6448320" cy="4191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991040" cy="5657760"/>
          </a:xfrm>
          <a:prstGeom prst="rect">
            <a:avLst/>
          </a:prstGeom>
          <a:ln w="0">
            <a:noFill/>
          </a:ln>
        </p:spPr>
      </p:pic>
      <p:sp>
        <p:nvSpPr>
          <p:cNvPr id="455" name="아래쪽 화살표 4"/>
          <p:cNvSpPr/>
          <p:nvPr/>
        </p:nvSpPr>
        <p:spPr>
          <a:xfrm rot="16200000">
            <a:off x="3035880" y="182160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3036240" y="3678840"/>
            <a:ext cx="285480" cy="6426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아래쪽 화살표 6"/>
          <p:cNvSpPr/>
          <p:nvPr/>
        </p:nvSpPr>
        <p:spPr>
          <a:xfrm rot="16200000">
            <a:off x="3035880" y="4679280"/>
            <a:ext cx="285840" cy="642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2359080" y="1928880"/>
            <a:ext cx="4875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Positio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tr(base1.Position.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Positio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a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Z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ime.sleep(0.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(left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igh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botDrivePattern()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DrivePattern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ru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GoTo(1.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base1.Turn(90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0.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'Robot_Drive.p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ady'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robot_drive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Drive</a:t>
            </a: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pare basic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386080" y="2852640"/>
            <a:ext cx="4371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Drive Robo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simulation environment and robo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2371680" y="2100240"/>
            <a:ext cx="4400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6:23Z</dcterms:modified>
  <cp:revision>928</cp:revision>
  <dc:subject/>
  <dc:title>슬라이드 1</dc:title>
</cp:coreProperties>
</file>