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  <p:sldId id="275" r:id="rId32"/>
    <p:sldId id="276" r:id="rId33"/>
    <p:sldId id="277" r:id="rId34"/>
    <p:sldId id="278" r:id="rId35"/>
    <p:sldId id="279" r:id="rId36"/>
    <p:sldId id="280" r:id="rId37"/>
    <p:sldId id="281" r:id="rId38"/>
    <p:sldId id="282" r:id="rId39"/>
    <p:sldId id="283" r:id="rId40"/>
    <p:sldId id="284" r:id="rId41"/>
    <p:sldId id="285" r:id="rId42"/>
    <p:sldId id="286" r:id="rId43"/>
    <p:sldId id="287" r:id="rId44"/>
    <p:sldId id="288" r:id="rId45"/>
    <p:sldId id="289" r:id="rId46"/>
    <p:sldId id="290" r:id="rId47"/>
    <p:sldId id="291" r:id="rId48"/>
    <p:sldId id="292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slide" Target="slides/slide20.xml"/><Relationship Id="rId33" Type="http://schemas.openxmlformats.org/officeDocument/2006/relationships/slide" Target="slides/slide21.xml"/><Relationship Id="rId34" Type="http://schemas.openxmlformats.org/officeDocument/2006/relationships/slide" Target="slides/slide22.xml"/><Relationship Id="rId35" Type="http://schemas.openxmlformats.org/officeDocument/2006/relationships/slide" Target="slides/slide23.xml"/><Relationship Id="rId36" Type="http://schemas.openxmlformats.org/officeDocument/2006/relationships/slide" Target="slides/slide24.xml"/><Relationship Id="rId37" Type="http://schemas.openxmlformats.org/officeDocument/2006/relationships/slide" Target="slides/slide25.xml"/><Relationship Id="rId38" Type="http://schemas.openxmlformats.org/officeDocument/2006/relationships/slide" Target="slides/slide26.xml"/><Relationship Id="rId39" Type="http://schemas.openxmlformats.org/officeDocument/2006/relationships/slide" Target="slides/slide27.xml"/><Relationship Id="rId40" Type="http://schemas.openxmlformats.org/officeDocument/2006/relationships/slide" Target="slides/slide28.xml"/><Relationship Id="rId41" Type="http://schemas.openxmlformats.org/officeDocument/2006/relationships/slide" Target="slides/slide29.xml"/><Relationship Id="rId42" Type="http://schemas.openxmlformats.org/officeDocument/2006/relationships/slide" Target="slides/slide30.xml"/><Relationship Id="rId43" Type="http://schemas.openxmlformats.org/officeDocument/2006/relationships/slide" Target="slides/slide31.xml"/><Relationship Id="rId44" Type="http://schemas.openxmlformats.org/officeDocument/2006/relationships/slide" Target="slides/slide32.xml"/><Relationship Id="rId45" Type="http://schemas.openxmlformats.org/officeDocument/2006/relationships/slide" Target="slides/slide33.xml"/><Relationship Id="rId46" Type="http://schemas.openxmlformats.org/officeDocument/2006/relationships/slide" Target="slides/slide34.xml"/><Relationship Id="rId47" Type="http://schemas.openxmlformats.org/officeDocument/2006/relationships/slide" Target="slides/slide35.xml"/><Relationship Id="rId48" Type="http://schemas.openxmlformats.org/officeDocument/2006/relationships/slide" Target="slides/slide36.xml"/><Relationship Id="rId49" Type="http://schemas.openxmlformats.org/officeDocument/2006/relationships/slide" Target="slides/slide37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40205E-D367-440E-8B36-2B069A467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F52BC5-3187-41B5-A25A-CC0B9472E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1D24D0-F483-4B20-91EE-249837C55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A1ECB0-2CD8-41C9-83C7-1FEE049D7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C4A049-B9F2-46A4-ACEF-1456F2F57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5A8533-DD03-427F-B31D-FC2155FE7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D84B47-32F4-49CC-9D04-F488536F8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08E907-2345-469B-9F5C-3B70BF007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2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3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CFB025-1E62-4380-A046-7D7BDFC01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E9B8D4-D12F-46CA-96B6-57DB1E44C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86E8A4-5961-4B79-BAF8-C6B30CEEE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F11E1D-3624-4745-842C-77EE1A809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358CC9-9B34-4341-9109-4B2B9622A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16CAD4-7A8F-4198-9FE0-5AE99C9D4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A0E2A6-B836-4BBD-9B18-5D56F8663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4E4152-6480-45AB-A0E6-5771F4C02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000921-4733-4F62-A483-57B10EFFD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B009D6-5F8C-4362-B101-C45FF65B9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63C1CA-E02D-44C6-BB23-E5536F57A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574EB1-C5DF-4F28-8364-3F2FF3D7D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4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86D0D1-45F0-4ED4-BA94-E66781304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742E49-F0F0-4791-9E95-A7326D352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29C2F1-FAE9-4764-8BAA-66C64BA3B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9ED00A-6A27-4355-A3AD-D24AE7F5E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7FDBAD-86B5-41EB-B926-235E18683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A9FF51-8E91-477C-9A40-114551749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AABC21-757C-4595-B187-ECC96FC84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54384A-5E4B-4D4F-AA9B-1DFEACC88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5E575D-E7FD-4ACD-A9DD-37DF942E5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C032C8-4BBE-4409-94CA-9E78BD119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F3C0E3-2346-4195-A0C2-0E6FD616F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BA1B68-C0CE-4F1F-B0B7-D9DCEDE68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4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5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24DD32-3669-4B0C-8FF7-28729ADB4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B1B58-D286-49D8-966E-D4B06B3D4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AAB30-8AC3-4E18-8FFA-D3571C2D1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2A2AE-D010-4EB1-80C2-45C91B80F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0C75E-0EC4-4033-9C88-B476FE8C0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CD0EA-8007-4289-8B06-BFDB9143C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F02E3-94F0-4DBD-A981-DDF0DD1E5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900E9-EC3B-49D7-91C3-9022CCD93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137B5-C1CA-47B5-BC24-859C4C457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DC21A-18CC-4504-8C5F-82BDBFB77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E5AC1-40BB-4ED2-B728-521C7BA95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688BB-194B-4FFF-82C7-9113050C0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8E499-57FC-4F61-B8F4-3EA638AF5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EF2BB-2005-49C6-9046-016419ED3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7EA7A-3ACA-4989-A9EA-2C2ABA0BE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2B950-F08B-495C-928A-5479644D5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368CC-A738-4763-9A4A-EFC8C8203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B3DFC-497C-4128-9D37-8DFC8793D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24C42-202A-45CB-9122-C6266305D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6EB71-2FE8-4C21-80DB-092580125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D1287-8686-4BDF-83E9-E8CD626CA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5C200-7475-4E71-90F3-AD3D41421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7BA61-9C62-4353-BFA3-3FE5B2B91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1219A-827E-4BF3-8141-E22E21A17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C9B12-8EA4-4058-ABD0-128AD96D7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713963-2804-4114-BE75-6E2F4396B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B86AE8-26CB-455C-AB7F-1D1B5D6E5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BB00D0-549A-4B7B-B43B-4BD5B6CE6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C83ABA-1A50-4D6E-A3A9-8944DF1F8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F9E529-B5C6-45E3-A6C4-72B89F881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579F83-E72B-4AB7-B7AC-868BDBABA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304C91-10FE-47F4-83B2-A56465F38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20DEF9-C261-4544-9481-CB527FCB3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0DA2AB-F5DF-4F85-A2DD-DF125E873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60AB71-AB56-41F1-8202-69F8495DA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33E1BD-8490-45C4-8874-2552D9944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98D932-D7B8-419C-92F3-59978C2DB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A773DB-8722-4182-B603-DB25A165A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1F1196-2B2F-40D5-93DB-150FA216C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301793-15E1-40D9-BC07-34F831D70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A92A01-8F44-4BF7-8400-5BEA0489D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C120E7-0F15-4716-AFD8-063A60BAD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D2FA05-0530-4BEB-9DAC-C99C7594D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793D5D-C082-4CB5-9E61-B3AE69A24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6BC04F-268C-42D9-BA69-524146CA8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E738F8-65BC-487C-BA4B-23A0AE85D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9510CF-6318-4F42-A0AD-16581874C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970994-B911-4B6F-8913-F7160CC77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72FC3A-1CA2-4F04-95DF-FDFFEDB9A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F15057-B3A5-4A21-BBAB-C73A26D5C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462DDA-86A7-4E67-8AAD-852BEBB8E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58E691-675E-4B6C-8DA8-936B49579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163000-7A1E-4F30-82B4-86B7105C7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470E0F-AF3C-4155-B1DC-CF9EF4AEE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5DE733-128E-446B-9E61-CEDF11D01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C2DD29-3F67-4C71-B85B-DCBB1C5A8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C8D5C4-E6BF-4782-85FE-297E86733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773E1E-DCAE-4BB5-9877-81C162587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62FBAB-D64C-4ABD-8FAD-5A3D77E6E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282A3B-7D05-4456-B690-F13742876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ACC7C0-2015-4266-BC00-0728F5532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E3D60B-A0AE-4933-8E1A-2408828B9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9C0A66-9C75-44C0-8D46-7B006843E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BC45AA-AC35-4F0C-ADBD-EA2C52275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201284-1760-4CE5-8F95-17D685F67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63060F-3D5F-4EE1-B976-C978C6CAB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9A85B1-DA0D-45A6-BAAA-DDBCD3A6E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6BB44B-C7B5-4A89-BC35-5563753C8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7AA79D-5F68-4D9C-96D6-178692F45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D2DFD4-8711-4DE2-ACEA-58A7E8F22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C409BA-82E1-4B89-A6BB-0611E4A1E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4CD704-3CC2-4335-A4A4-396CE320F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6F870D-9813-4BC0-8AE1-73E12D4E7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C71FDE-1245-413B-A8DA-1ADA3532E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76362F-8163-47B1-A753-9F7993FD9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038DA6-3601-4163-A69D-82678495C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 type="sldNum" idx="24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AC246-C164-41B4-83D8-07987D633AA4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 type="sldNum" idx="27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D5E4E-9DB8-452F-A3E4-5D0154FE059B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13"/>
          <p:cNvSpPr/>
          <p:nvPr/>
        </p:nvSpPr>
        <p:spPr>
          <a:xfrm>
            <a:off x="3436920" y="6605640"/>
            <a:ext cx="2135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34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9B319-82EF-400D-8279-8C0E4073AB74}" type="slidenum">
              <a:rPr b="0" lang="de-DE" sz="1200" spc="-1" strike="noStrike">
                <a:solidFill>
                  <a:srgbClr val="000000"/>
                </a:solidFill>
                <a:latin typeface="Segoe Semibold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sldNum" idx="3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BAC5D-6975-487B-A203-EB3DE246788B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 type="sldNum" idx="6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DEC7F-77F7-4512-86A6-ED598273AD71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 type="sldNum" idx="9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6C0C6-F469-4631-856B-19AA9274863D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 type="sldNum" idx="12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5E135-27AB-4997-B825-50E49EE46CE0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 type="sldNum" idx="15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3B921-9997-4525-B3BE-D675BC6276E7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 type="sldNum" idx="18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45EA6-DFAD-4F92-B07E-B987B49358A5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 type="sldNum" idx="21"/>
          </p:nvPr>
        </p:nvSpPr>
        <p:spPr>
          <a:xfrm>
            <a:off x="29998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E4B70-4897-444B-B76D-9AA56EDE235F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28760" y="2349360"/>
            <a:ext cx="828648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맑은 고딕"/>
              </a:rPr>
              <a:t>Python Interface Programming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2071800" y="5248080"/>
            <a:ext cx="6400800" cy="125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맑은 고딕"/>
              </a:rPr>
              <a:t>Young Joon Kim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http://www.helloapps.com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8" name="TextBox 3"/>
          <p:cNvSpPr/>
          <p:nvPr/>
        </p:nvSpPr>
        <p:spPr>
          <a:xfrm>
            <a:off x="4394160" y="3814920"/>
            <a:ext cx="416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ython Interface Programming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Prepare Python Sample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ave as “&lt;MSRDS Root Dir&gt;/UserData/add.py”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"/>
          <p:cNvSpPr txBox="1"/>
          <p:nvPr/>
        </p:nvSpPr>
        <p:spPr>
          <a:xfrm>
            <a:off x="0" y="2214360"/>
            <a:ext cx="9144000" cy="257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맑은 고딕"/>
              </a:rPr>
              <a:t>Execute Python Script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Execute Python Scrip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80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Define Python variable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81" name="Picture 2" descr=""/>
          <p:cNvPicPr/>
          <p:nvPr/>
        </p:nvPicPr>
        <p:blipFill>
          <a:blip r:embed="rId1"/>
          <a:stretch/>
        </p:blipFill>
        <p:spPr>
          <a:xfrm>
            <a:off x="1243080" y="1928880"/>
            <a:ext cx="6657840" cy="3571920"/>
          </a:xfrm>
          <a:prstGeom prst="rect">
            <a:avLst/>
          </a:prstGeom>
          <a:ln w="0">
            <a:noFill/>
          </a:ln>
        </p:spPr>
      </p:pic>
      <p:sp>
        <p:nvSpPr>
          <p:cNvPr id="482" name="자유형 4"/>
          <p:cNvSpPr/>
          <p:nvPr/>
        </p:nvSpPr>
        <p:spPr>
          <a:xfrm flipV="1">
            <a:off x="2286000" y="2642760"/>
            <a:ext cx="3643200" cy="2286000"/>
          </a:xfrm>
          <a:custGeom>
            <a:avLst/>
            <a:gdLst/>
            <a:ahLst/>
            <a:rect l="l" t="t" r="r" b="b"/>
            <a:pathLst>
              <a:path w="1810328" h="403321">
                <a:moveTo>
                  <a:pt x="0" y="6158"/>
                </a:moveTo>
                <a:cubicBezTo>
                  <a:pt x="265545" y="3079"/>
                  <a:pt x="531091" y="0"/>
                  <a:pt x="748146" y="24630"/>
                </a:cubicBezTo>
                <a:cubicBezTo>
                  <a:pt x="965201" y="49260"/>
                  <a:pt x="1125298" y="90825"/>
                  <a:pt x="1302328" y="153940"/>
                </a:cubicBezTo>
                <a:cubicBezTo>
                  <a:pt x="1479358" y="217055"/>
                  <a:pt x="1644843" y="310188"/>
                  <a:pt x="1810328" y="403321"/>
                </a:cubicBezTo>
              </a:path>
            </a:pathLst>
          </a:custGeom>
          <a:noFill/>
          <a:ln w="57240">
            <a:solidFill>
              <a:srgbClr val="ff0000"/>
            </a:solidFill>
            <a:prstDash val="sys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3" name="TextBox 5"/>
          <p:cNvSpPr/>
          <p:nvPr/>
        </p:nvSpPr>
        <p:spPr>
          <a:xfrm>
            <a:off x="423360" y="4214880"/>
            <a:ext cx="78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맑은 고딕"/>
              </a:rPr>
              <a:t>Doubl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맑은 고딕"/>
              </a:rPr>
              <a:t>clic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4" name="아래쪽 화살표 6"/>
          <p:cNvSpPr/>
          <p:nvPr/>
        </p:nvSpPr>
        <p:spPr>
          <a:xfrm rot="16200000">
            <a:off x="1035720" y="4607640"/>
            <a:ext cx="285840" cy="642960"/>
          </a:xfrm>
          <a:prstGeom prst="downArrow">
            <a:avLst>
              <a:gd name="adj1" fmla="val 50000"/>
              <a:gd name="adj2" fmla="val 49986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5" name="아래쪽 화살표 7"/>
          <p:cNvSpPr/>
          <p:nvPr/>
        </p:nvSpPr>
        <p:spPr>
          <a:xfrm rot="1502400">
            <a:off x="4265280" y="2173320"/>
            <a:ext cx="285840" cy="642960"/>
          </a:xfrm>
          <a:prstGeom prst="downArrow">
            <a:avLst>
              <a:gd name="adj1" fmla="val 50000"/>
              <a:gd name="adj2" fmla="val 49986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Execute Python Scrip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87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Use “LoadFile” method to load py file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88" name="Picture 2" descr=""/>
          <p:cNvPicPr/>
          <p:nvPr/>
        </p:nvPicPr>
        <p:blipFill>
          <a:blip r:embed="rId1"/>
          <a:stretch/>
        </p:blipFill>
        <p:spPr>
          <a:xfrm>
            <a:off x="676440" y="1900080"/>
            <a:ext cx="7791120" cy="4743720"/>
          </a:xfrm>
          <a:prstGeom prst="rect">
            <a:avLst/>
          </a:prstGeom>
          <a:ln w="0">
            <a:noFill/>
          </a:ln>
        </p:spPr>
      </p:pic>
      <p:sp>
        <p:nvSpPr>
          <p:cNvPr id="489" name="자유형 4"/>
          <p:cNvSpPr/>
          <p:nvPr/>
        </p:nvSpPr>
        <p:spPr>
          <a:xfrm flipV="1">
            <a:off x="3071880" y="3286080"/>
            <a:ext cx="2500200" cy="1928880"/>
          </a:xfrm>
          <a:custGeom>
            <a:avLst/>
            <a:gdLst/>
            <a:ahLst/>
            <a:rect l="l" t="t" r="r" b="b"/>
            <a:pathLst>
              <a:path w="1810328" h="403321">
                <a:moveTo>
                  <a:pt x="0" y="6158"/>
                </a:moveTo>
                <a:cubicBezTo>
                  <a:pt x="265545" y="3079"/>
                  <a:pt x="531091" y="0"/>
                  <a:pt x="748146" y="24630"/>
                </a:cubicBezTo>
                <a:cubicBezTo>
                  <a:pt x="965201" y="49260"/>
                  <a:pt x="1125298" y="90825"/>
                  <a:pt x="1302328" y="153940"/>
                </a:cubicBezTo>
                <a:cubicBezTo>
                  <a:pt x="1479358" y="217055"/>
                  <a:pt x="1644843" y="310188"/>
                  <a:pt x="1810328" y="403321"/>
                </a:cubicBezTo>
              </a:path>
            </a:pathLst>
          </a:custGeom>
          <a:noFill/>
          <a:ln w="57240">
            <a:solidFill>
              <a:srgbClr val="ff0000"/>
            </a:solidFill>
            <a:prstDash val="sys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0" name="아래쪽 화살표 6"/>
          <p:cNvSpPr/>
          <p:nvPr/>
        </p:nvSpPr>
        <p:spPr>
          <a:xfrm rot="16200000">
            <a:off x="678600" y="4821480"/>
            <a:ext cx="285480" cy="642960"/>
          </a:xfrm>
          <a:prstGeom prst="downArrow">
            <a:avLst>
              <a:gd name="adj1" fmla="val 50000"/>
              <a:gd name="adj2" fmla="val 50049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Execute Python Scrip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all “Execute” method to execute py file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93" name="Picture 2" descr=""/>
          <p:cNvPicPr/>
          <p:nvPr/>
        </p:nvPicPr>
        <p:blipFill>
          <a:blip r:embed="rId1"/>
          <a:stretch/>
        </p:blipFill>
        <p:spPr>
          <a:xfrm>
            <a:off x="690480" y="1809720"/>
            <a:ext cx="7763040" cy="4762440"/>
          </a:xfrm>
          <a:prstGeom prst="rect">
            <a:avLst/>
          </a:prstGeom>
          <a:ln w="0">
            <a:noFill/>
          </a:ln>
        </p:spPr>
      </p:pic>
      <p:sp>
        <p:nvSpPr>
          <p:cNvPr id="494" name="자유형 4"/>
          <p:cNvSpPr/>
          <p:nvPr/>
        </p:nvSpPr>
        <p:spPr>
          <a:xfrm flipV="1">
            <a:off x="2347920" y="3429000"/>
            <a:ext cx="3081240" cy="1876320"/>
          </a:xfrm>
          <a:custGeom>
            <a:avLst/>
            <a:gdLst/>
            <a:ahLst/>
            <a:rect l="l" t="t" r="r" b="b"/>
            <a:pathLst>
              <a:path w="1810328" h="403321">
                <a:moveTo>
                  <a:pt x="0" y="6158"/>
                </a:moveTo>
                <a:cubicBezTo>
                  <a:pt x="265545" y="3079"/>
                  <a:pt x="531091" y="0"/>
                  <a:pt x="748146" y="24630"/>
                </a:cubicBezTo>
                <a:cubicBezTo>
                  <a:pt x="965201" y="49260"/>
                  <a:pt x="1125298" y="90825"/>
                  <a:pt x="1302328" y="153940"/>
                </a:cubicBezTo>
                <a:cubicBezTo>
                  <a:pt x="1479358" y="217055"/>
                  <a:pt x="1644843" y="310188"/>
                  <a:pt x="1810328" y="403321"/>
                </a:cubicBezTo>
              </a:path>
            </a:pathLst>
          </a:custGeom>
          <a:noFill/>
          <a:ln w="57240">
            <a:solidFill>
              <a:srgbClr val="ff0000"/>
            </a:solidFill>
            <a:prstDash val="sys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5" name="아래쪽 화살표 5"/>
          <p:cNvSpPr/>
          <p:nvPr/>
        </p:nvSpPr>
        <p:spPr>
          <a:xfrm rot="16200000">
            <a:off x="821520" y="4964400"/>
            <a:ext cx="285480" cy="642960"/>
          </a:xfrm>
          <a:prstGeom prst="downArrow">
            <a:avLst>
              <a:gd name="adj1" fmla="val 50000"/>
              <a:gd name="adj2" fmla="val 50049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Execute Python Scrip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97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ave and execute SPL scrip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98" name="Picture 2" descr=""/>
          <p:cNvPicPr/>
          <p:nvPr/>
        </p:nvPicPr>
        <p:blipFill>
          <a:blip r:embed="rId1"/>
          <a:stretch/>
        </p:blipFill>
        <p:spPr>
          <a:xfrm>
            <a:off x="1347840" y="1952640"/>
            <a:ext cx="6448320" cy="4191120"/>
          </a:xfrm>
          <a:prstGeom prst="rect">
            <a:avLst/>
          </a:prstGeom>
          <a:ln w="0">
            <a:noFill/>
          </a:ln>
        </p:spPr>
      </p:pic>
      <p:sp>
        <p:nvSpPr>
          <p:cNvPr id="499" name="아래쪽 화살표 4"/>
          <p:cNvSpPr/>
          <p:nvPr/>
        </p:nvSpPr>
        <p:spPr>
          <a:xfrm rot="16200000">
            <a:off x="821520" y="5464440"/>
            <a:ext cx="285480" cy="642960"/>
          </a:xfrm>
          <a:prstGeom prst="downArrow">
            <a:avLst>
              <a:gd name="adj1" fmla="val 50000"/>
              <a:gd name="adj2" fmla="val 50049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"/>
          <p:cNvSpPr txBox="1"/>
          <p:nvPr/>
        </p:nvSpPr>
        <p:spPr>
          <a:xfrm>
            <a:off x="0" y="2214360"/>
            <a:ext cx="9144000" cy="257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맑은 고딕"/>
              </a:rPr>
              <a:t>Call Procedure of Python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Call Procedure of Python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Use “Invoke” method with procedure name as follows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03" name="Picture 2" descr=""/>
          <p:cNvPicPr/>
          <p:nvPr/>
        </p:nvPicPr>
        <p:blipFill>
          <a:blip r:embed="rId1"/>
          <a:stretch/>
        </p:blipFill>
        <p:spPr>
          <a:xfrm>
            <a:off x="681120" y="2038320"/>
            <a:ext cx="7781760" cy="3533760"/>
          </a:xfrm>
          <a:prstGeom prst="rect">
            <a:avLst/>
          </a:prstGeom>
          <a:ln w="0">
            <a:noFill/>
          </a:ln>
        </p:spPr>
      </p:pic>
      <p:sp>
        <p:nvSpPr>
          <p:cNvPr id="504" name="자유형 4"/>
          <p:cNvSpPr/>
          <p:nvPr/>
        </p:nvSpPr>
        <p:spPr>
          <a:xfrm flipV="1">
            <a:off x="2786040" y="4143240"/>
            <a:ext cx="2928960" cy="519120"/>
          </a:xfrm>
          <a:custGeom>
            <a:avLst/>
            <a:gdLst/>
            <a:ahLst/>
            <a:rect l="l" t="t" r="r" b="b"/>
            <a:pathLst>
              <a:path w="1810328" h="403321">
                <a:moveTo>
                  <a:pt x="0" y="6158"/>
                </a:moveTo>
                <a:cubicBezTo>
                  <a:pt x="265545" y="3079"/>
                  <a:pt x="531091" y="0"/>
                  <a:pt x="748146" y="24630"/>
                </a:cubicBezTo>
                <a:cubicBezTo>
                  <a:pt x="965201" y="49260"/>
                  <a:pt x="1125298" y="90825"/>
                  <a:pt x="1302328" y="153940"/>
                </a:cubicBezTo>
                <a:cubicBezTo>
                  <a:pt x="1479358" y="217055"/>
                  <a:pt x="1644843" y="310188"/>
                  <a:pt x="1810328" y="403321"/>
                </a:cubicBezTo>
              </a:path>
            </a:pathLst>
          </a:custGeom>
          <a:noFill/>
          <a:ln w="57240">
            <a:solidFill>
              <a:srgbClr val="ff0000"/>
            </a:solidFill>
            <a:prstDash val="sys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아래쪽 화살표 5"/>
          <p:cNvSpPr/>
          <p:nvPr/>
        </p:nvSpPr>
        <p:spPr>
          <a:xfrm rot="16200000">
            <a:off x="892800" y="4321440"/>
            <a:ext cx="285480" cy="642960"/>
          </a:xfrm>
          <a:prstGeom prst="downArrow">
            <a:avLst>
              <a:gd name="adj1" fmla="val 50000"/>
              <a:gd name="adj2" fmla="val 50049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MyProc1 module in Python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07" name="Picture 2" descr=""/>
          <p:cNvPicPr/>
          <p:nvPr/>
        </p:nvPicPr>
        <p:blipFill>
          <a:blip r:embed="rId1"/>
          <a:stretch/>
        </p:blipFill>
        <p:spPr>
          <a:xfrm>
            <a:off x="2428920" y="1714680"/>
            <a:ext cx="4259160" cy="4857480"/>
          </a:xfrm>
          <a:prstGeom prst="rect">
            <a:avLst/>
          </a:prstGeom>
          <a:ln w="0">
            <a:noFill/>
          </a:ln>
        </p:spPr>
      </p:pic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Call Procedure of Python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09" name="모서리가 둥근 직사각형 4"/>
          <p:cNvSpPr/>
          <p:nvPr/>
        </p:nvSpPr>
        <p:spPr>
          <a:xfrm>
            <a:off x="2071800" y="3286080"/>
            <a:ext cx="4500360" cy="5000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Call Procedure of Python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11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ave and execute SPL scrip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12" name="Picture 2" descr=""/>
          <p:cNvPicPr/>
          <p:nvPr/>
        </p:nvPicPr>
        <p:blipFill>
          <a:blip r:embed="rId1"/>
          <a:stretch/>
        </p:blipFill>
        <p:spPr>
          <a:xfrm>
            <a:off x="1347840" y="1952640"/>
            <a:ext cx="6448320" cy="4191120"/>
          </a:xfrm>
          <a:prstGeom prst="rect">
            <a:avLst/>
          </a:prstGeom>
          <a:ln w="0">
            <a:noFill/>
          </a:ln>
        </p:spPr>
      </p:pic>
      <p:sp>
        <p:nvSpPr>
          <p:cNvPr id="513" name="아래쪽 화살표 4"/>
          <p:cNvSpPr/>
          <p:nvPr/>
        </p:nvSpPr>
        <p:spPr>
          <a:xfrm rot="16200000">
            <a:off x="821520" y="5536440"/>
            <a:ext cx="285840" cy="642960"/>
          </a:xfrm>
          <a:prstGeom prst="downArrow">
            <a:avLst>
              <a:gd name="adj1" fmla="val 50000"/>
              <a:gd name="adj2" fmla="val 49986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Topics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Python Command in SP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Execute Python Scrip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all Procedure of Python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all Function of Python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Get variable from Python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t variable to Python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Notify event from Python to SP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 txBox="1"/>
          <p:nvPr/>
        </p:nvSpPr>
        <p:spPr>
          <a:xfrm>
            <a:off x="0" y="2214360"/>
            <a:ext cx="9144000" cy="257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맑은 고딕"/>
              </a:rPr>
              <a:t>Call Function of Python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Call Function of Python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16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Use “Invoke(name, p1, p2)” method to call “Add” function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17" name="Picture 2" descr=""/>
          <p:cNvPicPr/>
          <p:nvPr/>
        </p:nvPicPr>
        <p:blipFill>
          <a:blip r:embed="rId1"/>
          <a:stretch/>
        </p:blipFill>
        <p:spPr>
          <a:xfrm>
            <a:off x="700200" y="1952640"/>
            <a:ext cx="7743600" cy="3619440"/>
          </a:xfrm>
          <a:prstGeom prst="rect">
            <a:avLst/>
          </a:prstGeom>
          <a:ln w="0">
            <a:noFill/>
          </a:ln>
        </p:spPr>
      </p:pic>
      <p:sp>
        <p:nvSpPr>
          <p:cNvPr id="518" name="자유형 4"/>
          <p:cNvSpPr/>
          <p:nvPr/>
        </p:nvSpPr>
        <p:spPr>
          <a:xfrm flipV="1">
            <a:off x="4071960" y="4071960"/>
            <a:ext cx="857160" cy="876240"/>
          </a:xfrm>
          <a:custGeom>
            <a:avLst/>
            <a:gdLst/>
            <a:ahLst/>
            <a:rect l="l" t="t" r="r" b="b"/>
            <a:pathLst>
              <a:path w="1810328" h="403321">
                <a:moveTo>
                  <a:pt x="0" y="6158"/>
                </a:moveTo>
                <a:cubicBezTo>
                  <a:pt x="265545" y="3079"/>
                  <a:pt x="531091" y="0"/>
                  <a:pt x="748146" y="24630"/>
                </a:cubicBezTo>
                <a:cubicBezTo>
                  <a:pt x="965201" y="49260"/>
                  <a:pt x="1125298" y="90825"/>
                  <a:pt x="1302328" y="153940"/>
                </a:cubicBezTo>
                <a:cubicBezTo>
                  <a:pt x="1479358" y="217055"/>
                  <a:pt x="1644843" y="310188"/>
                  <a:pt x="1810328" y="403321"/>
                </a:cubicBezTo>
              </a:path>
            </a:pathLst>
          </a:custGeom>
          <a:noFill/>
          <a:ln w="57240">
            <a:solidFill>
              <a:srgbClr val="ff0000"/>
            </a:solidFill>
            <a:prstDash val="sys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9" name="아래쪽 화살표 5"/>
          <p:cNvSpPr/>
          <p:nvPr/>
        </p:nvSpPr>
        <p:spPr>
          <a:xfrm rot="16200000">
            <a:off x="821520" y="4679280"/>
            <a:ext cx="285840" cy="642960"/>
          </a:xfrm>
          <a:prstGeom prst="downArrow">
            <a:avLst>
              <a:gd name="adj1" fmla="val 50000"/>
              <a:gd name="adj2" fmla="val 49986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Add(a,b) module in Python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21" name="Picture 2" descr=""/>
          <p:cNvPicPr/>
          <p:nvPr/>
        </p:nvPicPr>
        <p:blipFill>
          <a:blip r:embed="rId1"/>
          <a:stretch/>
        </p:blipFill>
        <p:spPr>
          <a:xfrm>
            <a:off x="2428920" y="1714680"/>
            <a:ext cx="4259160" cy="4857480"/>
          </a:xfrm>
          <a:prstGeom prst="rect">
            <a:avLst/>
          </a:prstGeom>
          <a:ln w="0">
            <a:noFill/>
          </a:ln>
        </p:spPr>
      </p:pic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Call Function of Python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23" name="모서리가 둥근 직사각형 4"/>
          <p:cNvSpPr/>
          <p:nvPr/>
        </p:nvSpPr>
        <p:spPr>
          <a:xfrm>
            <a:off x="2071800" y="2357280"/>
            <a:ext cx="4500360" cy="9288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Call Function of Python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ave and execute scrip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26" name="Picture 2" descr=""/>
          <p:cNvPicPr/>
          <p:nvPr/>
        </p:nvPicPr>
        <p:blipFill>
          <a:blip r:embed="rId1"/>
          <a:stretch/>
        </p:blipFill>
        <p:spPr>
          <a:xfrm>
            <a:off x="1347840" y="1881360"/>
            <a:ext cx="6448320" cy="4190760"/>
          </a:xfrm>
          <a:prstGeom prst="rect">
            <a:avLst/>
          </a:prstGeom>
          <a:ln w="0">
            <a:noFill/>
          </a:ln>
        </p:spPr>
      </p:pic>
      <p:sp>
        <p:nvSpPr>
          <p:cNvPr id="527" name="아래쪽 화살표 4"/>
          <p:cNvSpPr/>
          <p:nvPr/>
        </p:nvSpPr>
        <p:spPr>
          <a:xfrm rot="16200000">
            <a:off x="821520" y="4893480"/>
            <a:ext cx="285840" cy="642960"/>
          </a:xfrm>
          <a:prstGeom prst="downArrow">
            <a:avLst>
              <a:gd name="adj1" fmla="val 50000"/>
              <a:gd name="adj2" fmla="val 49986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"/>
          <p:cNvSpPr txBox="1"/>
          <p:nvPr/>
        </p:nvSpPr>
        <p:spPr>
          <a:xfrm>
            <a:off x="0" y="2214360"/>
            <a:ext cx="9144000" cy="257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맑은 고딕"/>
              </a:rPr>
              <a:t>Get variable from Python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Get variable from Python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all “GetVariable(name)” method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31" name="Picture 2" descr=""/>
          <p:cNvPicPr/>
          <p:nvPr/>
        </p:nvPicPr>
        <p:blipFill>
          <a:blip r:embed="rId1"/>
          <a:stretch/>
        </p:blipFill>
        <p:spPr>
          <a:xfrm>
            <a:off x="738360" y="1962000"/>
            <a:ext cx="7667280" cy="3610080"/>
          </a:xfrm>
          <a:prstGeom prst="rect">
            <a:avLst/>
          </a:prstGeom>
          <a:ln w="0">
            <a:noFill/>
          </a:ln>
        </p:spPr>
      </p:pic>
      <p:sp>
        <p:nvSpPr>
          <p:cNvPr id="532" name="자유형 4"/>
          <p:cNvSpPr/>
          <p:nvPr/>
        </p:nvSpPr>
        <p:spPr>
          <a:xfrm flipV="1">
            <a:off x="3214800" y="3929040"/>
            <a:ext cx="1857240" cy="590400"/>
          </a:xfrm>
          <a:custGeom>
            <a:avLst/>
            <a:gdLst/>
            <a:ahLst/>
            <a:rect l="l" t="t" r="r" b="b"/>
            <a:pathLst>
              <a:path w="1810328" h="403321">
                <a:moveTo>
                  <a:pt x="0" y="6158"/>
                </a:moveTo>
                <a:cubicBezTo>
                  <a:pt x="265545" y="3079"/>
                  <a:pt x="531091" y="0"/>
                  <a:pt x="748146" y="24630"/>
                </a:cubicBezTo>
                <a:cubicBezTo>
                  <a:pt x="965201" y="49260"/>
                  <a:pt x="1125298" y="90825"/>
                  <a:pt x="1302328" y="153940"/>
                </a:cubicBezTo>
                <a:cubicBezTo>
                  <a:pt x="1479358" y="217055"/>
                  <a:pt x="1644843" y="310188"/>
                  <a:pt x="1810328" y="403321"/>
                </a:cubicBezTo>
              </a:path>
            </a:pathLst>
          </a:custGeom>
          <a:noFill/>
          <a:ln w="57240">
            <a:solidFill>
              <a:srgbClr val="ff0000"/>
            </a:solidFill>
            <a:prstDash val="sys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3" name="아래쪽 화살표 5"/>
          <p:cNvSpPr/>
          <p:nvPr/>
        </p:nvSpPr>
        <p:spPr>
          <a:xfrm rot="16200000">
            <a:off x="892800" y="4107600"/>
            <a:ext cx="285840" cy="642960"/>
          </a:xfrm>
          <a:prstGeom prst="downArrow">
            <a:avLst>
              <a:gd name="adj1" fmla="val 50000"/>
              <a:gd name="adj2" fmla="val 49986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Variable in Python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35" name="Picture 2" descr=""/>
          <p:cNvPicPr/>
          <p:nvPr/>
        </p:nvPicPr>
        <p:blipFill>
          <a:blip r:embed="rId1"/>
          <a:stretch/>
        </p:blipFill>
        <p:spPr>
          <a:xfrm>
            <a:off x="2428920" y="1714680"/>
            <a:ext cx="4259160" cy="4857480"/>
          </a:xfrm>
          <a:prstGeom prst="rect">
            <a:avLst/>
          </a:prstGeom>
          <a:ln w="0">
            <a:noFill/>
          </a:ln>
        </p:spPr>
      </p:pic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Get variable from Python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37" name="모서리가 둥근 직사각형 4"/>
          <p:cNvSpPr/>
          <p:nvPr/>
        </p:nvSpPr>
        <p:spPr>
          <a:xfrm>
            <a:off x="2071800" y="5929200"/>
            <a:ext cx="4500360" cy="7146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Get variable from Python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ave and execute SPL scrip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40" name="Picture 2" descr=""/>
          <p:cNvPicPr/>
          <p:nvPr/>
        </p:nvPicPr>
        <p:blipFill>
          <a:blip r:embed="rId1"/>
          <a:stretch/>
        </p:blipFill>
        <p:spPr>
          <a:xfrm>
            <a:off x="1347840" y="1809720"/>
            <a:ext cx="6448320" cy="4191120"/>
          </a:xfrm>
          <a:prstGeom prst="rect">
            <a:avLst/>
          </a:prstGeom>
          <a:ln w="0">
            <a:noFill/>
          </a:ln>
        </p:spPr>
      </p:pic>
      <p:sp>
        <p:nvSpPr>
          <p:cNvPr id="541" name="아래쪽 화살표 4"/>
          <p:cNvSpPr/>
          <p:nvPr/>
        </p:nvSpPr>
        <p:spPr>
          <a:xfrm rot="16200000">
            <a:off x="821520" y="5250600"/>
            <a:ext cx="285840" cy="642960"/>
          </a:xfrm>
          <a:prstGeom prst="downArrow">
            <a:avLst>
              <a:gd name="adj1" fmla="val 50000"/>
              <a:gd name="adj2" fmla="val 49986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"/>
          <p:cNvSpPr txBox="1"/>
          <p:nvPr/>
        </p:nvSpPr>
        <p:spPr>
          <a:xfrm>
            <a:off x="0" y="2214360"/>
            <a:ext cx="9144000" cy="257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맑은 고딕"/>
              </a:rPr>
              <a:t>Set variable to Python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Set variable to Python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Use “Setvariable(name, value)” method to bind variable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45" name="Picture 2" descr=""/>
          <p:cNvPicPr/>
          <p:nvPr/>
        </p:nvPicPr>
        <p:blipFill>
          <a:blip r:embed="rId1"/>
          <a:stretch/>
        </p:blipFill>
        <p:spPr>
          <a:xfrm>
            <a:off x="685800" y="1866960"/>
            <a:ext cx="7772400" cy="3990960"/>
          </a:xfrm>
          <a:prstGeom prst="rect">
            <a:avLst/>
          </a:prstGeom>
          <a:ln w="0">
            <a:noFill/>
          </a:ln>
        </p:spPr>
      </p:pic>
      <p:sp>
        <p:nvSpPr>
          <p:cNvPr id="546" name="자유형 4"/>
          <p:cNvSpPr/>
          <p:nvPr/>
        </p:nvSpPr>
        <p:spPr>
          <a:xfrm flipV="1">
            <a:off x="3857760" y="4857840"/>
            <a:ext cx="1071360" cy="590400"/>
          </a:xfrm>
          <a:custGeom>
            <a:avLst/>
            <a:gdLst/>
            <a:ahLst/>
            <a:rect l="l" t="t" r="r" b="b"/>
            <a:pathLst>
              <a:path w="1810328" h="403321">
                <a:moveTo>
                  <a:pt x="0" y="6158"/>
                </a:moveTo>
                <a:cubicBezTo>
                  <a:pt x="265545" y="3079"/>
                  <a:pt x="531091" y="0"/>
                  <a:pt x="748146" y="24630"/>
                </a:cubicBezTo>
                <a:cubicBezTo>
                  <a:pt x="965201" y="49260"/>
                  <a:pt x="1125298" y="90825"/>
                  <a:pt x="1302328" y="153940"/>
                </a:cubicBezTo>
                <a:cubicBezTo>
                  <a:pt x="1479358" y="217055"/>
                  <a:pt x="1644843" y="310188"/>
                  <a:pt x="1810328" y="403321"/>
                </a:cubicBezTo>
              </a:path>
            </a:pathLst>
          </a:custGeom>
          <a:noFill/>
          <a:ln w="57240">
            <a:solidFill>
              <a:srgbClr val="ff0000"/>
            </a:solidFill>
            <a:prstDash val="sys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아래쪽 화살표 5"/>
          <p:cNvSpPr/>
          <p:nvPr/>
        </p:nvSpPr>
        <p:spPr>
          <a:xfrm rot="16200000">
            <a:off x="821520" y="5107680"/>
            <a:ext cx="285840" cy="642960"/>
          </a:xfrm>
          <a:prstGeom prst="downArrow">
            <a:avLst>
              <a:gd name="adj1" fmla="val 50000"/>
              <a:gd name="adj2" fmla="val 49986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 txBox="1"/>
          <p:nvPr/>
        </p:nvSpPr>
        <p:spPr>
          <a:xfrm>
            <a:off x="0" y="2214360"/>
            <a:ext cx="9144000" cy="257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맑은 고딕"/>
              </a:rPr>
              <a:t>Python Command in SPL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MyProc2() module in Python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49" name="Picture 2" descr=""/>
          <p:cNvPicPr/>
          <p:nvPr/>
        </p:nvPicPr>
        <p:blipFill>
          <a:blip r:embed="rId1"/>
          <a:stretch/>
        </p:blipFill>
        <p:spPr>
          <a:xfrm>
            <a:off x="2428920" y="1714680"/>
            <a:ext cx="4259160" cy="4857480"/>
          </a:xfrm>
          <a:prstGeom prst="rect">
            <a:avLst/>
          </a:prstGeom>
          <a:ln w="0">
            <a:noFill/>
          </a:ln>
        </p:spPr>
      </p:pic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Set variable to Python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51" name="모서리가 둥근 직사각형 4"/>
          <p:cNvSpPr/>
          <p:nvPr/>
        </p:nvSpPr>
        <p:spPr>
          <a:xfrm>
            <a:off x="2071800" y="3786120"/>
            <a:ext cx="4500360" cy="9288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Set variable to Python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53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ave and execute SPL scrip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54" name="Picture 2" descr=""/>
          <p:cNvPicPr/>
          <p:nvPr/>
        </p:nvPicPr>
        <p:blipFill>
          <a:blip r:embed="rId1"/>
          <a:stretch/>
        </p:blipFill>
        <p:spPr>
          <a:xfrm>
            <a:off x="1347840" y="1809720"/>
            <a:ext cx="6448320" cy="4191120"/>
          </a:xfrm>
          <a:prstGeom prst="rect">
            <a:avLst/>
          </a:prstGeom>
          <a:ln w="0">
            <a:noFill/>
          </a:ln>
        </p:spPr>
      </p:pic>
      <p:sp>
        <p:nvSpPr>
          <p:cNvPr id="555" name="아래쪽 화살표 4"/>
          <p:cNvSpPr/>
          <p:nvPr/>
        </p:nvSpPr>
        <p:spPr>
          <a:xfrm rot="16200000">
            <a:off x="892800" y="5107680"/>
            <a:ext cx="285840" cy="642960"/>
          </a:xfrm>
          <a:prstGeom prst="downArrow">
            <a:avLst>
              <a:gd name="adj1" fmla="val 50000"/>
              <a:gd name="adj2" fmla="val 49986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"/>
          <p:cNvSpPr txBox="1"/>
          <p:nvPr/>
        </p:nvSpPr>
        <p:spPr>
          <a:xfrm>
            <a:off x="0" y="2214360"/>
            <a:ext cx="9144000" cy="257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맑은 고딕"/>
              </a:rPr>
              <a:t>Notify event from Python to SPL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Notify event from Python to SP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58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Assign “MessagePort” instance to Python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59" name="Picture 2" descr=""/>
          <p:cNvPicPr/>
          <p:nvPr/>
        </p:nvPicPr>
        <p:blipFill>
          <a:blip r:embed="rId1"/>
          <a:stretch/>
        </p:blipFill>
        <p:spPr>
          <a:xfrm>
            <a:off x="428760" y="2085840"/>
            <a:ext cx="8286480" cy="4057920"/>
          </a:xfrm>
          <a:prstGeom prst="rect">
            <a:avLst/>
          </a:prstGeom>
          <a:ln w="0">
            <a:noFill/>
          </a:ln>
        </p:spPr>
      </p:pic>
      <p:sp>
        <p:nvSpPr>
          <p:cNvPr id="560" name="자유형 4"/>
          <p:cNvSpPr/>
          <p:nvPr/>
        </p:nvSpPr>
        <p:spPr>
          <a:xfrm flipV="1">
            <a:off x="1928880" y="4357440"/>
            <a:ext cx="5929200" cy="1519200"/>
          </a:xfrm>
          <a:custGeom>
            <a:avLst/>
            <a:gdLst/>
            <a:ahLst/>
            <a:rect l="l" t="t" r="r" b="b"/>
            <a:pathLst>
              <a:path w="1810328" h="403321">
                <a:moveTo>
                  <a:pt x="0" y="6158"/>
                </a:moveTo>
                <a:cubicBezTo>
                  <a:pt x="265545" y="3079"/>
                  <a:pt x="531091" y="0"/>
                  <a:pt x="748146" y="24630"/>
                </a:cubicBezTo>
                <a:cubicBezTo>
                  <a:pt x="965201" y="49260"/>
                  <a:pt x="1125298" y="90825"/>
                  <a:pt x="1302328" y="153940"/>
                </a:cubicBezTo>
                <a:cubicBezTo>
                  <a:pt x="1479358" y="217055"/>
                  <a:pt x="1644843" y="310188"/>
                  <a:pt x="1810328" y="403321"/>
                </a:cubicBezTo>
              </a:path>
            </a:pathLst>
          </a:custGeom>
          <a:noFill/>
          <a:ln w="57240">
            <a:solidFill>
              <a:srgbClr val="ff0000"/>
            </a:solidFill>
            <a:prstDash val="sys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1" name="아래쪽 화살표 5"/>
          <p:cNvSpPr/>
          <p:nvPr/>
        </p:nvSpPr>
        <p:spPr>
          <a:xfrm rot="16200000">
            <a:off x="321480" y="5536440"/>
            <a:ext cx="285840" cy="642960"/>
          </a:xfrm>
          <a:prstGeom prst="downArrow">
            <a:avLst>
              <a:gd name="adj1" fmla="val 50000"/>
              <a:gd name="adj2" fmla="val 49986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Notify event from Python to SP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63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all “NotufyEventToSPL” procedure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64" name="Picture 2" descr=""/>
          <p:cNvPicPr/>
          <p:nvPr/>
        </p:nvPicPr>
        <p:blipFill>
          <a:blip r:embed="rId1"/>
          <a:stretch/>
        </p:blipFill>
        <p:spPr>
          <a:xfrm>
            <a:off x="428760" y="1924200"/>
            <a:ext cx="8286480" cy="4076640"/>
          </a:xfrm>
          <a:prstGeom prst="rect">
            <a:avLst/>
          </a:prstGeom>
          <a:ln w="0">
            <a:noFill/>
          </a:ln>
        </p:spPr>
      </p:pic>
      <p:sp>
        <p:nvSpPr>
          <p:cNvPr id="565" name="자유형 4"/>
          <p:cNvSpPr/>
          <p:nvPr/>
        </p:nvSpPr>
        <p:spPr>
          <a:xfrm flipV="1">
            <a:off x="2571840" y="4500720"/>
            <a:ext cx="2286000" cy="233280"/>
          </a:xfrm>
          <a:custGeom>
            <a:avLst/>
            <a:gdLst/>
            <a:ahLst/>
            <a:rect l="l" t="t" r="r" b="b"/>
            <a:pathLst>
              <a:path w="1810328" h="403321">
                <a:moveTo>
                  <a:pt x="0" y="6158"/>
                </a:moveTo>
                <a:cubicBezTo>
                  <a:pt x="265545" y="3079"/>
                  <a:pt x="531091" y="0"/>
                  <a:pt x="748146" y="24630"/>
                </a:cubicBezTo>
                <a:cubicBezTo>
                  <a:pt x="965201" y="49260"/>
                  <a:pt x="1125298" y="90825"/>
                  <a:pt x="1302328" y="153940"/>
                </a:cubicBezTo>
                <a:cubicBezTo>
                  <a:pt x="1479358" y="217055"/>
                  <a:pt x="1644843" y="310188"/>
                  <a:pt x="1810328" y="403321"/>
                </a:cubicBezTo>
              </a:path>
            </a:pathLst>
          </a:custGeom>
          <a:noFill/>
          <a:ln w="57240">
            <a:solidFill>
              <a:srgbClr val="ff0000"/>
            </a:solidFill>
            <a:prstDash val="sys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6" name="아래쪽 화살표 5"/>
          <p:cNvSpPr/>
          <p:nvPr/>
        </p:nvSpPr>
        <p:spPr>
          <a:xfrm rot="16200000">
            <a:off x="535680" y="4393440"/>
            <a:ext cx="285840" cy="642960"/>
          </a:xfrm>
          <a:prstGeom prst="downArrow">
            <a:avLst>
              <a:gd name="adj1" fmla="val 50000"/>
              <a:gd name="adj2" fmla="val 49986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NotifyEventToSPL() module in Python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68" name="Picture 2" descr=""/>
          <p:cNvPicPr/>
          <p:nvPr/>
        </p:nvPicPr>
        <p:blipFill>
          <a:blip r:embed="rId1"/>
          <a:stretch/>
        </p:blipFill>
        <p:spPr>
          <a:xfrm>
            <a:off x="2428920" y="1714680"/>
            <a:ext cx="4259160" cy="4857480"/>
          </a:xfrm>
          <a:prstGeom prst="rect">
            <a:avLst/>
          </a:prstGeom>
          <a:ln w="0">
            <a:noFill/>
          </a:ln>
        </p:spPr>
      </p:pic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Notify event from Python to SP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70" name="모서리가 둥근 직사각형 4"/>
          <p:cNvSpPr/>
          <p:nvPr/>
        </p:nvSpPr>
        <p:spPr>
          <a:xfrm>
            <a:off x="2071800" y="4714920"/>
            <a:ext cx="5286240" cy="12142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Notify event from Python to SP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72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Add procedure template for the MessagePortHandler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73" name="Picture 2" descr=""/>
          <p:cNvPicPr/>
          <p:nvPr/>
        </p:nvPicPr>
        <p:blipFill>
          <a:blip r:embed="rId1"/>
          <a:stretch/>
        </p:blipFill>
        <p:spPr>
          <a:xfrm>
            <a:off x="447840" y="1862280"/>
            <a:ext cx="8248320" cy="4066920"/>
          </a:xfrm>
          <a:prstGeom prst="rect">
            <a:avLst/>
          </a:prstGeom>
          <a:ln w="0">
            <a:noFill/>
          </a:ln>
        </p:spPr>
      </p:pic>
      <p:sp>
        <p:nvSpPr>
          <p:cNvPr id="574" name="자유형 4"/>
          <p:cNvSpPr/>
          <p:nvPr/>
        </p:nvSpPr>
        <p:spPr>
          <a:xfrm flipV="1">
            <a:off x="2286000" y="5000760"/>
            <a:ext cx="2714760" cy="876240"/>
          </a:xfrm>
          <a:custGeom>
            <a:avLst/>
            <a:gdLst/>
            <a:ahLst/>
            <a:rect l="l" t="t" r="r" b="b"/>
            <a:pathLst>
              <a:path w="1810328" h="403321">
                <a:moveTo>
                  <a:pt x="0" y="6158"/>
                </a:moveTo>
                <a:cubicBezTo>
                  <a:pt x="265545" y="3079"/>
                  <a:pt x="531091" y="0"/>
                  <a:pt x="748146" y="24630"/>
                </a:cubicBezTo>
                <a:cubicBezTo>
                  <a:pt x="965201" y="49260"/>
                  <a:pt x="1125298" y="90825"/>
                  <a:pt x="1302328" y="153940"/>
                </a:cubicBezTo>
                <a:cubicBezTo>
                  <a:pt x="1479358" y="217055"/>
                  <a:pt x="1644843" y="310188"/>
                  <a:pt x="1810328" y="403321"/>
                </a:cubicBezTo>
              </a:path>
            </a:pathLst>
          </a:custGeom>
          <a:noFill/>
          <a:ln w="57240">
            <a:solidFill>
              <a:srgbClr val="ff0000"/>
            </a:solidFill>
            <a:prstDash val="sys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5" name="아래쪽 화살표 5"/>
          <p:cNvSpPr/>
          <p:nvPr/>
        </p:nvSpPr>
        <p:spPr>
          <a:xfrm rot="16200000">
            <a:off x="321480" y="5536440"/>
            <a:ext cx="285840" cy="642960"/>
          </a:xfrm>
          <a:prstGeom prst="downArrow">
            <a:avLst>
              <a:gd name="adj1" fmla="val 50000"/>
              <a:gd name="adj2" fmla="val 49986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Notify event from Python to SP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77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ave and execute SPL scrip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78" name="Picture 2" descr=""/>
          <p:cNvPicPr/>
          <p:nvPr/>
        </p:nvPicPr>
        <p:blipFill>
          <a:blip r:embed="rId1"/>
          <a:stretch/>
        </p:blipFill>
        <p:spPr>
          <a:xfrm>
            <a:off x="1347840" y="1881360"/>
            <a:ext cx="64483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Python Command under “Expression” tab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53" name="Picture 7" descr=""/>
          <p:cNvPicPr/>
          <p:nvPr/>
        </p:nvPicPr>
        <p:blipFill>
          <a:blip r:embed="rId1"/>
          <a:stretch/>
        </p:blipFill>
        <p:spPr>
          <a:xfrm>
            <a:off x="2214720" y="1928880"/>
            <a:ext cx="4695840" cy="4095720"/>
          </a:xfrm>
          <a:prstGeom prst="rect">
            <a:avLst/>
          </a:prstGeom>
          <a:ln w="0">
            <a:noFill/>
          </a:ln>
        </p:spPr>
      </p:pic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Python Command in SP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5" name="아래쪽 화살표 4"/>
          <p:cNvSpPr/>
          <p:nvPr/>
        </p:nvSpPr>
        <p:spPr>
          <a:xfrm rot="8464800">
            <a:off x="5456160" y="2376000"/>
            <a:ext cx="285840" cy="642960"/>
          </a:xfrm>
          <a:prstGeom prst="downArrow">
            <a:avLst>
              <a:gd name="adj1" fmla="val 50000"/>
              <a:gd name="adj2" fmla="val 49986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6" name="아래쪽 화살표 5"/>
          <p:cNvSpPr/>
          <p:nvPr/>
        </p:nvSpPr>
        <p:spPr>
          <a:xfrm rot="16200000">
            <a:off x="1964520" y="3607560"/>
            <a:ext cx="285840" cy="642960"/>
          </a:xfrm>
          <a:prstGeom prst="downArrow">
            <a:avLst>
              <a:gd name="adj1" fmla="val 50000"/>
              <a:gd name="adj2" fmla="val 49986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 txBox="1"/>
          <p:nvPr/>
        </p:nvSpPr>
        <p:spPr>
          <a:xfrm>
            <a:off x="0" y="2214360"/>
            <a:ext cx="9144000" cy="257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맑은 고딕"/>
              </a:rPr>
              <a:t>Prepare Python Sample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Prepare Python Sample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tart SPL.exe and type Python scrip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60" name="Picture 2" descr=""/>
          <p:cNvPicPr/>
          <p:nvPr/>
        </p:nvPicPr>
        <p:blipFill>
          <a:blip r:embed="rId1"/>
          <a:stretch/>
        </p:blipFill>
        <p:spPr>
          <a:xfrm>
            <a:off x="1285920" y="1785960"/>
            <a:ext cx="6078600" cy="4786200"/>
          </a:xfrm>
          <a:prstGeom prst="rect">
            <a:avLst/>
          </a:prstGeom>
          <a:ln w="0">
            <a:noFill/>
          </a:ln>
        </p:spPr>
      </p:pic>
      <p:sp>
        <p:nvSpPr>
          <p:cNvPr id="461" name="아래쪽 화살표 4"/>
          <p:cNvSpPr/>
          <p:nvPr/>
        </p:nvSpPr>
        <p:spPr>
          <a:xfrm rot="5400000">
            <a:off x="5822280" y="2464560"/>
            <a:ext cx="285840" cy="642960"/>
          </a:xfrm>
          <a:prstGeom prst="downArrow">
            <a:avLst>
              <a:gd name="adj1" fmla="val 50000"/>
              <a:gd name="adj2" fmla="val 49986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2" name="아래쪽 화살표 5"/>
          <p:cNvSpPr/>
          <p:nvPr/>
        </p:nvSpPr>
        <p:spPr>
          <a:xfrm rot="5400000">
            <a:off x="6822360" y="3321720"/>
            <a:ext cx="285840" cy="642960"/>
          </a:xfrm>
          <a:prstGeom prst="downArrow">
            <a:avLst>
              <a:gd name="adj1" fmla="val 50000"/>
              <a:gd name="adj2" fmla="val 49986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3" name="아래쪽 화살표 6"/>
          <p:cNvSpPr/>
          <p:nvPr/>
        </p:nvSpPr>
        <p:spPr>
          <a:xfrm rot="5400000">
            <a:off x="6965280" y="3893400"/>
            <a:ext cx="285840" cy="642960"/>
          </a:xfrm>
          <a:prstGeom prst="downArrow">
            <a:avLst>
              <a:gd name="adj1" fmla="val 50000"/>
              <a:gd name="adj2" fmla="val 49986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4" name="아래쪽 화살표 7"/>
          <p:cNvSpPr/>
          <p:nvPr/>
        </p:nvSpPr>
        <p:spPr>
          <a:xfrm rot="5400000">
            <a:off x="5964840" y="4607640"/>
            <a:ext cx="285840" cy="642960"/>
          </a:xfrm>
          <a:prstGeom prst="downArrow">
            <a:avLst>
              <a:gd name="adj1" fmla="val 50000"/>
              <a:gd name="adj2" fmla="val 49986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Prepare Python Sample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ample python scrip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7" name="TextBox 4"/>
          <p:cNvSpPr/>
          <p:nvPr/>
        </p:nvSpPr>
        <p:spPr>
          <a:xfrm>
            <a:off x="1896120" y="1785960"/>
            <a:ext cx="5450400" cy="45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from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datetime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import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datetime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import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time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def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Add(a,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b):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print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"This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is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a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Add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function"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print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print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return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a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+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def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MyProc1():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print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"This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is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sample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맑은 고딕"/>
              </a:rPr>
              <a:t>procedure</a:t>
            </a:r>
            <a:r>
              <a:rPr b="1" lang="ko-KR" sz="10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맑은 고딕"/>
              </a:rPr>
              <a:t>without</a:t>
            </a:r>
            <a:r>
              <a:rPr b="1" lang="ko-KR" sz="10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맑은 고딕"/>
              </a:rPr>
              <a:t>parameter"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def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MyProc2():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print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"This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is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sample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맑은 고딕"/>
              </a:rPr>
              <a:t>procedure</a:t>
            </a:r>
            <a:r>
              <a:rPr b="1" lang="ko-KR" sz="10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맑은 고딕"/>
              </a:rPr>
              <a:t>using</a:t>
            </a:r>
            <a:r>
              <a:rPr b="1" lang="ko-KR" sz="10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맑은 고딕"/>
              </a:rPr>
              <a:t>global</a:t>
            </a:r>
            <a:r>
              <a:rPr b="1" lang="ko-KR" sz="10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맑은 고딕"/>
              </a:rPr>
              <a:t>variables"</a:t>
            </a:r>
            <a:r>
              <a:rPr b="1" lang="ko-KR" sz="1000" spc="-1" strike="noStrike">
                <a:solidFill>
                  <a:srgbClr val="000000"/>
                </a:solidFill>
                <a:latin typeface="맑은 고딕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print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print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print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a1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+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def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NotifyEventToSPL():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print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'NotifyEventToSPL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called'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cnt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=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while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True: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MessagePort.Post("Count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Msg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from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Python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-&gt;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"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+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str(cnt))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cnt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=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cnt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+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time.sleep(1.0)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s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=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"HelloApps"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print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Execute Python in the SPL Editor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Press “F5” key or click “Run” icon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70" name="Picture 2" descr=""/>
          <p:cNvPicPr/>
          <p:nvPr/>
        </p:nvPicPr>
        <p:blipFill>
          <a:blip r:embed="rId1"/>
          <a:stretch/>
        </p:blipFill>
        <p:spPr>
          <a:xfrm>
            <a:off x="1285920" y="1947960"/>
            <a:ext cx="6324480" cy="3695760"/>
          </a:xfrm>
          <a:prstGeom prst="rect">
            <a:avLst/>
          </a:prstGeom>
          <a:ln w="0">
            <a:noFill/>
          </a:ln>
        </p:spPr>
      </p:pic>
      <p:sp>
        <p:nvSpPr>
          <p:cNvPr id="471" name="아래쪽 화살표 4"/>
          <p:cNvSpPr/>
          <p:nvPr/>
        </p:nvSpPr>
        <p:spPr>
          <a:xfrm rot="2628000">
            <a:off x="3039840" y="1633320"/>
            <a:ext cx="285480" cy="642960"/>
          </a:xfrm>
          <a:prstGeom prst="downArrow">
            <a:avLst>
              <a:gd name="adj1" fmla="val 50000"/>
              <a:gd name="adj2" fmla="val 50049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Execute Python in the SPL Editor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Execution resul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74" name="Picture 2" descr=""/>
          <p:cNvPicPr/>
          <p:nvPr/>
        </p:nvPicPr>
        <p:blipFill>
          <a:blip r:embed="rId1"/>
          <a:stretch/>
        </p:blipFill>
        <p:spPr>
          <a:xfrm>
            <a:off x="1347840" y="1809720"/>
            <a:ext cx="6448320" cy="4191120"/>
          </a:xfrm>
          <a:prstGeom prst="rect">
            <a:avLst/>
          </a:prstGeom>
          <a:ln w="0">
            <a:noFill/>
          </a:ln>
        </p:spPr>
      </p:pic>
      <p:sp>
        <p:nvSpPr>
          <p:cNvPr id="475" name="아래쪽 화살표 4"/>
          <p:cNvSpPr/>
          <p:nvPr/>
        </p:nvSpPr>
        <p:spPr>
          <a:xfrm rot="16200000">
            <a:off x="821520" y="5393520"/>
            <a:ext cx="285840" cy="642960"/>
          </a:xfrm>
          <a:prstGeom prst="downArrow">
            <a:avLst>
              <a:gd name="adj1" fmla="val 50000"/>
              <a:gd name="adj2" fmla="val 49986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2T01:18:26Z</dcterms:created>
  <dc:creator>yjoonkim</dc:creator>
  <dc:description/>
  <dc:language>en-US</dc:language>
  <cp:lastModifiedBy>yjoonkim</cp:lastModifiedBy>
  <dcterms:modified xsi:type="dcterms:W3CDTF">2010-03-29T11:15:55Z</dcterms:modified>
  <cp:revision>915</cp:revision>
  <dc:subject/>
  <dc:title>슬라이드 1</dc:title>
</cp:coreProperties>
</file>