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1905-FFC1-4496-8093-1FF21C1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6E10-CDD2-4211-AFD6-EF56CE1A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C460C-39BB-400E-ADBC-0466AF78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7D76-95C0-4311-A9D8-3C78044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E0FCD-CE51-4661-B159-618A414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438B-ABFF-495B-9BA0-8027499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92051-6842-4869-A9F3-4FD57341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965CF-4C47-4613-B187-356A3A4E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24FF3-9C05-4FB8-B7D8-5851E3A8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FF7C-45C9-4F2A-984F-39AF699B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92319-F82C-4665-8E8E-56B7DD7A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6F003-D926-469E-A8FA-CC833AFD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2B7EB-93FD-42F3-9C51-4595AC07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A3D6F-AB5A-45C1-9731-4833AA2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FD6C7-E9A4-4193-B372-0D54620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7D78-4AD2-48B8-9498-7BF377E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3D845-DF7F-422D-A1DB-CC5071F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5422F-D3FF-443B-B5D7-A9B5571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ED6C4-66C7-443E-BAAD-7ACA6C3D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F6FC2-5662-404D-8E7C-1880EF23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F5CD-5C7C-4A50-90AB-854DDE56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2D38B-32AB-4D1E-9072-027A59D0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C9022-C9A9-4713-A234-2241ED3D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CC70D-F4CD-420A-92C3-36FE842B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AB124-1517-4C65-A906-2EF5B216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34302-2B6B-4450-A772-F90E8CBA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ABC99-F0D8-45AF-860C-43F04DD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0C3C9-C154-4F5E-B678-6B59211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8DA6C-15E2-4ECA-8283-A21F841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B4331-A6CC-41D4-A92C-46CADF8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74306-0EC8-40A8-A2E9-F77409BD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F6C41-6852-4257-AF2B-FB0721C6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82655-2612-4972-943E-B92CC0A9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3AC-BF41-44CF-A5B7-C8AEEAD8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4AE-4779-4E0D-9F1A-6908771B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51C-6BAA-4F0C-9887-9BA15B38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85D-0EDC-4B5F-93C8-0775432C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A0C-73ED-48D2-88B9-F7613E99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0B6-C674-4D25-B175-1F59FF6C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9A8-2909-4160-8706-4E66C09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7DB-BA92-4FB5-9E4F-454DDBC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4C7-2539-49B5-80A3-2CAC227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D86-85CE-4A19-BA77-C4E0C067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DB5-979D-4CC9-999E-9023F6D6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CDA-ACF0-4ECF-ADB2-52A43105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E5A-C349-446E-B19D-C9FED2E9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D0F-F4CA-438D-B082-23093E9E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4FAC-AD7A-4B8C-BBF0-116F9A2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D3F9-9AD5-4085-A5A6-6D30E2B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27C-9EFB-439A-8B7F-F6313C45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6EE-94E3-4679-B3B4-EA7B448B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594E-73A7-459B-A444-62E7E1F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E67B-0D87-4FE5-9480-46EBD746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6E4-5BDA-4C1D-B3E8-E49C365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37C-3397-4A1E-938A-2CFB771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75F1-741E-4A66-987A-618BFF9F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EDD3-C91C-4F6D-B5D3-0D89109B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C4214-4212-4943-B2B6-F01EE6DD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A447-E9CA-4D6B-BB60-79547842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54F1-6FAB-4E64-852F-EE84C2D7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4999-E556-4A6B-9721-197A765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E49B-D1F5-45C7-8963-C1F9C6A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A652-CC59-468A-88DC-7498A2B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17BF-51D1-4D81-B326-75E7E41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CFC8-626D-4FE0-9E06-BF93219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7D91-21AC-414B-ABDE-49C5EAA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E09A3-B4D2-45B1-967C-7D9AB0A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6BB7-93DD-4AA6-B60C-7BA459F8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ED38-5E4B-47B1-B47B-35DCE538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EA3F-69A5-4C38-993F-EA95C88C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5422-FA45-4B9E-BF22-B9DF8286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F0A2-D959-4548-8832-B25CF07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2FBF-A0B5-4575-91B2-3255315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BEEDA-278B-4BE8-AB35-C3A2A4C1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7C14-D06B-4432-95F9-675A95CB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6372-369A-4B3D-AE43-744066F6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0003-74DC-4F91-A8CC-474DAC4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746A-601A-4DFD-BD4C-ECC17C1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2DD5-0C97-471F-AA54-405813D3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34A9-ABDE-4BE0-B91F-09626D74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5111-8D2A-4A34-AC92-2A75E78D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1915F-B834-45D5-A38D-816A81FC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B73D5-A106-42B8-B59E-78F05F9B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AF0B0-58E0-47EC-983A-AC568EE1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1E30-242F-4E11-BFA1-FC5163B7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B8E2-5912-4710-914E-7252E93A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A979-ADD2-4464-96E4-D68AD649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2F52-E2E4-4500-8F8F-7781CE2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2DBA4-5F6E-4A74-9D30-AB2DD8B6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D4EB-4557-4C29-A5EC-D255A8E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5F6A-00B0-4E97-986D-B381869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F2286-0BBA-4F7F-90F2-D7CE343C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F630-B215-403F-A062-C7D6C22E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31D6-98A4-4705-9389-A722173C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3E9A0-0EFD-4862-9E71-76549F4B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71567-3965-4245-B2E7-4BF104AA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D31D-ECF0-4ECD-980E-AAC0C9B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3C9C-AEA5-4CDE-A4D2-D86DB7CE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39A1-8614-4C5B-A021-AA60D78C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E9F4-A547-4F09-936E-D062973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8483E-16B6-40B4-AEE8-E34ECFC7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76CB-4F18-45A2-B4F0-CD5B00D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45B4-10B9-4704-B5F6-E24159E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6A439-F919-4979-9A69-1D6C13BD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3D3C-4215-46AE-B135-8632222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09100-68F3-47ED-9F43-44203342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52CE-6EA7-40A9-8C7F-DBCB36A8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19CC2-0DD9-475F-ACCF-D3106179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5FF-22FC-4CA1-AABF-107AD446F2A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4459-4799-4EFC-9D56-CF370116BB9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EF21-FB3C-42D2-B5D9-6872AFCB648E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920-FAF4-429E-BA2F-FDC7CC0493C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C71A-DE67-4D90-A275-FBEA43509FC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243A-2B29-4C3E-8342-D5E99630D0B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4E6-D1D9-4C14-9131-31F63E6F9A1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F6FB-7757-49BA-B01C-9944E6B608D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35D-CBA7-41B6-8371-3C29C10380A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3CEF-0AF4-44AB-88E9-072D58C4FAE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2571840" y="1571760"/>
            <a:ext cx="4352760" cy="51433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19645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4622760" y="1143000"/>
            <a:ext cx="3740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모서리가 둥근 직사각형 4"/>
          <p:cNvSpPr/>
          <p:nvPr/>
        </p:nvSpPr>
        <p:spPr>
          <a:xfrm>
            <a:off x="2857680" y="1928880"/>
            <a:ext cx="607212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4713120" y="1071720"/>
            <a:ext cx="37879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94" name="모서리가 둥근 직사각형 4"/>
          <p:cNvSpPr/>
          <p:nvPr/>
        </p:nvSpPr>
        <p:spPr>
          <a:xfrm>
            <a:off x="2857680" y="3429000"/>
            <a:ext cx="6072120" cy="25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28920" y="21002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428920" y="20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42900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2750400" y="18925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6"/>
          <p:cNvSpPr/>
          <p:nvPr/>
        </p:nvSpPr>
        <p:spPr>
          <a:xfrm rot="16200000">
            <a:off x="2750400" y="3250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227320" y="1803240"/>
            <a:ext cx="5325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Presse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HardwareIdentifi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Na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 ' / ' + p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Reaction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Pressed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HardwareIdentifi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Front bumper was 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-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ea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a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bumper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bumper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Add “/Procedure_SensorNotify:proc2”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"/>
          <a:stretch/>
        </p:blipFill>
        <p:spPr>
          <a:xfrm>
            <a:off x="2228760" y="2205000"/>
            <a:ext cx="4486320" cy="415296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764360" y="5883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아래쪽 화살표 6"/>
          <p:cNvSpPr/>
          <p:nvPr/>
        </p:nvSpPr>
        <p:spPr>
          <a:xfrm rot="5400000">
            <a:off x="5979240" y="4955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2352600" y="1833480"/>
            <a:ext cx="4438800" cy="466740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29:34Z</dcterms:modified>
  <cp:revision>966</cp:revision>
  <dc:subject/>
  <dc:title>슬라이드 1</dc:title>
</cp:coreProperties>
</file>