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01977-563C-4E7C-B1F0-6A712C7F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C258B-183E-426D-83E3-A6BAB16D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3EAC6-ABAE-4F6A-9F4F-22FC4B2B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A69B2-F2AE-4AB7-9B48-859452E8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A2998-DCBD-42CB-82EF-3FA556B0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1105F-2A85-4DC8-9857-BD74680F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D4EFC-CEB7-469A-8089-3D57C755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E0A49-ACD5-43CD-846E-94BE9F07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2F667-1820-42C1-A185-294EE4C9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332D6-F465-4621-8580-32E9FE89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BBE47-6871-4B6F-8876-636ADB3B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B5E76-ECE0-4D50-B172-55EA1024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06851-0DD4-452F-B33E-EF977D94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912D6-AD14-409E-8F98-524F7648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E764F-935B-4265-97DD-FB515D6F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43AED-D3EA-4824-BBA3-41D679D8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5903D-0CED-4278-B2FB-6FAD39CD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5BE6E-BFFF-4DC8-8D7C-7DBB3415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554F6-86D0-47FB-9E13-00B2C5AF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7C16C-FA3D-4134-8FB6-B8D76CC6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778DE-F59B-41DD-B502-F6F7962C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6FD39-CF5E-4D02-B04A-0BE66EE3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FA454-BCF8-4166-AE6D-5F903A21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F3CE8-C178-4C5F-B744-A94454F9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566A8-B5DC-4CE3-BA43-BE062D67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25B4B-C38D-4193-B2E2-39C62875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7A7F0-C74B-49D1-9A31-5CBAB677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A833C-F388-44FF-A14D-181A5D04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DF7F1-E449-4BFA-B95C-F7C63CB0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CF157-E5B7-4505-8373-407BDBAB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0F586-5890-470A-A79B-487A2F3A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8D20E-1E31-4275-88EA-7C723B28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E62EC-D7E3-46E7-85B3-4954CFE1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F634-9C09-4507-8869-E1B62024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CF5C-57D5-418D-9352-5ED295D0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8458-C748-47A5-B199-A15ADCC0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8B2C-0616-4045-86DE-183BD06D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DF4E-5C47-4921-A3A6-FBF29E15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E889-00AA-4DBA-AF50-01A19466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E074-30F5-410F-84CA-1FECE012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B5F0-5A4B-41E9-9259-71FA7698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2982-23F6-4F64-A13F-785A06E2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9B12-753D-4102-A0C6-9C7F8F2F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AD99-8727-4FC9-B4F7-25A83B50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87CF-1638-422A-86B5-1065E46C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C23B-337E-457D-A607-FF641D8F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2197-E221-4264-9B16-1799B42E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85E0-5E14-4E38-A842-744D6A04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8249-AFDA-416C-8EA3-E22C60A1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B764-422C-4558-9DFB-FBFDDEC1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5F54-5757-4342-A09B-C9F35984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D00B-5E2B-4D57-9A0E-FA45434F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D0BE-2BBA-489B-872F-A84CF950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3943-801D-4F88-96FD-DE3F8DD4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5FB6-FF4F-401B-9F2A-805610DA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9CB5-9E6A-46D1-8EF9-063F8F3A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B99E-3AF1-42B6-AE7F-AA6C2197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220C5-C8F9-4B9D-8532-1E17DDB9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F62B2-FDF8-4F1E-ABA9-4B78D832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A6E40-7BEB-4957-83CF-60A9DF1E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48F5E-D000-4253-889B-F27A498E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6CD8B-5C0C-4D14-8EF9-7BA552EF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B468B-B86C-44B8-9EFF-3F858D7E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8F407-3931-4C1E-B558-96AFEADF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E0F92-30E1-4355-A83E-EDE01D5A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580CC-F8B4-49A8-806A-68A9AA6B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80E59-A1CB-46D3-BDEB-DD6ED272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629E1-D2D1-438E-BF9C-2C87D999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8D588-91DF-4BD4-B152-F9BD29C1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658E4-409A-4AE2-8CE5-2A3980A8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33A00-7F42-4665-A2CD-6D5FEC5C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ED1A4-7246-488B-81A8-4A0EB212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819D4-0EC6-40B7-BF3F-6AE5F310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E7E38-3419-411B-8212-E3AF1FCA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9BCDE-36CA-4BFB-82A4-CE848A13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B7970-741D-4AC7-B23F-C784B441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08F7D-8507-40A5-B34F-23201D4D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007BD-C629-4AEF-83AC-9B228F98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60278-1AAB-4532-8F89-A3C80F31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B18C4-9955-41FB-8A6E-D48B102F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F7F82-F05B-4CD9-83C2-E64C473B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00D21-EEC8-489B-9E52-3F9E41D4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A9E3F-539D-48C5-A617-3D8CF283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13674-9222-473A-8DF3-9C4A1AA9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AD526-0FCE-4429-9F80-746A515B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5D9A6-9A7F-4514-9C34-765CB777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D1BD9-094F-42C7-B5F5-42277B98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95473-E283-4808-85DD-BD169FE6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69770-0602-400A-A347-89B186C0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9B0F6-B0D4-4E61-A6C9-2DA942FC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AF6B9-2143-4AFE-BA8A-D73B822E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6E526-4B6C-4F04-8776-070A6EE7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6422C-DBDF-471F-A6F2-F822C5E1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EEF02-1B57-4EA3-B10D-5548F5D6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F2D80-8642-4387-9687-CA3CC738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11B88-290B-43B8-994E-8C16E935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5351A-47D2-403D-806E-FEC1A445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37250-0F3F-42ED-842C-54DB64B9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005EB-CCB0-46CC-856B-5F266A1D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75D5B-E977-4702-87B5-78068999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DCBDA-1793-478B-8D41-552CCE46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F01BE-B74C-4930-A88C-76D2565A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2303C-4C3E-416F-B7DA-8A227732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54935-4A3B-44FF-8B38-30EDA504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50B44-8CC2-483F-A432-9BD563AB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293EC-7675-47CD-9629-A4759695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9F973-E55D-4F7C-9840-134951ED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B7117-9D83-4E4D-8198-ECE462E6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8F59-8C0F-4B2A-BFB3-60DEBAE1872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684C-B04B-4CED-8D4F-F0EDC1D681DE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178C-3E5A-4CD2-84E7-1C392A00948E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0E9C-1D81-417B-A461-55A1CA3A1B5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AEF0-31A6-45E9-AFD6-35ACB95C7902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F48C-AA85-4016-9430-B2F66E0A6D40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8915-5122-467B-B080-E1004699BF5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57A8-DC2C-44C7-9EB2-982D6A5B9CCE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B215-8109-42AE-B342-688F67CDA80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F9EA-77F9-4B00-A95B-E8956F50737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Maze Explorer with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3" name="Picture 7" descr=""/>
          <p:cNvPicPr/>
          <p:nvPr/>
        </p:nvPicPr>
        <p:blipFill>
          <a:blip r:embed="rId1"/>
          <a:stretch/>
        </p:blipFill>
        <p:spPr>
          <a:xfrm>
            <a:off x="2714760" y="1571760"/>
            <a:ext cx="4514760" cy="4971960"/>
          </a:xfrm>
          <a:prstGeom prst="rect">
            <a:avLst/>
          </a:prstGeom>
          <a:ln w="0">
            <a:noFill/>
          </a:ln>
        </p:spPr>
      </p:pic>
      <p:sp>
        <p:nvSpPr>
          <p:cNvPr id="504" name="아래쪽 화살표 5"/>
          <p:cNvSpPr/>
          <p:nvPr/>
        </p:nvSpPr>
        <p:spPr>
          <a:xfrm rot="16200000">
            <a:off x="2107440" y="2464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7" name="TextBox 3"/>
          <p:cNvSpPr/>
          <p:nvPr/>
        </p:nvSpPr>
        <p:spPr>
          <a:xfrm>
            <a:off x="2281320" y="1928880"/>
            <a:ext cx="4374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MazeExplorer(lrf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.DistanceMeasurements[355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.DistanceMeasurements[270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.DistanceMeasurements[180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) o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d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00) o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d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000) 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Turn(-3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ls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g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500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Turn(3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To(0.1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maze.p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maze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 and robot environm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3" name="Picture 8" descr=""/>
          <p:cNvPicPr/>
          <p:nvPr/>
        </p:nvPicPr>
        <p:blipFill>
          <a:blip r:embed="rId1"/>
          <a:stretch/>
        </p:blipFill>
        <p:spPr>
          <a:xfrm>
            <a:off x="2496960" y="1857240"/>
            <a:ext cx="3646800" cy="4719600"/>
          </a:xfrm>
          <a:prstGeom prst="rect">
            <a:avLst/>
          </a:prstGeom>
          <a:ln w="0">
            <a:noFill/>
          </a:ln>
        </p:spPr>
      </p:pic>
      <p:sp>
        <p:nvSpPr>
          <p:cNvPr id="514" name="아래쪽 화살표 5"/>
          <p:cNvSpPr/>
          <p:nvPr/>
        </p:nvSpPr>
        <p:spPr>
          <a:xfrm rot="16200000">
            <a:off x="1893240" y="5464800"/>
            <a:ext cx="285480" cy="6426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아래쪽 화살표 6"/>
          <p:cNvSpPr/>
          <p:nvPr/>
        </p:nvSpPr>
        <p:spPr>
          <a:xfrm rot="5400000">
            <a:off x="5822280" y="482184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아래쪽 화살표 8"/>
          <p:cNvSpPr/>
          <p:nvPr/>
        </p:nvSpPr>
        <p:spPr>
          <a:xfrm rot="5400000">
            <a:off x="6107760" y="2107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MazeExplorer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4714920" y="928800"/>
            <a:ext cx="3071880" cy="5786280"/>
          </a:xfrm>
          <a:prstGeom prst="rect">
            <a:avLst/>
          </a:prstGeom>
          <a:ln w="0">
            <a:noFill/>
          </a:ln>
        </p:spPr>
      </p:pic>
      <p:sp>
        <p:nvSpPr>
          <p:cNvPr id="520" name="아래쪽 화살표 8"/>
          <p:cNvSpPr/>
          <p:nvPr/>
        </p:nvSpPr>
        <p:spPr>
          <a:xfrm rot="16200000">
            <a:off x="4464720" y="5893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zeExplorer() modu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3" name="Picture 7" descr=""/>
          <p:cNvPicPr/>
          <p:nvPr/>
        </p:nvPicPr>
        <p:blipFill>
          <a:blip r:embed="rId1"/>
          <a:stretch/>
        </p:blipFill>
        <p:spPr>
          <a:xfrm>
            <a:off x="2714760" y="1571760"/>
            <a:ext cx="4514760" cy="4971960"/>
          </a:xfrm>
          <a:prstGeom prst="rect">
            <a:avLst/>
          </a:prstGeom>
          <a:ln w="0">
            <a:noFill/>
          </a:ln>
        </p:spPr>
      </p:pic>
      <p:sp>
        <p:nvSpPr>
          <p:cNvPr id="524" name="모서리가 둥근 직사각형 4"/>
          <p:cNvSpPr/>
          <p:nvPr/>
        </p:nvSpPr>
        <p:spPr>
          <a:xfrm>
            <a:off x="1857240" y="2428920"/>
            <a:ext cx="6072480" cy="3500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7" name="Picture 6" descr=""/>
          <p:cNvPicPr/>
          <p:nvPr/>
        </p:nvPicPr>
        <p:blipFill>
          <a:blip r:embed="rId1"/>
          <a:stretch/>
        </p:blipFill>
        <p:spPr>
          <a:xfrm>
            <a:off x="2500200" y="2071800"/>
            <a:ext cx="42865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428920" y="1957320"/>
            <a:ext cx="42861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2857680" y="2238480"/>
            <a:ext cx="31431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2357280" y="2028960"/>
            <a:ext cx="42865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General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solution for the Maze Miss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Go along the left wall or right wal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4" name="직사각형 3"/>
          <p:cNvSpPr/>
          <p:nvPr/>
        </p:nvSpPr>
        <p:spPr>
          <a:xfrm>
            <a:off x="2786040" y="2500200"/>
            <a:ext cx="3571920" cy="31435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직선 연결선 5"/>
          <p:cNvSpPr/>
          <p:nvPr/>
        </p:nvSpPr>
        <p:spPr>
          <a:xfrm>
            <a:off x="2786040" y="3929040"/>
            <a:ext cx="100008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직선 연결선 6"/>
          <p:cNvSpPr/>
          <p:nvPr/>
        </p:nvSpPr>
        <p:spPr>
          <a:xfrm>
            <a:off x="5000760" y="2500200"/>
            <a:ext cx="0" cy="7146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직선 연결선 10"/>
          <p:cNvSpPr/>
          <p:nvPr/>
        </p:nvSpPr>
        <p:spPr>
          <a:xfrm flipH="1">
            <a:off x="5643720" y="4429080"/>
            <a:ext cx="71424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직선 연결선 13"/>
          <p:cNvSpPr/>
          <p:nvPr/>
        </p:nvSpPr>
        <p:spPr>
          <a:xfrm flipV="1">
            <a:off x="4500720" y="5143680"/>
            <a:ext cx="0" cy="4903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직선 연결선 16"/>
          <p:cNvSpPr/>
          <p:nvPr/>
        </p:nvSpPr>
        <p:spPr>
          <a:xfrm>
            <a:off x="3071880" y="4286160"/>
            <a:ext cx="0" cy="71460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직선 연결선 17"/>
          <p:cNvSpPr/>
          <p:nvPr/>
        </p:nvSpPr>
        <p:spPr>
          <a:xfrm>
            <a:off x="3071880" y="2786040"/>
            <a:ext cx="0" cy="71424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직선 연결선 18"/>
          <p:cNvSpPr/>
          <p:nvPr/>
        </p:nvSpPr>
        <p:spPr>
          <a:xfrm flipH="1">
            <a:off x="3214800" y="4071960"/>
            <a:ext cx="490320" cy="9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직선 연결선 20"/>
          <p:cNvSpPr/>
          <p:nvPr/>
        </p:nvSpPr>
        <p:spPr>
          <a:xfrm flipH="1">
            <a:off x="3642840" y="2642400"/>
            <a:ext cx="490680" cy="9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직선 연결선 21"/>
          <p:cNvSpPr/>
          <p:nvPr/>
        </p:nvSpPr>
        <p:spPr>
          <a:xfrm flipH="1">
            <a:off x="3223800" y="3704400"/>
            <a:ext cx="490680" cy="9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직선 연결선 22"/>
          <p:cNvSpPr/>
          <p:nvPr/>
        </p:nvSpPr>
        <p:spPr>
          <a:xfrm flipH="1">
            <a:off x="3928680" y="3786120"/>
            <a:ext cx="9720" cy="2761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직선 연결선 24"/>
          <p:cNvSpPr/>
          <p:nvPr/>
        </p:nvSpPr>
        <p:spPr>
          <a:xfrm>
            <a:off x="4786200" y="2643120"/>
            <a:ext cx="0" cy="71460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직선 연결선 25"/>
          <p:cNvSpPr/>
          <p:nvPr/>
        </p:nvSpPr>
        <p:spPr>
          <a:xfrm>
            <a:off x="5214960" y="2643120"/>
            <a:ext cx="0" cy="71460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직선 연결선 26"/>
          <p:cNvSpPr/>
          <p:nvPr/>
        </p:nvSpPr>
        <p:spPr>
          <a:xfrm flipH="1" flipV="1">
            <a:off x="4929120" y="3490920"/>
            <a:ext cx="214560" cy="9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eck distances against for the left side wall and front wal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0" name="직사각형 3"/>
          <p:cNvSpPr/>
          <p:nvPr/>
        </p:nvSpPr>
        <p:spPr>
          <a:xfrm>
            <a:off x="2571840" y="2643120"/>
            <a:ext cx="142920" cy="292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직사각형 4"/>
          <p:cNvSpPr/>
          <p:nvPr/>
        </p:nvSpPr>
        <p:spPr>
          <a:xfrm>
            <a:off x="2786040" y="2357280"/>
            <a:ext cx="3276720" cy="204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모서리가 둥근 직사각형 5"/>
          <p:cNvSpPr/>
          <p:nvPr/>
        </p:nvSpPr>
        <p:spPr>
          <a:xfrm>
            <a:off x="4429080" y="4165560"/>
            <a:ext cx="714600" cy="1143000"/>
          </a:xfrm>
          <a:custGeom>
            <a:avLst/>
            <a:gdLst>
              <a:gd name="textAreaLeft" fmla="*/ 34560 w 714600"/>
              <a:gd name="textAreaRight" fmla="*/ 680040 w 714600"/>
              <a:gd name="textAreaTop" fmla="*/ 34560 h 1143000"/>
              <a:gd name="textAreaBottom" fmla="*/ 1108440 h 1143000"/>
            </a:gdLst>
            <a:ahLst/>
            <a:rect l="textAreaLeft" t="textAreaTop" r="textAreaRight" b="textAreaBottom"/>
            <a:pathLst>
              <a:path w="21600" h="34543">
                <a:moveTo>
                  <a:pt x="3600" y="0"/>
                </a:moveTo>
                <a:arcTo wR="3600" hR="3600" stAng="16200000" swAng="-5400000"/>
                <a:lnTo>
                  <a:pt x="0" y="30943"/>
                </a:lnTo>
                <a:arcTo wR="3600" hR="3600" stAng="10800000" swAng="-5400000"/>
                <a:lnTo>
                  <a:pt x="18000" y="34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73" name="직선 화살표 연결선 9"/>
          <p:cNvCxnSpPr/>
          <p:nvPr/>
        </p:nvCxnSpPr>
        <p:spPr>
          <a:xfrm flipH="1" flipV="1">
            <a:off x="4071600" y="4451040"/>
            <a:ext cx="357840" cy="216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cxnSp>
        <p:nvCxnSpPr>
          <p:cNvPr id="474" name="직선 화살표 연결선 10"/>
          <p:cNvCxnSpPr/>
          <p:nvPr/>
        </p:nvCxnSpPr>
        <p:spPr>
          <a:xfrm flipH="1" flipV="1">
            <a:off x="4785480" y="3521880"/>
            <a:ext cx="10440" cy="65484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cxnSp>
        <p:nvCxnSpPr>
          <p:cNvPr id="475" name="직선 화살표 연결선 12"/>
          <p:cNvCxnSpPr/>
          <p:nvPr/>
        </p:nvCxnSpPr>
        <p:spPr>
          <a:xfrm flipH="1" flipV="1">
            <a:off x="4123800" y="3858840"/>
            <a:ext cx="377280" cy="37872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476" name="TextBox 15"/>
          <p:cNvSpPr/>
          <p:nvPr/>
        </p:nvSpPr>
        <p:spPr>
          <a:xfrm>
            <a:off x="1922040" y="385776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4136760" y="185724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TextBox 17"/>
          <p:cNvSpPr/>
          <p:nvPr/>
        </p:nvSpPr>
        <p:spPr>
          <a:xfrm>
            <a:off x="4860000" y="3000240"/>
            <a:ext cx="189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18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TextBox 18"/>
          <p:cNvSpPr/>
          <p:nvPr/>
        </p:nvSpPr>
        <p:spPr>
          <a:xfrm>
            <a:off x="3143160" y="3427560"/>
            <a:ext cx="157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27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TextBox 19"/>
          <p:cNvSpPr/>
          <p:nvPr/>
        </p:nvSpPr>
        <p:spPr>
          <a:xfrm>
            <a:off x="3214800" y="4308480"/>
            <a:ext cx="121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35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자유형 20"/>
          <p:cNvSpPr/>
          <p:nvPr/>
        </p:nvSpPr>
        <p:spPr>
          <a:xfrm rot="17992800">
            <a:off x="5831280" y="4331520"/>
            <a:ext cx="1052640" cy="54936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c0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TextBox 21"/>
          <p:cNvSpPr/>
          <p:nvPr/>
        </p:nvSpPr>
        <p:spPr>
          <a:xfrm>
            <a:off x="6252840" y="457200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Turn right 30 degre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urn right slightly (about 30 degrees) for the left and front wall detection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f 18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s less than 1000 millimeter, turn right 30 degrees (-30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f 27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s less than 500 millimeter, turn right 30 degrees (-30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f 35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s less than 200 millimeter, turn right 30 degrees (-30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eck open space on the left sid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7" name="직사각형 3"/>
          <p:cNvSpPr/>
          <p:nvPr/>
        </p:nvSpPr>
        <p:spPr>
          <a:xfrm>
            <a:off x="3071880" y="2428920"/>
            <a:ext cx="214200" cy="3000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직사각형 4"/>
          <p:cNvSpPr/>
          <p:nvPr/>
        </p:nvSpPr>
        <p:spPr>
          <a:xfrm>
            <a:off x="3286080" y="3786120"/>
            <a:ext cx="135720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모서리가 둥근 직사각형 5"/>
          <p:cNvSpPr/>
          <p:nvPr/>
        </p:nvSpPr>
        <p:spPr>
          <a:xfrm>
            <a:off x="4214880" y="4286160"/>
            <a:ext cx="1357200" cy="7146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90" name="직선 화살표 연결선 9"/>
          <p:cNvCxnSpPr/>
          <p:nvPr/>
        </p:nvCxnSpPr>
        <p:spPr>
          <a:xfrm flipV="1">
            <a:off x="5285160" y="3357360"/>
            <a:ext cx="2520" cy="93096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491" name="TextBox 15"/>
          <p:cNvSpPr/>
          <p:nvPr/>
        </p:nvSpPr>
        <p:spPr>
          <a:xfrm>
            <a:off x="2257200" y="371484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TextBox 19"/>
          <p:cNvSpPr/>
          <p:nvPr/>
        </p:nvSpPr>
        <p:spPr>
          <a:xfrm>
            <a:off x="5429160" y="3191040"/>
            <a:ext cx="121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35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자유형 20"/>
          <p:cNvSpPr/>
          <p:nvPr/>
        </p:nvSpPr>
        <p:spPr>
          <a:xfrm flipV="1" rot="14829000">
            <a:off x="5729040" y="2601720"/>
            <a:ext cx="801720" cy="40824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c0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TextBox 21"/>
          <p:cNvSpPr/>
          <p:nvPr/>
        </p:nvSpPr>
        <p:spPr>
          <a:xfrm>
            <a:off x="6157800" y="20001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Turn left 30 degre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eck open space on the left sid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f 35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s greater than 1500 millimeter, turn left 30 degrees (30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seudo code for Maze Miss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9" name="Picture 5" descr=""/>
          <p:cNvPicPr/>
          <p:nvPr/>
        </p:nvPicPr>
        <p:blipFill>
          <a:blip r:embed="rId1"/>
          <a:stretch/>
        </p:blipFill>
        <p:spPr>
          <a:xfrm>
            <a:off x="2781360" y="1928880"/>
            <a:ext cx="3581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41:59Z</dcterms:modified>
  <cp:revision>976</cp:revision>
  <dc:subject/>
  <dc:title>슬라이드 1</dc:title>
</cp:coreProperties>
</file>