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74A32-1339-4357-ACC1-60D00D83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F66AE-68C5-4090-A070-B046441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26C54-D797-421B-8240-41340D75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238B-AA35-4B68-82B5-C8BC573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4213-94FA-4040-80E8-314015E5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24E5C-F09F-4819-813E-1499DAB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699B8-EEAF-40D3-84F7-4AA0EED0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7B822-DB5B-44C7-B82A-EFC0F755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B905C-22F8-40BE-AEEB-C013789C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BC370-1036-4A7C-9D10-0252D967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0C5AB-EE57-4078-A595-5DF2DF06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CB788-EF0A-4D6C-B24C-6D9580B7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DC741-99EE-46F1-BF7E-D599E0A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27578-8DE1-4D05-B02C-CC62E689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63215-BB3D-44A0-968C-BCF8DFC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1D942-792F-40ED-9A0A-71E0A813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FC8AB-DF51-4D7A-92B1-F8E8D306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74722-46C0-49D6-A64C-20261BB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449C3-320A-4277-B63F-FCEE65B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D56B6-AD20-45C1-AA77-F28037D6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7340E-85A7-4D43-948C-F6E659DC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9D6E8-6BC7-417A-8CFF-4751D3A8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0FF7B-B717-4581-A337-179A9C56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C485F-787C-4C65-BA66-6E6DE21E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E8B40-7881-4AAD-9FA6-5A7221AD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85815-FCE9-4AE6-8D7D-89E99A5E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A9588-2190-4F6C-8F18-1BF61C5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1972F-FE8C-4F91-A774-3B5B1227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52F0B-C952-4407-B1EF-25F7AFE8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7D178-0752-405A-94DE-BDE742A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B536C-CE59-422E-9BDF-46E2E90F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7AA1A-6165-4B76-BF01-104C46C8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8E40C-2FC1-4C71-8851-B624F870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8CA-6571-401F-BABD-B4751D40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6EA-51B9-492C-9904-EE8F94FA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9C6-0739-4063-8856-43DA6817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803-57D9-4F99-8801-842319A8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77B-054C-4867-AED4-2AA675F8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AC6-7F91-4CC2-ACEC-332581B5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A6D-A5DD-4F9E-9408-6C1CFB81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66B-0385-4D50-A71F-62EC493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EA9-E03C-4FAF-9CD2-270EA686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82A-02DE-4F86-9B56-FA3A7E6C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E3C-6A2D-4C42-B084-4447D1FE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7DD-24BB-476E-BC6D-CE0B8147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A60E-1F9D-4646-A141-14FD31E6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3534-E0A4-4248-A13E-1CEBF334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FDA3-3461-4825-97B9-5C42648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819B-CEA4-41A0-BFE7-BEBB5A26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D946-8359-4C26-9253-EB036069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8B95-E575-4FC6-BDDD-AE44551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1358-2BA0-481F-AE8B-6D2A964F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06AD-C555-4D47-90BC-94E75E36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46B5-FDD2-49C5-AEB0-9FBE6D19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A33F-FF71-4176-A082-CC121FE7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8593-E389-4E42-B1FA-BF310175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E674-CD16-4EDE-8B96-71ECAF6F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25AD-50AB-48D6-9B10-04A6E8B3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491F-5C53-4A38-B201-C1854862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D4C7-9CFB-441B-B201-822B4586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8422-BC82-4FB9-92DE-0932457F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6A19-48B4-4D30-946C-22252144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F197-5B6F-42C4-A4B8-14FED5E0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802A-C0AA-405A-828E-D00A0DC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F25C-BE80-4BAA-AE2B-0593147B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0482-F99B-48E5-948D-101A2878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9B5A-4324-4132-9501-D7FC211D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42B2-6E0F-4D34-BAA7-D240FAE8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FA9E-1292-42AD-8B80-EE1777D9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8499-ED7C-4AE3-84C1-CE3A52DC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63C8-E2B3-4868-95CE-A299EDA0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91D4-F68C-4249-9731-DCF77F40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BE90-C20B-4E89-8725-45B5CA90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9DDA-78B7-40D7-BAC1-A70D71BE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16B6-830B-4D09-8441-7EF6A250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48531-09D5-4664-93A6-62718ABD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FFA6-2F28-4BAF-9801-EBCC0B90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06454-CB75-4FDA-9224-3420C42D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94D0-2B3C-469A-BD0E-88897590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5259-56A9-4742-8B17-4C9E0F19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04E6-7603-401E-B741-2D40DFE3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6AA3-E6F5-439C-A985-33E0AF35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6A13E-2677-4833-952F-CB2A02B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3A9A0-FA12-4115-938A-8CC02263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1880-4B91-4F74-BB36-7BE2120B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C424E-0E80-44C4-B386-67D128E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CFB21-3E4C-441B-B005-17FFC111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ECBB-9ECD-4981-AAE9-5B283677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5016-50F9-4F91-A7E2-E7B3123F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6EF8-B7D5-4CE6-B52F-4D095E1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BD416-37FD-441C-9600-E7770CA2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48EE-C11F-462F-BF45-5B69301C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95EF1-FF9F-433B-8BC2-1974E9B9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55CAF-AFAC-4BCD-BA15-B7F86834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85EB-ED77-465E-8257-C9864C1C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B7F3-8202-4E1A-9C1B-CA2E4D6B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BE8D5-266F-49AB-8A88-A08285FA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064F9-9F51-4741-96B1-4859BDC2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551F8-2E34-4A68-82D1-97D2F4EB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20B5F-5300-4D36-BDBB-5A99CCE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3180F-C8EA-406C-85AB-F848CC7E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D8A9B-19CE-4EBA-84AD-2F01CE23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5F9B4-0067-4DC6-9B9E-945E6522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2B47-FA49-48F0-B401-F92AC79B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845D-9693-4C2B-941A-83B95057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0A4CF-3E50-4731-9DAA-2B154A96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0572B-494F-4FCC-A95C-35617CA4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6B3E7-B847-460C-BC25-2F50B5B2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B9AC-A9A9-4E2A-B515-976994CE050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2B8B-A970-4033-B126-F1B6B2D4461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80FF-4F40-42F8-8EDD-D85CB8E470C0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4281-6BF7-40F7-9DC9-2D0D7A4035D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293C-B89D-44E8-AF7D-F285B3C2D0A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190C-2B36-4013-9A9C-B45CBB48C1D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31BB-7DC0-47EC-8930-430934AD335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0F39-DEE7-41AA-936D-2FB44311199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7C54-DB1D-408A-8EA0-4B54FE31BBE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0799-4EBF-408A-8437-54C696C7B47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the instance of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633240" y="1981080"/>
            <a:ext cx="7877520" cy="4305600"/>
          </a:xfrm>
          <a:prstGeom prst="rect">
            <a:avLst/>
          </a:prstGeom>
          <a:ln w="0">
            <a:noFill/>
          </a:ln>
        </p:spPr>
      </p:pic>
      <p:sp>
        <p:nvSpPr>
          <p:cNvPr id="473" name="자유형 4"/>
          <p:cNvSpPr/>
          <p:nvPr/>
        </p:nvSpPr>
        <p:spPr>
          <a:xfrm flipV="1">
            <a:off x="3786120" y="5714280"/>
            <a:ext cx="1500120" cy="142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아래쪽 화살표 6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아래쪽 화살표 7"/>
          <p:cNvSpPr/>
          <p:nvPr/>
        </p:nvSpPr>
        <p:spPr>
          <a:xfrm rot="1502400">
            <a:off x="3050640" y="24591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628560" y="1714680"/>
            <a:ext cx="7886880" cy="4324320"/>
          </a:xfrm>
          <a:prstGeom prst="rect">
            <a:avLst/>
          </a:prstGeom>
          <a:ln w="0">
            <a:noFill/>
          </a:ln>
        </p:spPr>
      </p:pic>
      <p:sp>
        <p:nvSpPr>
          <p:cNvPr id="479" name="자유형 4"/>
          <p:cNvSpPr/>
          <p:nvPr/>
        </p:nvSpPr>
        <p:spPr>
          <a:xfrm>
            <a:off x="3857760" y="5038560"/>
            <a:ext cx="500040" cy="5716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아래쪽 화살표 5"/>
          <p:cNvSpPr/>
          <p:nvPr/>
        </p:nvSpPr>
        <p:spPr>
          <a:xfrm rot="16200000">
            <a:off x="749880" y="4788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(left, right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2571840" y="4143240"/>
            <a:ext cx="500040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2571840" y="207180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DrivePatter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2376360" y="1900080"/>
            <a:ext cx="43912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Patter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95" name="모서리가 둥근 직사각형 4"/>
          <p:cNvSpPr/>
          <p:nvPr/>
        </p:nvSpPr>
        <p:spPr>
          <a:xfrm>
            <a:off x="2571840" y="4929120"/>
            <a:ext cx="50004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Positio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419200" y="1857240"/>
            <a:ext cx="4305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Positio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507" name="모서리가 둥근 직사각형 4"/>
          <p:cNvSpPr/>
          <p:nvPr/>
        </p:nvSpPr>
        <p:spPr>
          <a:xfrm>
            <a:off x="2571840" y="2643120"/>
            <a:ext cx="500040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442908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643200" y="1000080"/>
            <a:ext cx="4991040" cy="56577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035880" y="18216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3036240" y="367884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아래쪽 화살표 6"/>
          <p:cNvSpPr/>
          <p:nvPr/>
        </p:nvSpPr>
        <p:spPr>
          <a:xfrm rot="16200000">
            <a:off x="3035880" y="467928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2359080" y="1928880"/>
            <a:ext cx="4875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Positio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Z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Patter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Patter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1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Driv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driv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2386080" y="2852640"/>
            <a:ext cx="4371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imulation environment and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2371680" y="2100240"/>
            <a:ext cx="4400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23Z</dcterms:modified>
  <cp:revision>928</cp:revision>
  <dc:subject/>
  <dc:title>슬라이드 1</dc:title>
</cp:coreProperties>
</file>