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151A2-3801-4872-9D37-F3B4E9E1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F45CD-8160-4635-8375-9366EA50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EAB79-20F4-4511-86D0-C116F798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AD277-4351-4632-A66E-6D627864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D0C39-8B0C-4FCF-AA3A-AD215633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D8A5B-7A28-4748-AC3A-965FB846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75284-E63C-4FBB-B3E1-7CCBB588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127B9-6C52-45DB-BB2B-A52B0636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058A5-39B5-4F8F-827D-86676CE2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FBC6F-F941-48E5-8237-2A7D9FB1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61A05-6FC4-4301-8B65-21DE4583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E94FF-ED20-49D1-B4FE-4A8BDF98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9E690-6B6E-4B59-8EA9-C882B846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B030E-7944-479A-9998-FEC9F1CA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98FDF-1AEB-4041-BA93-C46EB264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23519-D8ED-4554-B650-8DB6C87A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A2A84-105F-4BDF-92AD-7E4D6F92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DB38B-436F-4C73-983E-5709977D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B6492-F910-4E92-8572-527163EA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A121D-096F-4004-989B-04FCB6A0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E8CBC-C367-4250-9848-38C4C319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9B1A2-ABC5-4C7D-A570-6872FD61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3C7EB-9C20-4CEC-8336-CB3AF572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3D16B-A5D5-4D76-9655-6CA74816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4D535-D05F-4CBC-A394-D41FE3CA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BE47D-53E0-4664-BE9F-4B37E2BA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1CC55-03A3-43DA-9169-D59A61A3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D508B-081E-4FD6-ABC3-2DE35728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DFBD3-3AB3-4938-8B23-BA31ABB1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67182-046C-45C4-98DE-9B59F2C4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8912A-4444-4E2C-85F4-1EF352E9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A9E0E-1DF7-49D5-831C-71734EDF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40908-CEF0-4416-9B99-F26525E6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A7A-81C7-42AF-92FC-384B7BF2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921B-78ED-4941-9B71-9AD30F63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CA8-A7B5-4F19-A419-C37EE1BF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0CD1-A691-429E-AB25-3B328161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D6C-C9AB-47CC-A7C9-FCA94353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4BC-CA22-455C-8B7B-06958046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1B3-5AE0-4682-ACB4-E5DABA8B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F1A-C0C0-4D8E-B098-641FE486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C3F-906D-4B3B-BEB4-0DBC85F3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48B-2DF1-433E-A737-406B7F19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0EB-7173-4A61-A30E-CECD29B8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640-72F8-4C28-9672-C74D4EFB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1B29-D7E1-4DE0-A00E-17494AF6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6D21-FE7D-4461-B0AE-B28B080A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EEE6-00AD-4B75-954A-C436CCB5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39AE-F465-4413-B691-8879F2A8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4DC6-4E90-4164-993D-0A0AAB6B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5102-7DA7-425F-9160-DBB1322B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5B9B-B7B4-4579-888D-53D9D62B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B19A-B4B0-4C07-B521-C3855A2F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CDC5-6EB4-4CC4-A682-C6730A11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7D47-05A9-41DE-B5EE-6569EABC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816A-5333-4B4E-AB02-215CA265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F53B-8715-4AB7-909E-74B00AB3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D2F1D-5A94-43C7-A569-DF2261B0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B0B3-E7E0-4C59-9EAE-6308916B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C64ED-FE91-47A9-9E8F-2313E680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10141-4780-4D9F-96E4-60F07F75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10A5B-987D-4DB0-961C-211FBB3E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2833-293E-4084-8A8A-40E77881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F27EF-571A-4C7C-A4CA-FCA7D479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BEBA-4744-400C-B706-F463C1DB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94FED-E729-4040-A363-5A2E57D3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8490B-2445-4AB6-AD90-84085856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91C6F-8736-43C7-B934-7A5B669B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43171-876B-4710-9EFF-362D3A3B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93063-ED42-478F-B86B-2F7E2757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7E65F-3B3C-42C7-A486-C745543F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863A2-9148-49B8-AF12-F8B7636D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9ECBB-37C2-440C-A8FB-49A48755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99325-4EBD-4D44-A73D-7A859C1B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7218A-9317-4E77-B9C8-9E85EEA0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80433-F1C7-420C-875D-D6473862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8E5FF-A8B2-4B73-9737-8588EF14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8DC72-DEF8-4C89-9857-ED098E1C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AEAAA-94FC-4BB0-AE54-A50D9DD9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27095-F349-46EC-A4F9-8109FC09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4BA13-B4DD-4696-9F30-6EBEB6B2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A0E88-3F5E-4C4B-8F4B-F59313A8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A91CA-E645-4FA9-A665-5F131579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056C7-1BE8-4CFA-B2A0-DB72C242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DF5DE-D5CC-4E3E-9B06-F8D3309D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D920A-7313-456F-BC68-945B4B3D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BC415-59EA-418F-9C4A-C80D9BFF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1ADEC-F18A-4AFD-8E9E-D08E986B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5591A-2D6A-4B1C-A243-066F7472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21F7C-2250-4B06-B44C-BE988439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9A24B-C226-41F5-91B6-3B02139A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179CD-FA2D-49CE-B47D-CF54377D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8A6B8-173E-4D44-BC50-DFD4C0B7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3587D-00CB-421D-B683-2FE7AD87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6BCAC-7681-41CF-8E13-1DA55072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2A4C6-99B1-4172-A253-429B2C94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6E9A7-4F39-4E29-857B-94483912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36E53-D8ED-48CF-BCA1-25AAB54D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5815E-07C1-422C-91C3-B02014BA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BFA35-7AFE-4480-8AC4-64DD2269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7D814-FAE2-40AD-9105-A34FDA4E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CF12D-6600-4059-8C92-FB055CF0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2C407-8C41-47D2-A8C1-015EC957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81458-F7FF-4CB4-9497-9DBD5E19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A804D-A93E-416E-8F5D-0ABDD24B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E0F1B-412C-458A-8DA0-BCE3034E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B1F81-8C04-42B5-901D-E091DB4C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E2820-764C-4AE9-9AF4-2A97709B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526F-E1F3-43E7-941B-6AD603D00E4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7ACC-2249-4730-A722-A96441AE197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38A6-3A43-4333-AF8E-0346215D78BD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5A33-A21F-4A30-A23C-A7B3D96661C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8402-2172-46FE-9B57-AE8532F2F0F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D1E2-AB16-46DA-A778-9C751BA0E3C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589C-FDAD-497A-A4C9-8D0379C42C6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0CCC-5E96-48E5-9EF1-E51AF37A4D6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0B33-886B-41D6-AF98-336690C80A4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9F36-8A36-484F-80C4-73B53CEDD66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LRF Sensor Dete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ke a robot move with 0.3 and 0.3 pow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5" name="Picture 8" descr=""/>
          <p:cNvPicPr/>
          <p:nvPr/>
        </p:nvPicPr>
        <p:blipFill>
          <a:blip r:embed="rId1"/>
          <a:stretch/>
        </p:blipFill>
        <p:spPr>
          <a:xfrm>
            <a:off x="2643120" y="1643040"/>
            <a:ext cx="3935520" cy="4929120"/>
          </a:xfrm>
          <a:prstGeom prst="rect">
            <a:avLst/>
          </a:prstGeom>
          <a:ln w="0">
            <a:noFill/>
          </a:ln>
        </p:spPr>
      </p:pic>
      <p:sp>
        <p:nvSpPr>
          <p:cNvPr id="476" name="아래쪽 화살표 8"/>
          <p:cNvSpPr/>
          <p:nvPr/>
        </p:nvSpPr>
        <p:spPr>
          <a:xfrm rot="16200000">
            <a:off x="2107440" y="610740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and “lrf1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CheckLRF”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9" name="Picture 7" descr=""/>
          <p:cNvPicPr/>
          <p:nvPr/>
        </p:nvPicPr>
        <p:blipFill>
          <a:blip r:embed="rId1"/>
          <a:stretch/>
        </p:blipFill>
        <p:spPr>
          <a:xfrm>
            <a:off x="4714920" y="1071720"/>
            <a:ext cx="3530520" cy="5362560"/>
          </a:xfrm>
          <a:prstGeom prst="rect">
            <a:avLst/>
          </a:prstGeom>
          <a:ln w="0">
            <a:noFill/>
          </a:ln>
        </p:spPr>
      </p:pic>
      <p:sp>
        <p:nvSpPr>
          <p:cNvPr id="480" name="아래쪽 화살표 7"/>
          <p:cNvSpPr/>
          <p:nvPr/>
        </p:nvSpPr>
        <p:spPr>
          <a:xfrm rot="16200000">
            <a:off x="4107600" y="5607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LRF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3" name="Picture 7" descr=""/>
          <p:cNvPicPr/>
          <p:nvPr/>
        </p:nvPicPr>
        <p:blipFill>
          <a:blip r:embed="rId1"/>
          <a:stretch/>
        </p:blipFill>
        <p:spPr>
          <a:xfrm>
            <a:off x="1928880" y="1714680"/>
            <a:ext cx="5010120" cy="4476600"/>
          </a:xfrm>
          <a:prstGeom prst="rect">
            <a:avLst/>
          </a:prstGeom>
          <a:ln w="0">
            <a:noFill/>
          </a:ln>
        </p:spPr>
      </p:pic>
      <p:sp>
        <p:nvSpPr>
          <p:cNvPr id="484" name="모서리가 둥근 직사각형 4"/>
          <p:cNvSpPr/>
          <p:nvPr/>
        </p:nvSpPr>
        <p:spPr>
          <a:xfrm>
            <a:off x="1500120" y="2643120"/>
            <a:ext cx="6072120" cy="1857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7" name="Picture 5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6448320" cy="4190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6" descr=""/>
          <p:cNvPicPr/>
          <p:nvPr/>
        </p:nvPicPr>
        <p:blipFill>
          <a:blip r:embed="rId2"/>
          <a:stretch/>
        </p:blipFill>
        <p:spPr>
          <a:xfrm>
            <a:off x="4357800" y="27860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istance detection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through lrf sensor even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Options of LRF Senso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3071880" y="1857240"/>
            <a:ext cx="3105000" cy="4095720"/>
          </a:xfrm>
          <a:prstGeom prst="rect">
            <a:avLst/>
          </a:prstGeom>
          <a:ln w="0">
            <a:noFill/>
          </a:ln>
        </p:spPr>
      </p:pic>
      <p:sp>
        <p:nvSpPr>
          <p:cNvPr id="493" name="아래쪽 화살표 4"/>
          <p:cNvSpPr/>
          <p:nvPr/>
        </p:nvSpPr>
        <p:spPr>
          <a:xfrm rot="5400000">
            <a:off x="5536440" y="2964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아래쪽 화살표 5"/>
          <p:cNvSpPr/>
          <p:nvPr/>
        </p:nvSpPr>
        <p:spPr>
          <a:xfrm rot="5400000">
            <a:off x="6036480" y="496476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ild sim environment and basic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/Procedure_SensorNotify:proc1” op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05160" y="2205000"/>
            <a:ext cx="4333680" cy="4438800"/>
          </a:xfrm>
          <a:prstGeom prst="rect">
            <a:avLst/>
          </a:prstGeom>
          <a:ln w="0">
            <a:noFill/>
          </a:ln>
        </p:spPr>
      </p:pic>
      <p:sp>
        <p:nvSpPr>
          <p:cNvPr id="498" name="아래쪽 화살표 4"/>
          <p:cNvSpPr/>
          <p:nvPr/>
        </p:nvSpPr>
        <p:spPr>
          <a:xfrm rot="16200000">
            <a:off x="1892880" y="617940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아래쪽 화살표 5"/>
          <p:cNvSpPr/>
          <p:nvPr/>
        </p:nvSpPr>
        <p:spPr>
          <a:xfrm rot="5400000">
            <a:off x="6179400" y="51793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into Python and make a robot mov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2643120" y="1714680"/>
            <a:ext cx="3952800" cy="4943160"/>
          </a:xfrm>
          <a:prstGeom prst="rect">
            <a:avLst/>
          </a:prstGeom>
          <a:ln w="0">
            <a:noFill/>
          </a:ln>
        </p:spPr>
      </p:pic>
      <p:sp>
        <p:nvSpPr>
          <p:cNvPr id="503" name="아래쪽 화살표 4"/>
          <p:cNvSpPr/>
          <p:nvPr/>
        </p:nvSpPr>
        <p:spPr>
          <a:xfrm rot="16200000">
            <a:off x="1892880" y="575064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아래쪽 화살표 5"/>
          <p:cNvSpPr/>
          <p:nvPr/>
        </p:nvSpPr>
        <p:spPr>
          <a:xfrm rot="16200000">
            <a:off x="1893240" y="6107760"/>
            <a:ext cx="285480" cy="6426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Procedur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LRFEvent” with event valu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5000760" y="1143000"/>
            <a:ext cx="3544920" cy="5514840"/>
          </a:xfrm>
          <a:prstGeom prst="rect">
            <a:avLst/>
          </a:prstGeom>
          <a:ln w="0">
            <a:noFill/>
          </a:ln>
        </p:spPr>
      </p:pic>
      <p:sp>
        <p:nvSpPr>
          <p:cNvPr id="508" name="아래쪽 화살표 4"/>
          <p:cNvSpPr/>
          <p:nvPr/>
        </p:nvSpPr>
        <p:spPr>
          <a:xfrm rot="16200000">
            <a:off x="4821840" y="5893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LRFEvent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1"/>
          <a:stretch/>
        </p:blipFill>
        <p:spPr>
          <a:xfrm>
            <a:off x="1928880" y="1714680"/>
            <a:ext cx="5010120" cy="4476600"/>
          </a:xfrm>
          <a:prstGeom prst="rect">
            <a:avLst/>
          </a:prstGeom>
          <a:ln w="0">
            <a:noFill/>
          </a:ln>
        </p:spPr>
      </p:pic>
      <p:sp>
        <p:nvSpPr>
          <p:cNvPr id="512" name="모서리가 둥근 직사각형 4"/>
          <p:cNvSpPr/>
          <p:nvPr/>
        </p:nvSpPr>
        <p:spPr>
          <a:xfrm>
            <a:off x="1285920" y="4572000"/>
            <a:ext cx="6143760" cy="1071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6448320" cy="41907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"/>
          <p:cNvPicPr/>
          <p:nvPr/>
        </p:nvPicPr>
        <p:blipFill>
          <a:blip r:embed="rId2"/>
          <a:stretch/>
        </p:blipFill>
        <p:spPr>
          <a:xfrm>
            <a:off x="4357800" y="27860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7" descr=""/>
          <p:cNvPicPr/>
          <p:nvPr/>
        </p:nvPicPr>
        <p:blipFill>
          <a:blip r:embed="rId1"/>
          <a:stretch/>
        </p:blipFill>
        <p:spPr>
          <a:xfrm>
            <a:off x="3357720" y="1714680"/>
            <a:ext cx="5010120" cy="447660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4"/>
          <p:cNvSpPr/>
          <p:nvPr/>
        </p:nvSpPr>
        <p:spPr>
          <a:xfrm rot="16200000">
            <a:off x="2821680" y="2535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5"/>
          <p:cNvSpPr/>
          <p:nvPr/>
        </p:nvSpPr>
        <p:spPr>
          <a:xfrm rot="16200000">
            <a:off x="2821680" y="4464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2176560" y="1928880"/>
            <a:ext cx="5961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CheckLRF(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CheckLR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True: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str(lrf1.DistanceMeasurements[180]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LR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istanc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time.sleep(0.5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LRFEvent(lrf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str(lrf.DistanceMeasurements[180]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LR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istanc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robot_lrf.py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lrf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istance detection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through while loop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5" name="Picture 5" descr=""/>
          <p:cNvPicPr/>
          <p:nvPr/>
        </p:nvPicPr>
        <p:blipFill>
          <a:blip r:embed="rId1"/>
          <a:stretch/>
        </p:blipFill>
        <p:spPr>
          <a:xfrm>
            <a:off x="2343240" y="1990800"/>
            <a:ext cx="4457520" cy="3724200"/>
          </a:xfrm>
          <a:prstGeom prst="rect">
            <a:avLst/>
          </a:prstGeom>
          <a:ln w="0">
            <a:noFill/>
          </a:ln>
        </p:spPr>
      </p:pic>
      <p:sp>
        <p:nvSpPr>
          <p:cNvPr id="466" name="아래쪽 화살표 5"/>
          <p:cNvSpPr/>
          <p:nvPr/>
        </p:nvSpPr>
        <p:spPr>
          <a:xfrm rot="16200000">
            <a:off x="1821600" y="42505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WaitForEntityCreation” and “WaitForServiceCrea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609480" y="1643040"/>
            <a:ext cx="7925040" cy="4915080"/>
          </a:xfrm>
          <a:prstGeom prst="rect">
            <a:avLst/>
          </a:prstGeom>
          <a:ln w="0">
            <a:noFill/>
          </a:ln>
        </p:spPr>
      </p:pic>
      <p:sp>
        <p:nvSpPr>
          <p:cNvPr id="470" name="자유형 5"/>
          <p:cNvSpPr/>
          <p:nvPr/>
        </p:nvSpPr>
        <p:spPr>
          <a:xfrm>
            <a:off x="2643120" y="3857760"/>
            <a:ext cx="1643040" cy="178596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6"/>
          <p:cNvSpPr/>
          <p:nvPr/>
        </p:nvSpPr>
        <p:spPr>
          <a:xfrm rot="16200000">
            <a:off x="464400" y="3536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아래쪽 화살표 7"/>
          <p:cNvSpPr/>
          <p:nvPr/>
        </p:nvSpPr>
        <p:spPr>
          <a:xfrm rot="1502400">
            <a:off x="2479320" y="21016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6:53Z</dcterms:modified>
  <cp:revision>947</cp:revision>
  <dc:subject/>
  <dc:title>슬라이드 1</dc:title>
</cp:coreProperties>
</file>