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46CC4-FF48-43DD-B4A1-DBB22D6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90A64-F0A5-456C-A7FA-213EF8AA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BEB98-66E9-4307-BEE4-7105FC72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08334-A835-4874-9FAD-76F6F47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B370-B51F-4F4E-95B5-A26CF9C6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5CA2-CC7A-4E90-9E96-7B6BB2E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AD20-A0B4-4A82-BDB9-08AE4D3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3C75B-02FB-40E1-81A4-BBF1D41C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051E-467C-4A7A-AC01-C66B2A9F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92FBB-6771-4262-832C-F6BDC67A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913B8-25AA-4483-8C9D-F6266D78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BE79-F4A7-418C-9E85-DED88191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22580-C0DA-4BB4-B065-1936457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08935-3E86-44A0-B7A0-5D6FE209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AA34-611D-40F0-A23B-D93B0D12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1509F-C1E8-4064-9EFE-5FAEB39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13594-561A-4D3E-A3EC-5592765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D2075-1BEE-456A-A6B5-D7D1ABC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A0918-70D0-4036-936F-9F6A86E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11F0-3829-4B8F-AB07-BA528F01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3BE03-56BD-4473-A4A9-F46722E5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0D6B6-6F4A-4916-9331-4F732DFF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C2361-91CE-4910-A921-3DC17DF9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682E1-1CFA-46C7-B065-98E6C76F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AAFAF-5C7C-4145-BDFF-9C177F2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FDAD7-A8E4-403D-A47C-11865C9F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80F99-721F-49AB-A3B7-5BAB7CA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1B449-4AEA-43C2-AE2F-8269FBBA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517BA-0F36-48A4-AB29-AAB3AF8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5528-B6A5-4983-A5F4-E1418F1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B1808-E206-405F-9F42-F0FD78E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384B3-7939-4725-B799-E4075ACA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C71BB-0B9D-41EA-8F05-9166F77D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E53-405A-44A3-A893-07BAFC68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62F-84C0-4A65-A43A-533767D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6BD-EDAC-4711-BFCA-A06BB648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9F0-B7C7-4BC7-BE61-A19A9F9F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1C5-DD2D-4E3C-9071-8041FE54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036-A15C-4D5F-BE03-930E1D6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39C-5819-4601-8B99-A2AF534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ADD-FA4E-4954-AA37-799C9FA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18B-3B9B-4BB2-9C56-5863E94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8A9-B243-4AD6-B7A4-821BE931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CC5-61F7-4F5D-B935-22BD9282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26A-49BC-43C6-90EA-C29605A9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1612-F0B5-4636-92D2-6D5B7C82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6C37-6C53-4C8C-94CC-BF906619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3BD3-0599-471A-B209-79FD9D9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D76F-D52C-4F76-81B7-165EB468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1D15-7B26-4BF5-A88D-8E9B753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B40A-165D-4B2A-A24F-B6C65D4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79EF-B1C1-4F62-BB76-292B86F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2EEF-720A-4479-9AD5-D7AF880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198A-6044-4AC8-A2E4-6B01DA75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403F-7C59-4AC1-AB56-A4C88BCC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5BFF-72BD-4158-82BC-01737379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96F-73F9-486F-BF1B-4A292687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125A-2D81-491C-AF0D-99F8AC78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F32F-8FA5-4C0F-B7D5-2CDC377A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B145-06B0-45FF-BD37-AE13D45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00F5-0A83-4E65-9EC0-6456B3A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17FC-D553-4B5C-8BC8-C1ADF4A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1D88-4D1F-4C2E-B3B8-9FA26F72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EEB2-62A9-4675-9079-930D920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E0DC-A916-4833-A671-E690EB7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1440-C439-4BF7-981B-E044C3A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F25C-4991-42EC-9D31-91394A5E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65A7-AFC2-48A4-BDFF-C007C448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61E6-A73D-46D5-99A9-0C16B0E5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B3D7-BDC2-47C9-9171-4E656EB5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34EC-1190-481B-BE9A-754F84EC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B193-5CA8-43F5-B75F-AAC3459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B45D-A6F9-4D45-8CE2-FF56ED27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ADFC-69D6-43DC-9608-6567F3EC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ACD9-4C82-4674-9508-D8FA388F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FCC4-6CA3-4A21-A400-E881870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C8185-6AFE-42D9-AB17-1A24F25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D72A-E5B8-4FA2-8CAB-635A0DB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8EA1-0A08-4C79-A3E5-2CD2AECF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9012-706E-4FB6-B8C1-EED2CC45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EB09-84AF-448C-B8AE-0109A7D1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9417-B802-4BE5-BDBD-00C9A282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7DA2-4640-4F00-B2FF-D74A35FB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2A3F5-8500-4707-ADA9-4951F68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32046-5AB4-43FD-A505-04641DBD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91423-2524-4F2A-943E-259CA8B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A29D9-F1EE-4A35-9410-333BE57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4083-5476-4C96-B319-51ACF472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A8A2-0707-423F-A9B3-9B7B10A9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3CD9D-97BB-4BFD-BD3F-B5AD794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522F8-F244-4978-9789-77238E8B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E52F-5873-48CF-9458-E11A1D81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D4245-2A7C-41B8-ADE3-7C26C20F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2CD6B-993C-4677-9E90-76B13618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8959-0577-4E48-B6B6-3F77111C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0290-6B40-4F2F-B27C-CCAA3A1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C391-3E59-4043-B63C-9A95BF4F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06E41-CB8D-48E9-913D-09303291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7DBD0-030C-4D5F-AE14-BB0C6270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214F-E059-4F71-94B5-D099B35F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8AE04-6CFB-4B0B-A07E-B8EABEE2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4416-3C4A-4422-9B39-71CB5C6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D126-36A5-4388-AC5C-0661ECB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6CC1-E58B-4932-B4C9-F1A7F9AD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0583D-0854-42DF-85B0-8D7DAC66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9C991-CC16-4C72-B028-18352657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AE5A0-C39C-4351-8220-0BF9D6F1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D5F1-ABFB-42E7-A59A-15B9AFCF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788-D926-42C3-82F5-387F3514912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A0D2-10F7-409B-ADC9-E3FE9E8F713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16AE-8575-4024-B97E-BC4E59A93FA7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987-17C5-46AA-811F-0D25F0C84A4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C44F-A5BF-47DC-BEB7-C419B4AC1FE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1ED5-13DD-46F9-B680-3530BA25B5F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98E8-AE3D-4BC2-AAD3-CA14DA8161A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A5D4-903F-41CA-A9EE-FCBCDA2856E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3E7-3100-40F6-BC7D-B5929D85E5F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F84-C197-41B5-B537-945C649083B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62240" y="2519280"/>
            <a:ext cx="4619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343080" y="2000160"/>
            <a:ext cx="8458200" cy="3772080"/>
          </a:xfrm>
          <a:prstGeom prst="rect">
            <a:avLst/>
          </a:prstGeom>
          <a:ln w="0">
            <a:noFill/>
          </a:ln>
        </p:spPr>
      </p:pic>
      <p:sp>
        <p:nvSpPr>
          <p:cNvPr id="478" name="자유형 5"/>
          <p:cNvSpPr/>
          <p:nvPr/>
        </p:nvSpPr>
        <p:spPr>
          <a:xfrm>
            <a:off x="2143080" y="4214880"/>
            <a:ext cx="1857600" cy="1071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17856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reateEntit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4000680" y="1571760"/>
            <a:ext cx="4809960" cy="484812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46464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714760"/>
            <a:ext cx="807228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42861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92760" y="2678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728640" y="2143080"/>
            <a:ext cx="6384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reateEntity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ange(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i) 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.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reation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rea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181240" y="2862360"/>
            <a:ext cx="47815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8172360" cy="3781440"/>
          </a:xfrm>
          <a:prstGeom prst="rect">
            <a:avLst/>
          </a:prstGeom>
          <a:ln w="0">
            <a:noFill/>
          </a:ln>
        </p:spPr>
      </p:pic>
      <p:sp>
        <p:nvSpPr>
          <p:cNvPr id="468" name="자유형 5"/>
          <p:cNvSpPr/>
          <p:nvPr/>
        </p:nvSpPr>
        <p:spPr>
          <a:xfrm flipV="1">
            <a:off x="1928880" y="3785400"/>
            <a:ext cx="3286080" cy="10717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407196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36600" y="281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00:48Z</dcterms:modified>
  <cp:revision>983</cp:revision>
  <dc:subject/>
  <dc:title>슬라이드 1</dc:title>
</cp:coreProperties>
</file>