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98D10-49C3-41D1-A371-6E5A1897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195F9-8A3C-4492-AAE2-C8711537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54B53-42D5-4A12-864A-5DA9E16C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DC12C-C29E-4A13-B172-C9876E66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9C1A5-825C-4A11-9C57-CA2DEC7F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7E5E7-CC67-409D-B4E3-09F78117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02D56-D64B-46FB-9B57-72AC3390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D646C-1E4B-4885-BD4F-DE00BC25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FD5E9-841F-454E-BDA0-53BED558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42278-FDFA-4146-867E-9A42272C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A1AC4-C5A8-46CC-A760-1525D4B2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4F95A-B444-4547-81F9-ED7C26C3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A6B12-5CD6-497A-93EC-506E9A84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85A6A-0C00-43A4-89BA-72C80C5D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EFAC8-6636-49F4-A8A3-20DDBF76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E8538-110C-4579-A4A4-A8C272AF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D2D2A-33E3-43DA-B87A-BF501756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2A3E4-2767-463F-98F7-5945D654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EE6C5-9DEE-4564-8540-5D9CE25B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17507-BB5B-42FC-A781-6608D2F0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5456B-0866-4D6A-AE43-5C8E951A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289D6-91CF-4A31-A9A8-84539575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9BC4C-3E40-4725-9B7F-3C28C828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47358-172D-4CB6-84A9-E0D68E1E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182FA-6322-44F1-A338-465A56FF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3F0B5-EC8C-401B-9306-4649AF0B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215C1-54C2-4166-811D-1F575A1E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C6BF8-6B9D-4D4D-B311-674B4B36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5F2C6-F2EA-478F-97D9-C0D1B195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FA952-E4E6-4ABD-8ADF-6721CAE2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680EB-3FB2-4C75-A5A2-01F02085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B5168-3748-44E4-BE05-B3F1FB38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D9FAF-4F21-4AAE-AA30-51FA6217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A102-DD44-4395-8205-B1E500CE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94B-5938-4974-9026-29E0AB36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D92-1E08-4AB1-BC33-9C4B1989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04E9-492E-42C1-8B34-BC78D510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688-EA8F-41BA-88E8-EA5DE879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2A7-432C-4886-95D1-C5C0A4EC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E24-FFCB-4D17-A6DA-EF75B79E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D3B-80B4-4216-AD99-57EAD815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D32-A441-4328-95ED-83211DEA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61E-4126-48F2-9FF0-10D7A80F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407-E1EE-42FE-907C-F486B3F4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03E-4471-42D7-9BAC-F53A770A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29AA-8101-4203-BB64-7AA71501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94EA-7F44-4007-BDD4-2FA3137B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B6F2-DEA9-4586-8FA7-E6EA4566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04CE-18E9-4DB8-A1F8-E8D1801A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2BDC-EFCA-44F3-96BB-33C5980C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FE0C-37E4-4EDC-88C2-9A77D8EE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D9AC-3108-4847-A20E-65721D47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549A-1796-40C3-B55D-40D2482B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648F-D615-4498-AE8C-4430F8A8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5DEA-20AE-4B9F-B87E-EAED5200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9823-FA89-4CA3-98ED-6EC1C5BD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3966-C5B8-4ECA-8F05-C6ACB2F8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FBE6F-F1DB-4C95-B812-EB60632C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58CB-0D1F-4FEA-9546-30BC4428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5310C-54DD-47B0-A530-260A2936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E5E26-E409-4228-9225-FF76E66B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F654B-028F-4D43-AB0D-9F84170D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A491B-C070-4FA1-90D2-1174AFDE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C61F4-A2A1-4698-803A-6EC0472E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23F38-96B4-4CC6-B574-00D87A00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DE388-84E9-4A4E-BDC7-B9362367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17435-21CB-4449-B338-2B122622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B806B-85EA-435A-8DC8-2AE38C75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4849-3588-456D-8578-2157E7A4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54E84-D8B9-4C19-BFCB-17E9BFF9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C7D01-FDFD-4797-BFC2-1B675767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5191B-C71F-4BE8-B4CB-521CA872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1F781-3F10-437A-858F-B9A0A8B1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29DA-E3AB-4193-ABA3-701E2713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37259-5CB3-403A-B1CE-422C4029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CE082-0F8D-4AE5-AB90-B74318CF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D9388-9DB8-4CD9-B6F9-C3EB210E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434E4-BF93-4140-A13E-A5603397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1D2E3-D69E-4908-8C34-9B0D9A55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A3698-7B02-4403-AD4E-8175A759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73C39-4B75-4348-94B8-E665849F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51E2D-27D8-4948-8F52-C9056E3E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06A73-CB4D-4E00-987E-9D57AB1D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4DD6B-CF42-4C38-8718-807D7D4B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85E22-9FBF-4D61-8688-0B707F13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CC705-066C-4AE0-925F-1AC720E1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442FC-0E5F-4F75-80AD-E0401EA1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D85CF-0EAD-4660-BE2C-241A635D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9C74E-69CD-48EE-B4A1-1B1B1695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75E4D-FC4B-45E2-B924-965C6733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3924F-B710-4088-9DB4-539712E4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877A6-B52A-41C5-839E-92BBE9BC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D1D5D-C76F-4049-A196-BFF868BD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B76CF-321B-4AB7-9DB3-E7EE2C64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03881-32C2-4D67-94C1-4945F1D0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14B99-BDF3-41A1-A832-B79497BF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E697B-A261-40B1-9E0A-348D8C56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58752-2165-47B5-B46E-AE52FC79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A3BAE-B3D7-418C-B0E9-2EE2251E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13DD0-8663-4341-987B-BA2D5FCA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32780-B4B4-420B-A099-98E48FE1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04550-6BA5-4C9F-A1BB-75943493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1023F-C969-4BC1-A2EB-FA8BAE26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641EE-D7D0-4F68-869E-920A6363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C0E33-00E9-4935-9861-021A2464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3E8A3-3FFC-4ACE-B8C6-72788657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9ED1E-1676-43DF-8B44-3E06228D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ADAF3-6C48-4218-A4A6-28927578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6FF3-50E8-4B04-ADF7-AF4FA8B441C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D43A-107A-482F-A554-871A30C9C11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4BB0-F17D-4B44-A9FF-FA921C088F07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710F-C074-4571-8B2C-BB2B772B1FC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4102-80E1-4705-97B8-97D81977B66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5FE3-178F-4C71-BD15-D25D9276548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F3BE-C347-45EF-82FA-2CA278DA52D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B990-FFA8-451D-BC4E-C1631F890CC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511B-7F07-4F29-A6AF-6CD14AF1668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4D7E-5185-4FE2-94A2-F9CB1CD06A7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Maze Explorer with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7" descr=""/>
          <p:cNvPicPr/>
          <p:nvPr/>
        </p:nvPicPr>
        <p:blipFill>
          <a:blip r:embed="rId1"/>
          <a:stretch/>
        </p:blipFill>
        <p:spPr>
          <a:xfrm>
            <a:off x="2714760" y="1571760"/>
            <a:ext cx="4514760" cy="4971960"/>
          </a:xfrm>
          <a:prstGeom prst="rect">
            <a:avLst/>
          </a:prstGeom>
          <a:ln w="0">
            <a:noFill/>
          </a:ln>
        </p:spPr>
      </p:pic>
      <p:sp>
        <p:nvSpPr>
          <p:cNvPr id="504" name="아래쪽 화살표 5"/>
          <p:cNvSpPr/>
          <p:nvPr/>
        </p:nvSpPr>
        <p:spPr>
          <a:xfrm rot="16200000">
            <a:off x="210744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2281320" y="1928880"/>
            <a:ext cx="4374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azeExplorer(lrf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355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27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18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) 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0) 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00) 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-3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ls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500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3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To(0.1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maze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maz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3" name="Picture 8" descr=""/>
          <p:cNvPicPr/>
          <p:nvPr/>
        </p:nvPicPr>
        <p:blipFill>
          <a:blip r:embed="rId1"/>
          <a:stretch/>
        </p:blipFill>
        <p:spPr>
          <a:xfrm>
            <a:off x="2496960" y="1857240"/>
            <a:ext cx="3646800" cy="4719600"/>
          </a:xfrm>
          <a:prstGeom prst="rect">
            <a:avLst/>
          </a:prstGeom>
          <a:ln w="0">
            <a:noFill/>
          </a:ln>
        </p:spPr>
      </p:pic>
      <p:sp>
        <p:nvSpPr>
          <p:cNvPr id="514" name="아래쪽 화살표 5"/>
          <p:cNvSpPr/>
          <p:nvPr/>
        </p:nvSpPr>
        <p:spPr>
          <a:xfrm rot="16200000">
            <a:off x="1893240" y="546480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아래쪽 화살표 6"/>
          <p:cNvSpPr/>
          <p:nvPr/>
        </p:nvSpPr>
        <p:spPr>
          <a:xfrm rot="5400000">
            <a:off x="5822280" y="48218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아래쪽 화살표 8"/>
          <p:cNvSpPr/>
          <p:nvPr/>
        </p:nvSpPr>
        <p:spPr>
          <a:xfrm rot="5400000">
            <a:off x="6107760" y="2107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MazeExplorer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4714920" y="928800"/>
            <a:ext cx="3071880" cy="5786280"/>
          </a:xfrm>
          <a:prstGeom prst="rect">
            <a:avLst/>
          </a:prstGeom>
          <a:ln w="0">
            <a:noFill/>
          </a:ln>
        </p:spPr>
      </p:pic>
      <p:sp>
        <p:nvSpPr>
          <p:cNvPr id="520" name="아래쪽 화살표 8"/>
          <p:cNvSpPr/>
          <p:nvPr/>
        </p:nvSpPr>
        <p:spPr>
          <a:xfrm rot="16200000">
            <a:off x="4464720" y="5893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zeExplorer()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2714760" y="1571760"/>
            <a:ext cx="4514760" cy="4971960"/>
          </a:xfrm>
          <a:prstGeom prst="rect">
            <a:avLst/>
          </a:prstGeom>
          <a:ln w="0">
            <a:noFill/>
          </a:ln>
        </p:spPr>
      </p:pic>
      <p:sp>
        <p:nvSpPr>
          <p:cNvPr id="524" name="모서리가 둥근 직사각형 4"/>
          <p:cNvSpPr/>
          <p:nvPr/>
        </p:nvSpPr>
        <p:spPr>
          <a:xfrm>
            <a:off x="1857240" y="2428920"/>
            <a:ext cx="6072480" cy="3500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7" name="Picture 6" descr=""/>
          <p:cNvPicPr/>
          <p:nvPr/>
        </p:nvPicPr>
        <p:blipFill>
          <a:blip r:embed="rId1"/>
          <a:stretch/>
        </p:blipFill>
        <p:spPr>
          <a:xfrm>
            <a:off x="2500200" y="2071800"/>
            <a:ext cx="42865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428920" y="1957320"/>
            <a:ext cx="42861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2857680" y="2238480"/>
            <a:ext cx="31431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357280" y="2028960"/>
            <a:ext cx="42865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General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olution for the Maze Miss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o along the left wall or right wal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직사각형 3"/>
          <p:cNvSpPr/>
          <p:nvPr/>
        </p:nvSpPr>
        <p:spPr>
          <a:xfrm>
            <a:off x="2786040" y="2500200"/>
            <a:ext cx="3571920" cy="31435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직선 연결선 5"/>
          <p:cNvSpPr/>
          <p:nvPr/>
        </p:nvSpPr>
        <p:spPr>
          <a:xfrm>
            <a:off x="2786040" y="3929040"/>
            <a:ext cx="10000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직선 연결선 6"/>
          <p:cNvSpPr/>
          <p:nvPr/>
        </p:nvSpPr>
        <p:spPr>
          <a:xfrm>
            <a:off x="5000760" y="2500200"/>
            <a:ext cx="0" cy="7146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직선 연결선 10"/>
          <p:cNvSpPr/>
          <p:nvPr/>
        </p:nvSpPr>
        <p:spPr>
          <a:xfrm flipH="1">
            <a:off x="5643720" y="4429080"/>
            <a:ext cx="7142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직선 연결선 13"/>
          <p:cNvSpPr/>
          <p:nvPr/>
        </p:nvSpPr>
        <p:spPr>
          <a:xfrm flipV="1">
            <a:off x="4500720" y="5143680"/>
            <a:ext cx="0" cy="490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직선 연결선 16"/>
          <p:cNvSpPr/>
          <p:nvPr/>
        </p:nvSpPr>
        <p:spPr>
          <a:xfrm>
            <a:off x="3071880" y="428616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직선 연결선 17"/>
          <p:cNvSpPr/>
          <p:nvPr/>
        </p:nvSpPr>
        <p:spPr>
          <a:xfrm>
            <a:off x="3071880" y="2786040"/>
            <a:ext cx="0" cy="71424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직선 연결선 18"/>
          <p:cNvSpPr/>
          <p:nvPr/>
        </p:nvSpPr>
        <p:spPr>
          <a:xfrm flipH="1">
            <a:off x="3214800" y="4071960"/>
            <a:ext cx="490320" cy="9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직선 연결선 20"/>
          <p:cNvSpPr/>
          <p:nvPr/>
        </p:nvSpPr>
        <p:spPr>
          <a:xfrm flipH="1">
            <a:off x="3642840" y="2642400"/>
            <a:ext cx="490680" cy="9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직선 연결선 21"/>
          <p:cNvSpPr/>
          <p:nvPr/>
        </p:nvSpPr>
        <p:spPr>
          <a:xfrm flipH="1">
            <a:off x="3223800" y="3704400"/>
            <a:ext cx="490680" cy="9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직선 연결선 22"/>
          <p:cNvSpPr/>
          <p:nvPr/>
        </p:nvSpPr>
        <p:spPr>
          <a:xfrm flipH="1">
            <a:off x="3928680" y="3786120"/>
            <a:ext cx="9720" cy="2761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직선 연결선 24"/>
          <p:cNvSpPr/>
          <p:nvPr/>
        </p:nvSpPr>
        <p:spPr>
          <a:xfrm>
            <a:off x="4786200" y="264312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직선 연결선 25"/>
          <p:cNvSpPr/>
          <p:nvPr/>
        </p:nvSpPr>
        <p:spPr>
          <a:xfrm>
            <a:off x="5214960" y="264312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직선 연결선 26"/>
          <p:cNvSpPr/>
          <p:nvPr/>
        </p:nvSpPr>
        <p:spPr>
          <a:xfrm flipH="1" flipV="1">
            <a:off x="4929120" y="3490920"/>
            <a:ext cx="214560" cy="9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distances against for the left side wall and front wal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0" name="직사각형 3"/>
          <p:cNvSpPr/>
          <p:nvPr/>
        </p:nvSpPr>
        <p:spPr>
          <a:xfrm>
            <a:off x="2571840" y="2643120"/>
            <a:ext cx="142920" cy="292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직사각형 4"/>
          <p:cNvSpPr/>
          <p:nvPr/>
        </p:nvSpPr>
        <p:spPr>
          <a:xfrm>
            <a:off x="2786040" y="2357280"/>
            <a:ext cx="3276720" cy="204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모서리가 둥근 직사각형 5"/>
          <p:cNvSpPr/>
          <p:nvPr/>
        </p:nvSpPr>
        <p:spPr>
          <a:xfrm>
            <a:off x="4429080" y="4165560"/>
            <a:ext cx="714600" cy="1143000"/>
          </a:xfrm>
          <a:custGeom>
            <a:avLst/>
            <a:gdLst>
              <a:gd name="textAreaLeft" fmla="*/ 34560 w 714600"/>
              <a:gd name="textAreaRight" fmla="*/ 680040 w 714600"/>
              <a:gd name="textAreaTop" fmla="*/ 34560 h 1143000"/>
              <a:gd name="textAreaBottom" fmla="*/ 1108440 h 1143000"/>
            </a:gdLst>
            <a:ahLst/>
            <a:rect l="textAreaLeft" t="textAreaTop" r="textAreaRight" b="textAreaBottom"/>
            <a:pathLst>
              <a:path w="21600" h="34543">
                <a:moveTo>
                  <a:pt x="3600" y="0"/>
                </a:moveTo>
                <a:arcTo wR="3600" hR="3600" stAng="16200000" swAng="-5400000"/>
                <a:lnTo>
                  <a:pt x="0" y="30943"/>
                </a:lnTo>
                <a:arcTo wR="3600" hR="3600" stAng="10800000" swAng="-5400000"/>
                <a:lnTo>
                  <a:pt x="18000" y="3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73" name="직선 화살표 연결선 9"/>
          <p:cNvCxnSpPr/>
          <p:nvPr/>
        </p:nvCxnSpPr>
        <p:spPr>
          <a:xfrm flipH="1" flipV="1">
            <a:off x="4071600" y="4451040"/>
            <a:ext cx="357840" cy="216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474" name="직선 화살표 연결선 10"/>
          <p:cNvCxnSpPr/>
          <p:nvPr/>
        </p:nvCxnSpPr>
        <p:spPr>
          <a:xfrm flipH="1" flipV="1">
            <a:off x="4785480" y="3521880"/>
            <a:ext cx="10440" cy="65484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475" name="직선 화살표 연결선 12"/>
          <p:cNvCxnSpPr/>
          <p:nvPr/>
        </p:nvCxnSpPr>
        <p:spPr>
          <a:xfrm flipH="1" flipV="1">
            <a:off x="4123800" y="3858840"/>
            <a:ext cx="377280" cy="3787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476" name="TextBox 15"/>
          <p:cNvSpPr/>
          <p:nvPr/>
        </p:nvSpPr>
        <p:spPr>
          <a:xfrm>
            <a:off x="1922040" y="385776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4136760" y="185724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TextBox 17"/>
          <p:cNvSpPr/>
          <p:nvPr/>
        </p:nvSpPr>
        <p:spPr>
          <a:xfrm>
            <a:off x="4860000" y="3000240"/>
            <a:ext cx="18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TextBox 18"/>
          <p:cNvSpPr/>
          <p:nvPr/>
        </p:nvSpPr>
        <p:spPr>
          <a:xfrm>
            <a:off x="3143160" y="3427560"/>
            <a:ext cx="157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27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TextBox 19"/>
          <p:cNvSpPr/>
          <p:nvPr/>
        </p:nvSpPr>
        <p:spPr>
          <a:xfrm>
            <a:off x="3214800" y="4308480"/>
            <a:ext cx="121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35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자유형 20"/>
          <p:cNvSpPr/>
          <p:nvPr/>
        </p:nvSpPr>
        <p:spPr>
          <a:xfrm rot="17992800">
            <a:off x="5831280" y="4331520"/>
            <a:ext cx="1052640" cy="5493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c0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TextBox 21"/>
          <p:cNvSpPr/>
          <p:nvPr/>
        </p:nvSpPr>
        <p:spPr>
          <a:xfrm>
            <a:off x="6252840" y="457200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Turn right 30 degre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urn right slightly (about 30 degrees) for the left and front wall detection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10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27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5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3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2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open space on the left sid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직사각형 3"/>
          <p:cNvSpPr/>
          <p:nvPr/>
        </p:nvSpPr>
        <p:spPr>
          <a:xfrm>
            <a:off x="3071880" y="2428920"/>
            <a:ext cx="214200" cy="3000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직사각형 4"/>
          <p:cNvSpPr/>
          <p:nvPr/>
        </p:nvSpPr>
        <p:spPr>
          <a:xfrm>
            <a:off x="3286080" y="3786120"/>
            <a:ext cx="13572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모서리가 둥근 직사각형 5"/>
          <p:cNvSpPr/>
          <p:nvPr/>
        </p:nvSpPr>
        <p:spPr>
          <a:xfrm>
            <a:off x="4214880" y="4286160"/>
            <a:ext cx="1357200" cy="71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90" name="직선 화살표 연결선 9"/>
          <p:cNvCxnSpPr/>
          <p:nvPr/>
        </p:nvCxnSpPr>
        <p:spPr>
          <a:xfrm flipV="1">
            <a:off x="5285160" y="3357360"/>
            <a:ext cx="2520" cy="93096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491" name="TextBox 15"/>
          <p:cNvSpPr/>
          <p:nvPr/>
        </p:nvSpPr>
        <p:spPr>
          <a:xfrm>
            <a:off x="2257200" y="371484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TextBox 19"/>
          <p:cNvSpPr/>
          <p:nvPr/>
        </p:nvSpPr>
        <p:spPr>
          <a:xfrm>
            <a:off x="5429160" y="3191040"/>
            <a:ext cx="121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35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자유형 20"/>
          <p:cNvSpPr/>
          <p:nvPr/>
        </p:nvSpPr>
        <p:spPr>
          <a:xfrm flipV="1" rot="14829000">
            <a:off x="5729040" y="2601720"/>
            <a:ext cx="801720" cy="408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c0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TextBox 21"/>
          <p:cNvSpPr/>
          <p:nvPr/>
        </p:nvSpPr>
        <p:spPr>
          <a:xfrm>
            <a:off x="6157800" y="2000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Turn left 30 degre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open space on the left sid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3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greater than 1500 millimeter, turn left 30 degrees (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seudo code for Maze Miss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2781360" y="1928880"/>
            <a:ext cx="3581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41:59Z</dcterms:modified>
  <cp:revision>976</cp:revision>
  <dc:subject/>
  <dc:title>슬라이드 1</dc:title>
</cp:coreProperties>
</file>