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F20D-7BA3-4748-8538-EF8395B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5F5A6-91EB-43A5-8972-2E3479F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DEABF-1AA5-42A1-8AD5-7BA1923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02EE-E2A7-402C-B079-BC9E9C5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A2167-3938-46A6-9614-861C1A94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CB72-0E5C-4EBC-A9A0-1E23FB0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6F98-C072-476B-9DAB-C449A7C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C111-41D3-4FAF-8CE6-EAA5B9D6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2651-0E70-49B2-9C6F-2EC765BC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4CF90-F37E-4B99-BDED-FFEDB7E0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F74A9-0DD3-4D2C-8505-1A75616E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1FEE-8161-4147-BBB9-261D791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265B8-0BF0-4051-81C2-EF21BC6D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5B45D-B668-47B8-8590-25AB754A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FBAE8-FC98-468D-B8AF-D356E8F9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1B5D-40BF-46B6-8253-21548CE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C1FAC-84B2-446E-8320-FD218AF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C9D3B-C472-42F4-AC47-EB22DEB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1001E-F7C2-4015-9FBB-7B348C4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6E8A5-5370-4FAB-B402-E9C0798E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73FD0-37D0-4421-A16A-6D1050FB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FADA3-2B3C-4A43-8B72-CB83C6A8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14C92-8158-4B12-970D-AA7DBFA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F19AB-B4BD-4F31-81BC-6F881F6E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EEEFF-7030-4B4E-B46B-D7C64995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DE494-88CE-46F0-AE34-F4F26F10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29715-A946-4EE3-9F56-4D28E2C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5FAE5-C52C-4BD1-ADE4-00C6AFD8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B36C3-26A1-4F55-9CC7-6C83097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2A439-8490-4A2B-9C91-9A1ACE4B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D2881-EA82-43BA-925D-EAFC36F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352BB-6EB4-4357-8748-4381EA4A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CBB23-C1B8-457D-AEB2-4EE430EA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913-EAF8-43CB-BCEF-D5F8CE92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179-67D1-4CBF-84FD-6476F3AC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A25-895E-4188-81B5-AFA2A4DD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3B3-2595-4577-942F-5DA1D63B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FCB-6EF2-422F-ABAA-D05725A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0C8-3715-42FE-8B9D-8C27D984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671-19CB-416A-A844-E88EDAC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7E8-34FE-43DB-A351-A9E4A09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6E8-7F39-4114-9CBF-2D410EE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E18-49B3-4D33-9852-E633310C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648-A242-4681-B609-00B9771F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842-523B-4CF8-BFEC-D8BEC6C8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508-30F8-49AC-B12E-F9A1FFD5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2077-A969-468B-A489-715D41D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CFC2-6464-421C-8141-DB885034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DD5-9395-4558-8CB6-48CD0F50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40FC-B32B-4E55-A85C-60F1FF4F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775C-9DD3-480A-9006-AF3AA3D3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214F-89AD-4205-9554-0256549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3E6C-76B8-42D7-81EB-A92EEB7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C71C-A9A8-42A8-A7D1-DC70D7C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D57E-1463-4E9C-90A6-0E4BD6A9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4E4-04F5-40FB-AA76-548D6891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D4E4-55D6-4763-BE21-2F91331F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CBB4-EC94-45CF-8AC0-5DA9045F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B3C7-077B-4150-990C-2F2E4D4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DCF4-7003-4E6C-9DF3-CA91625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1E2D-29FC-4DE3-A90E-6EFDEE4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FED8-CB92-4AF9-9A1F-5B7F8CD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6280-8692-472C-8FE5-FCAB4FB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E838-B9A1-4BBE-92BB-8D0EE559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DA02-CFD0-4261-87FF-805DD74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5B7C-B198-43BF-A5D7-BEA4219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3D3A-DCEE-4719-A4C2-060472B0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4FF9-5C9B-4130-8DF2-03857141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0A13-2752-439F-956A-2FAEC547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E102-C833-4FDD-A6A2-D2095C96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1967-E6B5-4B0C-8109-C9809EF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5812-A5D3-4664-871B-093CEB54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A543-1041-486E-9561-3C1BEFCE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3D02-C2A0-44B7-8052-F0D416C1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7D43-BD2E-4269-95B6-A97E2075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336A-F08A-474E-851D-296618F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D957-54D6-4151-82A3-450228F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243EA-5F88-4D2E-9FC6-CEAEC920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5275-FD8A-46BB-890F-8227E941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A29F-A623-48FE-BB28-C6E6E50D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DEF93-B9FF-49EC-B124-F1557F2E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CA8F4-D333-45BD-8619-6D91F2C1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A2B53-C5B6-4C71-8865-5F68745C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36F8-8084-4B36-9D99-6A7253FC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AE8D-F6AB-4974-B2C0-A057E165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A673-2A76-4439-B55A-C6A9F102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E4AB-8EB7-4FA2-86E0-DDE61EA7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942D3-0AA1-449A-B15F-A53BD0E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D724F-48D6-4521-9938-F33B48BD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149A6-2BCA-4370-9EF5-74345263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A8C3-0822-44DC-AED0-28B5D2E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B1AB-1E0F-4590-97DD-16144B69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ED81-B0C8-424C-B2D7-7B95C991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AEDAF-A9D7-4715-810B-D55E5951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7D15-786E-49A2-9A6D-4986A636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91CF6-1845-48D3-AD59-1C3A402F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7358-591A-4D2B-875B-EEC6C618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85476-6AF1-42E2-87CB-F3671644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687F-1332-48D4-893B-0C0B9F91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A11A-EAEE-451C-9975-6C8907B4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6CBD-F6E0-4E65-8667-5FDC46B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EEDD-119D-4CF8-8C46-54564E3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5C3B-F7A8-4745-8D43-F80A7A9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DAB10-3444-4E3C-8357-2CF0FC67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5D45-D3A2-4FCA-8646-3B40962C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E7782-62E5-4DA6-89FA-0B895749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2408-7E09-47B0-9314-49BF4951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A0349-5B7F-4839-AA2D-E7847C6D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0A77-433D-4501-9099-44E2E944EEE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21FC-13E5-486E-9005-3D68CBF3F3D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25E2-885D-4BC0-AB07-345AB174A5F6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51E2-C308-4067-83AF-907A8000BD7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95C6-D09C-4B45-A743-FA510C2F1D0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910E-3902-49A9-8B4A-4F5003CC362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6B5C-6773-4046-8906-88E46E3941C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C875-33E2-457D-B58F-61F5C33D1B8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32E3-0E3E-479B-A8B9-1B90FDC9CFA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D5B6-5A6F-4F6D-B0FC-A2AA510F016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the instance of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33240" y="1981080"/>
            <a:ext cx="7877520" cy="4305600"/>
          </a:xfrm>
          <a:prstGeom prst="rect">
            <a:avLst/>
          </a:prstGeom>
          <a:ln w="0">
            <a:noFill/>
          </a:ln>
        </p:spPr>
      </p:pic>
      <p:sp>
        <p:nvSpPr>
          <p:cNvPr id="473" name="자유형 4"/>
          <p:cNvSpPr/>
          <p:nvPr/>
        </p:nvSpPr>
        <p:spPr>
          <a:xfrm flipV="1">
            <a:off x="3786120" y="5714280"/>
            <a:ext cx="1500120" cy="142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아래쪽 화살표 6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아래쪽 화살표 7"/>
          <p:cNvSpPr/>
          <p:nvPr/>
        </p:nvSpPr>
        <p:spPr>
          <a:xfrm rot="1502400">
            <a:off x="3050640" y="2459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628560" y="1714680"/>
            <a:ext cx="7886880" cy="4324320"/>
          </a:xfrm>
          <a:prstGeom prst="rect">
            <a:avLst/>
          </a:prstGeom>
          <a:ln w="0">
            <a:noFill/>
          </a:ln>
        </p:spPr>
      </p:pic>
      <p:sp>
        <p:nvSpPr>
          <p:cNvPr id="479" name="자유형 4"/>
          <p:cNvSpPr/>
          <p:nvPr/>
        </p:nvSpPr>
        <p:spPr>
          <a:xfrm>
            <a:off x="3857760" y="5038560"/>
            <a:ext cx="500040" cy="5716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아래쪽 화살표 5"/>
          <p:cNvSpPr/>
          <p:nvPr/>
        </p:nvSpPr>
        <p:spPr>
          <a:xfrm rot="16200000">
            <a:off x="749880" y="4788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(left, right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2571840" y="4143240"/>
            <a:ext cx="500040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571840" y="207180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DrivePatter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376360" y="1900080"/>
            <a:ext cx="4391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Patter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95" name="모서리가 둥근 직사각형 4"/>
          <p:cNvSpPr/>
          <p:nvPr/>
        </p:nvSpPr>
        <p:spPr>
          <a:xfrm>
            <a:off x="2571840" y="4929120"/>
            <a:ext cx="50004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Positio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419200" y="1857240"/>
            <a:ext cx="4305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Positio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507" name="모서리가 둥근 직사각형 4"/>
          <p:cNvSpPr/>
          <p:nvPr/>
        </p:nvSpPr>
        <p:spPr>
          <a:xfrm>
            <a:off x="2571840" y="2643120"/>
            <a:ext cx="500040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991040" cy="56577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035880" y="18216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3036240" y="367884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아래쪽 화살표 6"/>
          <p:cNvSpPr/>
          <p:nvPr/>
        </p:nvSpPr>
        <p:spPr>
          <a:xfrm rot="16200000">
            <a:off x="3035880" y="467928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2359080" y="1928880"/>
            <a:ext cx="4875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Positio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Z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Patter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Patter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1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Driv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driv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2386080" y="2852640"/>
            <a:ext cx="4371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imulation environment and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2371680" y="2100240"/>
            <a:ext cx="4400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23Z</dcterms:modified>
  <cp:revision>928</cp:revision>
  <dc:subject/>
  <dc:title>슬라이드 1</dc:title>
</cp:coreProperties>
</file>