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A5C7D-905B-48A3-A731-B676B283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725CA-D0A4-47CA-A2C8-842B755C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AC36E-45EE-4506-B298-2C9CF68B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7590C-15A8-4473-9144-4455A416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A9F47-9126-4EC6-A41B-4B618BF9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A6F40-860D-4CE9-92C1-5733C7E9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17C2B-C710-41F8-B423-BFBD3545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DD3F1-B752-4CAA-8D5A-32394F6A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90C52-C6AD-4D03-B7C9-0C3AFCCF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2CB2E-C22E-4589-9BDC-B1A7FE5E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F9670-3E37-40CF-853A-A46E55B0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AC941-F7D0-4B78-8E77-46089FFD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62B07-CEE5-4A74-B205-63C45FD0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4350A-4DD6-48E7-839D-58457595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6EF5A-4D59-4F08-AF55-C8512FF1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CD36F-86A9-4092-BAED-91D5D944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B6F81-1086-4899-BEED-62A7F2C8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6A892-1857-4995-8260-1072BD6F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FCACB-632F-4B06-9D5F-8DDBD01D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F6062-4960-457F-A5FB-D126F72B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ACC54-E0AF-4CA6-8C8A-70D67480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C0F19-7F44-455C-82FD-689F3EFB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EBF9A-964F-4E89-BAF3-C4D74136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27ADB-7F42-41E8-868F-834B9BA2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C3106-FB1F-4160-AA7A-A743F0D0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CE5F0-4B7A-4D4E-A59D-AB3FB0EA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940DF-6DC7-4D82-9680-642F2A1F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BF40C-1942-4B69-BAC9-5A0E1C0C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2134C-3140-4B4B-8FB3-8E936DFD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FD6BE-35D3-4084-A63C-DAF3F140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AC180-23A7-47AC-8AB8-6D9DCDB7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7D68B-9FFD-486C-8348-90CF8D95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5E6E4-5167-4C9F-AF54-208A03CC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C6E3-611C-4A7E-ACC4-9FBB783F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64E8-B7A3-4CD1-95DB-94162E02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1051-4EDA-412C-93CB-7583F271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F21E-3E4A-43C8-999D-13F50E55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D2EC-CDE6-46A6-8E76-72FFE08D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F18C-0855-48F2-9722-1AFE586B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D22C-E620-45D0-B8DA-B544711B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7909-A52C-43CE-8204-C9EA5246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BB2-0888-46A4-99CB-51029216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C39-E74D-4BA9-A57E-6AB0D583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CE3E-F3E6-4005-BEC6-38D51B4E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D2DD-7012-4528-A5C0-A3F36553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AAC2-9B4F-4A1F-B53C-191018BB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DAB7-3214-4CF8-AB01-B2138A9E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AE76-033D-4ED0-BF33-122750FE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1837-4F90-47DD-BF6F-AA68EE3A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6337-91AA-4684-8995-5CE602AD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5334-9F10-4AF6-B03F-28D2AB10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4AAD-944E-4017-B445-DD0EC508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D127-F2D7-4D01-9B96-7A5EC062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230C-7C7A-4174-A35F-513238AE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694C-A26D-475B-B477-60A342FA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EF49-C13A-4CB2-A9B8-18A6F9F6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140F-3618-4033-8EE7-5965A06C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44479-A5BA-477E-8A9C-1E7F0D23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AD094-15EC-4D46-BE14-DA55D568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71291-A5AB-4B7A-98BC-0EC0F041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553F1-9EF2-4BDD-A326-B37A271E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F2D7F-52C9-4421-B95B-F151AD73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C231B-E158-4E01-8F81-D5FECBBE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19F0D-F074-4F48-968E-4570176D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DB020-C674-4ED7-8F16-B94E2AC3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96E76-AACA-4FBE-AEF0-95996430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19B84-2202-4E6F-9BDF-3C54E3D4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39985-A876-4CC2-B7F8-4D194D09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2F826-6744-454D-BE19-3F24D785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684CA-18B2-4F04-A922-C134CED3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943D7-A853-48AF-8340-0B83398F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AD5C1-8727-414A-9A17-2B9CA7D1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A2381-C27A-479D-AC49-B1FE482A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E1872-215D-4ABF-82F1-9438E64E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5829C-1B3A-4801-AC0F-064C205C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9E7D1-A249-4E8D-A060-CB267365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207D7-89B9-4F68-A82D-7805DA92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B6748-0C09-4F59-878B-FD93C1B4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BCFCB-B165-48BF-9944-3FDD7B18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B63D8-4142-4655-B185-7576B35D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619B3-F33B-4C7B-B2E6-7C658678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C0A8D-C2F7-45C4-A9CC-DA3F5078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49AE1-2CA5-43B8-85FB-4F57A731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2EA53-AD22-44D4-AA21-6027BA1C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09C8E-4FF5-4A9E-BBE3-22D629B8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DE990-FD0C-4F33-9C81-2205632B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051A8-7072-4C12-9496-3DC45911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92655-784A-47A0-90D2-EFE549B0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5E755-3993-4926-B1B3-9F309CC9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5B858-545C-4053-A722-4006FEC9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5C18E-BDA1-4BD3-A321-D2428540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1EF97-75E4-41DA-9630-459DF53B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9E1C0-3393-4C54-98C2-EB7C4E38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C14A5-68D9-4D10-8323-1639DBC2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61428-44C0-4D18-BD00-7485EB5B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45F00-CAE5-4106-AB73-5DC3B850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AA4C2-971F-44E1-92C1-415F064D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A9FA0-7B2C-4434-A7F1-61BA5734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3E6F1-A374-4F96-8559-0C55FD8F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F6079-5DD8-4E05-B1C9-072C5D5C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B5CB1-6FCD-4BAF-A871-EE7F35BE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69127-77BA-4A2B-966B-D2D7D628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0AB14-740E-43B1-B730-CA648CE3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4E8D3-FE30-4E25-9463-553FC46B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04175-81EF-43A0-901B-A51D00E5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50643-BA94-4F09-8486-9FBCBE87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177D3-9A1C-40B1-BF90-3ADF205F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4DF9B-EB08-407D-BAAF-DA8DEC05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6E59-4EB2-4457-B673-8DAD0AE57E8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2A72-1DAF-42CF-98B7-9C0CD0DA4E6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5C82-B4EA-4940-86DC-195A9CDF2293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4251-E4B5-48FC-A3E1-17B71029501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6DD2-053B-4F56-BEA3-E8B1B801237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2280-3185-4C03-B806-BDEBEE8CA9B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1B6D-9A31-4CEC-8802-587A0FAB27A9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7B91-1C6C-4A8D-8F52-98CDAD3F9F7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FDC5-60E0-4434-9AF6-B1079290424E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21D5-5566-4DE6-8011-EFF3C779AFC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Maze Explorer with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3" name="Picture 7" descr=""/>
          <p:cNvPicPr/>
          <p:nvPr/>
        </p:nvPicPr>
        <p:blipFill>
          <a:blip r:embed="rId1"/>
          <a:stretch/>
        </p:blipFill>
        <p:spPr>
          <a:xfrm>
            <a:off x="2714760" y="1571760"/>
            <a:ext cx="4514760" cy="4971960"/>
          </a:xfrm>
          <a:prstGeom prst="rect">
            <a:avLst/>
          </a:prstGeom>
          <a:ln w="0">
            <a:noFill/>
          </a:ln>
        </p:spPr>
      </p:pic>
      <p:sp>
        <p:nvSpPr>
          <p:cNvPr id="504" name="아래쪽 화살표 5"/>
          <p:cNvSpPr/>
          <p:nvPr/>
        </p:nvSpPr>
        <p:spPr>
          <a:xfrm rot="16200000">
            <a:off x="2107440" y="2464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7" name="TextBox 3"/>
          <p:cNvSpPr/>
          <p:nvPr/>
        </p:nvSpPr>
        <p:spPr>
          <a:xfrm>
            <a:off x="2281320" y="1928880"/>
            <a:ext cx="4374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azeExplorer(lrf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.DistanceMeasurements[355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.DistanceMeasurements[270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.DistanceMeasurements[180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) o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d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00) o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d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000) 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Turn(-3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ls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g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500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Turn(3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To(0.1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maze.p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maze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 and robot environ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3" name="Picture 8" descr=""/>
          <p:cNvPicPr/>
          <p:nvPr/>
        </p:nvPicPr>
        <p:blipFill>
          <a:blip r:embed="rId1"/>
          <a:stretch/>
        </p:blipFill>
        <p:spPr>
          <a:xfrm>
            <a:off x="2496960" y="1857240"/>
            <a:ext cx="3646800" cy="4719600"/>
          </a:xfrm>
          <a:prstGeom prst="rect">
            <a:avLst/>
          </a:prstGeom>
          <a:ln w="0">
            <a:noFill/>
          </a:ln>
        </p:spPr>
      </p:pic>
      <p:sp>
        <p:nvSpPr>
          <p:cNvPr id="514" name="아래쪽 화살표 5"/>
          <p:cNvSpPr/>
          <p:nvPr/>
        </p:nvSpPr>
        <p:spPr>
          <a:xfrm rot="16200000">
            <a:off x="1893240" y="5464800"/>
            <a:ext cx="285480" cy="6426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아래쪽 화살표 6"/>
          <p:cNvSpPr/>
          <p:nvPr/>
        </p:nvSpPr>
        <p:spPr>
          <a:xfrm rot="5400000">
            <a:off x="5822280" y="482184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아래쪽 화살표 8"/>
          <p:cNvSpPr/>
          <p:nvPr/>
        </p:nvSpPr>
        <p:spPr>
          <a:xfrm rot="5400000">
            <a:off x="6107760" y="2107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MazeExplorer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4714920" y="928800"/>
            <a:ext cx="3071880" cy="5786280"/>
          </a:xfrm>
          <a:prstGeom prst="rect">
            <a:avLst/>
          </a:prstGeom>
          <a:ln w="0">
            <a:noFill/>
          </a:ln>
        </p:spPr>
      </p:pic>
      <p:sp>
        <p:nvSpPr>
          <p:cNvPr id="520" name="아래쪽 화살표 8"/>
          <p:cNvSpPr/>
          <p:nvPr/>
        </p:nvSpPr>
        <p:spPr>
          <a:xfrm rot="16200000">
            <a:off x="4464720" y="5893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zeExplorer() modu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3" name="Picture 7" descr=""/>
          <p:cNvPicPr/>
          <p:nvPr/>
        </p:nvPicPr>
        <p:blipFill>
          <a:blip r:embed="rId1"/>
          <a:stretch/>
        </p:blipFill>
        <p:spPr>
          <a:xfrm>
            <a:off x="2714760" y="1571760"/>
            <a:ext cx="4514760" cy="4971960"/>
          </a:xfrm>
          <a:prstGeom prst="rect">
            <a:avLst/>
          </a:prstGeom>
          <a:ln w="0">
            <a:noFill/>
          </a:ln>
        </p:spPr>
      </p:pic>
      <p:sp>
        <p:nvSpPr>
          <p:cNvPr id="524" name="모서리가 둥근 직사각형 4"/>
          <p:cNvSpPr/>
          <p:nvPr/>
        </p:nvSpPr>
        <p:spPr>
          <a:xfrm>
            <a:off x="1857240" y="2428920"/>
            <a:ext cx="6072480" cy="3500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7" name="Picture 6" descr=""/>
          <p:cNvPicPr/>
          <p:nvPr/>
        </p:nvPicPr>
        <p:blipFill>
          <a:blip r:embed="rId1"/>
          <a:stretch/>
        </p:blipFill>
        <p:spPr>
          <a:xfrm>
            <a:off x="2500200" y="2071800"/>
            <a:ext cx="42865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428920" y="1957320"/>
            <a:ext cx="42861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2857680" y="2238480"/>
            <a:ext cx="31431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2357280" y="2028960"/>
            <a:ext cx="42865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General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solution for the Maze Miss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Go along the left wall or right wal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4" name="직사각형 3"/>
          <p:cNvSpPr/>
          <p:nvPr/>
        </p:nvSpPr>
        <p:spPr>
          <a:xfrm>
            <a:off x="2786040" y="2500200"/>
            <a:ext cx="3571920" cy="31435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직선 연결선 5"/>
          <p:cNvSpPr/>
          <p:nvPr/>
        </p:nvSpPr>
        <p:spPr>
          <a:xfrm>
            <a:off x="2786040" y="3929040"/>
            <a:ext cx="100008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직선 연결선 6"/>
          <p:cNvSpPr/>
          <p:nvPr/>
        </p:nvSpPr>
        <p:spPr>
          <a:xfrm>
            <a:off x="5000760" y="2500200"/>
            <a:ext cx="0" cy="7146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직선 연결선 10"/>
          <p:cNvSpPr/>
          <p:nvPr/>
        </p:nvSpPr>
        <p:spPr>
          <a:xfrm flipH="1">
            <a:off x="5643720" y="4429080"/>
            <a:ext cx="71424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직선 연결선 13"/>
          <p:cNvSpPr/>
          <p:nvPr/>
        </p:nvSpPr>
        <p:spPr>
          <a:xfrm flipV="1">
            <a:off x="4500720" y="5143680"/>
            <a:ext cx="0" cy="4903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직선 연결선 16"/>
          <p:cNvSpPr/>
          <p:nvPr/>
        </p:nvSpPr>
        <p:spPr>
          <a:xfrm>
            <a:off x="3071880" y="4286160"/>
            <a:ext cx="0" cy="71460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직선 연결선 17"/>
          <p:cNvSpPr/>
          <p:nvPr/>
        </p:nvSpPr>
        <p:spPr>
          <a:xfrm>
            <a:off x="3071880" y="2786040"/>
            <a:ext cx="0" cy="71424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직선 연결선 18"/>
          <p:cNvSpPr/>
          <p:nvPr/>
        </p:nvSpPr>
        <p:spPr>
          <a:xfrm flipH="1">
            <a:off x="3214800" y="4071960"/>
            <a:ext cx="490320" cy="9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직선 연결선 20"/>
          <p:cNvSpPr/>
          <p:nvPr/>
        </p:nvSpPr>
        <p:spPr>
          <a:xfrm flipH="1">
            <a:off x="3642840" y="2642400"/>
            <a:ext cx="490680" cy="9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직선 연결선 21"/>
          <p:cNvSpPr/>
          <p:nvPr/>
        </p:nvSpPr>
        <p:spPr>
          <a:xfrm flipH="1">
            <a:off x="3223800" y="3704400"/>
            <a:ext cx="490680" cy="9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직선 연결선 22"/>
          <p:cNvSpPr/>
          <p:nvPr/>
        </p:nvSpPr>
        <p:spPr>
          <a:xfrm flipH="1">
            <a:off x="3928680" y="3786120"/>
            <a:ext cx="9720" cy="2761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직선 연결선 24"/>
          <p:cNvSpPr/>
          <p:nvPr/>
        </p:nvSpPr>
        <p:spPr>
          <a:xfrm>
            <a:off x="4786200" y="2643120"/>
            <a:ext cx="0" cy="71460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직선 연결선 25"/>
          <p:cNvSpPr/>
          <p:nvPr/>
        </p:nvSpPr>
        <p:spPr>
          <a:xfrm>
            <a:off x="5214960" y="2643120"/>
            <a:ext cx="0" cy="71460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직선 연결선 26"/>
          <p:cNvSpPr/>
          <p:nvPr/>
        </p:nvSpPr>
        <p:spPr>
          <a:xfrm flipH="1" flipV="1">
            <a:off x="4929120" y="3490920"/>
            <a:ext cx="214560" cy="9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eck distances against for the left side wall and front wal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0" name="직사각형 3"/>
          <p:cNvSpPr/>
          <p:nvPr/>
        </p:nvSpPr>
        <p:spPr>
          <a:xfrm>
            <a:off x="2571840" y="2643120"/>
            <a:ext cx="142920" cy="292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직사각형 4"/>
          <p:cNvSpPr/>
          <p:nvPr/>
        </p:nvSpPr>
        <p:spPr>
          <a:xfrm>
            <a:off x="2786040" y="2357280"/>
            <a:ext cx="3276720" cy="204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모서리가 둥근 직사각형 5"/>
          <p:cNvSpPr/>
          <p:nvPr/>
        </p:nvSpPr>
        <p:spPr>
          <a:xfrm>
            <a:off x="4429080" y="4165560"/>
            <a:ext cx="714600" cy="1143000"/>
          </a:xfrm>
          <a:custGeom>
            <a:avLst/>
            <a:gdLst>
              <a:gd name="textAreaLeft" fmla="*/ 34560 w 714600"/>
              <a:gd name="textAreaRight" fmla="*/ 680040 w 714600"/>
              <a:gd name="textAreaTop" fmla="*/ 34560 h 1143000"/>
              <a:gd name="textAreaBottom" fmla="*/ 1108440 h 1143000"/>
            </a:gdLst>
            <a:ahLst/>
            <a:rect l="textAreaLeft" t="textAreaTop" r="textAreaRight" b="textAreaBottom"/>
            <a:pathLst>
              <a:path w="21600" h="34543">
                <a:moveTo>
                  <a:pt x="3600" y="0"/>
                </a:moveTo>
                <a:arcTo wR="3600" hR="3600" stAng="16200000" swAng="-5400000"/>
                <a:lnTo>
                  <a:pt x="0" y="30943"/>
                </a:lnTo>
                <a:arcTo wR="3600" hR="3600" stAng="10800000" swAng="-5400000"/>
                <a:lnTo>
                  <a:pt x="18000" y="34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73" name="직선 화살표 연결선 9"/>
          <p:cNvCxnSpPr/>
          <p:nvPr/>
        </p:nvCxnSpPr>
        <p:spPr>
          <a:xfrm flipH="1" flipV="1">
            <a:off x="4071600" y="4451040"/>
            <a:ext cx="357840" cy="216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cxnSp>
        <p:nvCxnSpPr>
          <p:cNvPr id="474" name="직선 화살표 연결선 10"/>
          <p:cNvCxnSpPr/>
          <p:nvPr/>
        </p:nvCxnSpPr>
        <p:spPr>
          <a:xfrm flipH="1" flipV="1">
            <a:off x="4785480" y="3521880"/>
            <a:ext cx="10440" cy="65484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cxnSp>
        <p:nvCxnSpPr>
          <p:cNvPr id="475" name="직선 화살표 연결선 12"/>
          <p:cNvCxnSpPr/>
          <p:nvPr/>
        </p:nvCxnSpPr>
        <p:spPr>
          <a:xfrm flipH="1" flipV="1">
            <a:off x="4123800" y="3858840"/>
            <a:ext cx="377280" cy="37872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476" name="TextBox 15"/>
          <p:cNvSpPr/>
          <p:nvPr/>
        </p:nvSpPr>
        <p:spPr>
          <a:xfrm>
            <a:off x="1922040" y="385776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4136760" y="185724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TextBox 17"/>
          <p:cNvSpPr/>
          <p:nvPr/>
        </p:nvSpPr>
        <p:spPr>
          <a:xfrm>
            <a:off x="4860000" y="3000240"/>
            <a:ext cx="189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18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TextBox 18"/>
          <p:cNvSpPr/>
          <p:nvPr/>
        </p:nvSpPr>
        <p:spPr>
          <a:xfrm>
            <a:off x="3143160" y="3427560"/>
            <a:ext cx="157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27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TextBox 19"/>
          <p:cNvSpPr/>
          <p:nvPr/>
        </p:nvSpPr>
        <p:spPr>
          <a:xfrm>
            <a:off x="3214800" y="4308480"/>
            <a:ext cx="121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35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자유형 20"/>
          <p:cNvSpPr/>
          <p:nvPr/>
        </p:nvSpPr>
        <p:spPr>
          <a:xfrm rot="17992800">
            <a:off x="5831280" y="4331520"/>
            <a:ext cx="1052640" cy="54936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c0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TextBox 21"/>
          <p:cNvSpPr/>
          <p:nvPr/>
        </p:nvSpPr>
        <p:spPr>
          <a:xfrm>
            <a:off x="6252840" y="457200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Turn right 30 degre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urn right slightly (about 30 degrees) for the left and front wall detection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f 1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s less than 1000 millimeter, turn right 30 degrees (-30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f 27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s less than 500 millimeter, turn right 30 degrees (-30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f 35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s less than 200 millimeter, turn right 30 degrees (-30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eck open space on the left sid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7" name="직사각형 3"/>
          <p:cNvSpPr/>
          <p:nvPr/>
        </p:nvSpPr>
        <p:spPr>
          <a:xfrm>
            <a:off x="3071880" y="2428920"/>
            <a:ext cx="214200" cy="3000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직사각형 4"/>
          <p:cNvSpPr/>
          <p:nvPr/>
        </p:nvSpPr>
        <p:spPr>
          <a:xfrm>
            <a:off x="3286080" y="3786120"/>
            <a:ext cx="135720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모서리가 둥근 직사각형 5"/>
          <p:cNvSpPr/>
          <p:nvPr/>
        </p:nvSpPr>
        <p:spPr>
          <a:xfrm>
            <a:off x="4214880" y="4286160"/>
            <a:ext cx="1357200" cy="7146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90" name="직선 화살표 연결선 9"/>
          <p:cNvCxnSpPr/>
          <p:nvPr/>
        </p:nvCxnSpPr>
        <p:spPr>
          <a:xfrm flipV="1">
            <a:off x="5285160" y="3357360"/>
            <a:ext cx="2520" cy="93096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491" name="TextBox 15"/>
          <p:cNvSpPr/>
          <p:nvPr/>
        </p:nvSpPr>
        <p:spPr>
          <a:xfrm>
            <a:off x="2257200" y="371484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TextBox 19"/>
          <p:cNvSpPr/>
          <p:nvPr/>
        </p:nvSpPr>
        <p:spPr>
          <a:xfrm>
            <a:off x="5429160" y="3191040"/>
            <a:ext cx="121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35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자유형 20"/>
          <p:cNvSpPr/>
          <p:nvPr/>
        </p:nvSpPr>
        <p:spPr>
          <a:xfrm flipV="1" rot="14829000">
            <a:off x="5729040" y="2601720"/>
            <a:ext cx="801720" cy="40824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c0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TextBox 21"/>
          <p:cNvSpPr/>
          <p:nvPr/>
        </p:nvSpPr>
        <p:spPr>
          <a:xfrm>
            <a:off x="6157800" y="20001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Turn left 30 degre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eck open space on the left sid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f 35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s greater than 1500 millimeter, turn left 30 degrees (30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seudo code for Maze Miss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9" name="Picture 5" descr=""/>
          <p:cNvPicPr/>
          <p:nvPr/>
        </p:nvPicPr>
        <p:blipFill>
          <a:blip r:embed="rId1"/>
          <a:stretch/>
        </p:blipFill>
        <p:spPr>
          <a:xfrm>
            <a:off x="2781360" y="1928880"/>
            <a:ext cx="3581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41:59Z</dcterms:modified>
  <cp:revision>976</cp:revision>
  <dc:subject/>
  <dc:title>슬라이드 1</dc:title>
</cp:coreProperties>
</file>