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535E5-EEFC-4ED4-BE9F-BA3457C3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CA16A-1582-4B12-B7B8-4CD4B4BF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003C1-6094-484E-B6E8-DB1E4104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0030C-69DB-495B-B1C2-C4C2ACDC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A7DE0-0C99-4D92-8581-866A1B5F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6B96C-5B95-49B3-8C2E-D9636722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23F44-D1B4-460A-AABF-11228C84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EB89E-F85F-4B45-9493-30AC5C3D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39119-4460-49E6-A6A6-C61E9053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E744B-65D2-46D7-AD7D-CD533AC1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B1888-AF08-44A3-8200-CE4344D2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9B7DE-4DEE-46E3-86E7-FB1E6955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7CA8A-F85E-4386-B726-5004EC77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06750-E16E-4F9E-9477-C6C4F42A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5F79F-4819-4ACA-A47E-BF252F7B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ED540-B383-4995-B205-AE40B316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40277-BF18-4E04-8A6E-9C1F7760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0BC34-6FB7-41CA-94A3-7CA90D89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D27F4-18B2-41B1-B31E-44CC802A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64769-12EA-4BD9-9443-E1EADC27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0F630-1072-42F8-9515-5433FC99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A8D6F-3EFE-452F-8735-560A0EA2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E4093-62B5-4EC4-BE34-C40C7A7F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30F2D-3F87-4023-A78F-F3C0C13C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1DA7F-7133-4721-B2BE-DC58BBBE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E49EF-3001-4252-A84D-7354536A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EAED8-6361-4B6C-9332-0A613DE1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46421-66B4-4244-B100-8CB57E00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43C3D-D83C-4B89-846E-140138C1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859DA-1A4C-42FC-BB60-24863CF5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DC017-0543-4310-BE48-B459F9A9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5F493-5732-428E-A164-1C971F0C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5935C-3D64-4269-8B6F-F4D94B58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880-8920-4E6B-BBB9-46FC3C4B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55E-12C1-4B86-804D-140AB92F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403-FF8C-4A6F-BBBA-E4573395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35E-0493-4D89-9034-DA7FAB53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006-1EB7-4296-8B2F-B59BF947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2D1-193B-46D8-8CE8-43AD586D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F79-2926-4A7E-A104-6BCF3541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4F6-6568-4BE3-B2BE-8C1BDD9A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DE8-8722-4FEB-AF12-B947D90D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85F-FC30-43C6-8934-1FAABE2F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364-DF72-41EB-BF4D-4DA0925A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E35-8AC7-470D-A42D-332E7233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55BE-9324-4C55-862F-ADF39ACA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4FF5-CC6A-4DF4-BADC-6C3891D7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E5D4-C3BA-46EA-A9B6-45AD63F1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2CB1-B16E-4934-B491-58AB8607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993F-3C7F-4022-906D-3A23786D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31CC-91A7-48F7-A629-ADA73504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00E1-55D5-4D7A-ACD5-C4725CFA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23ED-CD8C-4157-AA29-714022E8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B52F-B852-4FE5-9E94-4B988643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A475-4B8C-4E04-BF61-3FD353AA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30E6-7D8F-46C9-B12A-7EB48E9C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E1DE-DE27-4195-97A2-A3854CA8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3685-2AF8-4980-8EC0-E848C25B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104F-8EA1-4062-9C2B-C52A4B08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54DC-82C6-418B-AF31-74F84882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0C856-65A4-42CF-A57D-C7D146A8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1B7D-B3CD-4402-B405-7EB6B9EA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6EFB-7F2F-401F-91D1-251D4DDB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79A3-2A39-4D3D-9C66-3551BBE2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BC83-5D77-4CA1-ADE0-B23B42AE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B0FA5-431A-4998-A9E1-7265520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7C5D4-4B67-484D-92BD-D24EA564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3F66-960B-4D39-AD8E-F90F846F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BDFE-DF73-4F74-8D04-7699169F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3D9DA-3C03-4005-90B0-1CE4BEB3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53C38-6821-4BF8-BDDF-9DE04984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1D2A5-60E2-4AFC-876F-8106BC1D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0A37-7246-47AF-81B2-0C5CD017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727EA-3A3A-43FE-B059-577CE591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0B96E-F15B-46B5-B077-EFD4E534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EF7C4-2335-4F10-ACC3-177829C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CBDF1-5622-4F75-8B05-ADCABF87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C5020-5AE9-45BF-8F3C-338B6963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3B75D-357D-441C-A6FE-5F05390F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B84D-8DF4-4268-BFFD-266FA484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40959-6AB2-4FEF-9F8A-392A607A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C2A2E-68DF-4B91-ABEF-7054C810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F014-E1DF-4DA3-9AE7-463F25EB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BD3B3-AD5F-40AA-BCC5-8A1D5069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56E2D-126C-48B6-9DB1-EC958215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EE2C5-D45C-4A43-A0DD-37C9F6A3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B143-0032-4B05-BA20-2A04A854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11077-C140-4618-A1AE-B82177E8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997F-2337-49D2-81C5-8C803106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CD3D2-7DD0-419D-A9F9-B00D6371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E4976-C0AA-44C4-BCEE-4208BFC9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39710-32FA-4AB9-A3A9-3A1EBEB8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0F048-CA3D-4615-ADD9-587D294C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21BBD-5CC5-46F1-889F-8CB81CE6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E9592-6CEF-42C9-9BF2-C49486B1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DCDB1-E904-4122-8961-87A75174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A2127-D11A-4D9E-A858-53948ED6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905C6-C0C6-489B-856B-96F9F6E8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1B1D7-4425-410E-BF77-D5C8DB49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E0CDD-5445-4A2F-ABA6-5579F031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50652-2A28-422E-BA73-C8B1384E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49B0F-C38D-4D55-98A5-020E8DE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52D1E-529D-4873-ABBF-D6779A2C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AF82C-DE05-460B-B967-8C341DA5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6B254-C3EF-40CE-B36F-EF41E4BF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BBBB9-C973-46A3-BC45-80D6193B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F228B-4D3F-4D7C-A548-67D72272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94F2B-98B4-4D86-8186-0D910877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10EF-B14E-42CB-AB3F-0A2874F0050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71D9-4D02-4DEA-93CA-423C4A112E4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2761-19AC-4094-ABC1-A96A5EAA1160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1128-1A40-4753-A217-6D463C97F69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0CC5-9F6D-4734-9BFC-6BA6E301E47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5F76-5D21-451C-8705-D53D80AA112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830B-A137-4F95-8E34-B5E3AC7FD56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7E9E-32EF-47C3-986B-713505D7E09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2679-AAFA-4EEE-8600-ACC7172240F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DF91-61D2-427C-AD44-DD9514C37F9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im environment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dumy entity to check whether sim engine is start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2247840" y="2376360"/>
            <a:ext cx="46483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6" name="Picture 7" descr=""/>
          <p:cNvPicPr/>
          <p:nvPr/>
        </p:nvPicPr>
        <p:blipFill>
          <a:blip r:embed="rId1"/>
          <a:stretch/>
        </p:blipFill>
        <p:spPr>
          <a:xfrm>
            <a:off x="642960" y="1933560"/>
            <a:ext cx="8096400" cy="4067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자유형 5"/>
          <p:cNvSpPr/>
          <p:nvPr/>
        </p:nvSpPr>
        <p:spPr>
          <a:xfrm>
            <a:off x="2571840" y="3857760"/>
            <a:ext cx="1714320" cy="12859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아래쪽 화살표 6"/>
          <p:cNvSpPr/>
          <p:nvPr/>
        </p:nvSpPr>
        <p:spPr>
          <a:xfrm rot="16200000">
            <a:off x="53568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splengin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ApplyForc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3714840" y="1643040"/>
            <a:ext cx="4562280" cy="4838760"/>
          </a:xfrm>
          <a:prstGeom prst="rect">
            <a:avLst/>
          </a:prstGeom>
          <a:ln w="0">
            <a:noFill/>
          </a:ln>
        </p:spPr>
      </p:pic>
      <p:sp>
        <p:nvSpPr>
          <p:cNvPr id="483" name="아래쪽 화살표 4"/>
          <p:cNvSpPr/>
          <p:nvPr/>
        </p:nvSpPr>
        <p:spPr>
          <a:xfrm rot="16200000">
            <a:off x="310752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reateEntity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6" name="Picture 6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6010200" cy="4905360"/>
          </a:xfrm>
          <a:prstGeom prst="rect">
            <a:avLst/>
          </a:prstGeom>
          <a:ln w="0">
            <a:noFill/>
          </a:ln>
        </p:spPr>
      </p:pic>
      <p:sp>
        <p:nvSpPr>
          <p:cNvPr id="487" name="모서리가 둥근 직사각형 4"/>
          <p:cNvSpPr/>
          <p:nvPr/>
        </p:nvSpPr>
        <p:spPr>
          <a:xfrm>
            <a:off x="642960" y="2571840"/>
            <a:ext cx="8072280" cy="3500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286160" cy="3686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4000680" y="29289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6010200" cy="490536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5"/>
          <p:cNvSpPr/>
          <p:nvPr/>
        </p:nvSpPr>
        <p:spPr>
          <a:xfrm rot="16200000">
            <a:off x="132156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1704960" y="2143080"/>
            <a:ext cx="55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pplyForce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NewEnt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Position: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\n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BoxShap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Dimensions: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Mass:0.1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m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1.Force(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.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cm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ity_control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entity_control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2319480" y="2838600"/>
            <a:ext cx="450504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SPLEngine” comman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6" name="Picture 9" descr=""/>
          <p:cNvPicPr/>
          <p:nvPr/>
        </p:nvPicPr>
        <p:blipFill>
          <a:blip r:embed="rId1"/>
          <a:stretch/>
        </p:blipFill>
        <p:spPr>
          <a:xfrm>
            <a:off x="566640" y="1981080"/>
            <a:ext cx="8010720" cy="35910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자유형 5"/>
          <p:cNvSpPr/>
          <p:nvPr/>
        </p:nvSpPr>
        <p:spPr>
          <a:xfrm flipV="1">
            <a:off x="1857240" y="3714120"/>
            <a:ext cx="3143520" cy="9284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19800" y="392904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아래쪽 화살표 7"/>
          <p:cNvSpPr/>
          <p:nvPr/>
        </p:nvSpPr>
        <p:spPr>
          <a:xfrm rot="16200000">
            <a:off x="378720" y="4321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8"/>
          <p:cNvSpPr/>
          <p:nvPr/>
        </p:nvSpPr>
        <p:spPr>
          <a:xfrm rot="1502400">
            <a:off x="3050640" y="2244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5:18:26Z</dcterms:modified>
  <cp:revision>986</cp:revision>
  <dc:subject/>
  <dc:title>슬라이드 1</dc:title>
</cp:coreProperties>
</file>