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9DE3D-D384-4077-A0B3-F491FAA3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9D11B-747E-42B2-8F6B-7839D50A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406DE-533D-4B35-9DAB-82C83DBC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3B146-875C-428A-81D5-00EBEE70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F18C3-CB72-45D8-8B2D-C39F3A4A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17FB6-02DA-424A-9A61-4E9EC518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B7E72-5E60-4F3A-B83E-2E0E874B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BB97F-7083-4E8E-9F8B-1B0AC8595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CA000-269A-4EF7-925B-67B6EDB76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918B3-E081-4F69-92C7-AFEB7F904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00DD1-5766-4DB2-BA20-11527E0F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FB09D-D81B-4000-B46B-BD694214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6C8F2-5847-4059-BD37-18946004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4A21F-B523-4343-B7D6-FECE99D9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B064A-209D-48D0-BD29-1FE408F2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814D3-6470-427E-8331-C2DD66F9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EBC57-27AA-4FE1-8502-4A8E0797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66D32-1DB3-42DD-A2D7-FAA3592C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0A0C9-0956-4894-9BD1-849B43D8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97996-6AEE-4EB5-88D0-5E2FF490C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CA47D-A2F9-46E2-8FC7-519F86712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E8A03-B1E8-4984-BF24-52F2A4C25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30EE8-B92A-44EB-8723-5BDE0DCC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F922A-D945-4C8F-AEFA-C25D3182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8B62DE-8DC2-40C9-83A5-4771FF96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994B9-3F75-48BC-92B4-7DD44177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ABD21E-2A55-4F6D-9DE2-BC140A2F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E44C3B-5151-4C4D-AB18-5383BBF4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F0D315-A8FF-4836-B0AC-A5D0092A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EE444-9BF6-490F-A1F5-479ED8F9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9DC19E-1585-4072-9D32-14FEA38E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D7A80C-1819-4D65-8767-7EA98AD2C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6BB0B-D08E-4E80-BEDC-BF97A1B3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9DC5-24B5-44E4-9677-272D30ECB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76D5-EA97-4C8F-B76A-E060720F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EE09-058E-4FEB-BD3F-3CBFA456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66E2-1175-4EB0-9749-180CEA30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DFB3-D7A3-4FC7-BEC5-CBF57E39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CAC6-231E-49F6-8250-BF8D8971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F42C-0A48-4B94-A8F2-FA99385A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DDEE-5BBF-49C3-93F1-912BDC65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065C-F3DB-43F2-A2E7-EF882F40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6E64-33CE-405F-8B17-EB659B33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AFEF-DE41-43DC-8D63-03C8A38EC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A511-5742-4835-AF0D-EFDA54239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8EDD-57EB-4389-8A9B-8A9259DB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0E78-AC98-4BA1-8000-C0B93ADF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EF19-1DC6-40F0-806E-2CE2BC30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A19B-E39D-46F3-AF78-E7795CFD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E616-CAF5-49AA-8CBC-96030EB7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5C61-DAA7-4256-8B10-44CDD65A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C5A9-8788-44AA-BFCE-C1F4BFFD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C246-49DC-4729-A602-80E27ADC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33C0-0B29-45D0-981D-6260E227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7720-0C84-47B8-B306-0BF3CBB4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E3E2-B9B1-4050-9076-B3CE60873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E6D7-9C6E-4F05-A9E0-7F9734D19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A1220-53F0-4DEA-B1C1-ED977185C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85E12-BB51-4972-9089-4CD89B65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5AD0B-04C5-43CA-83DF-8763DB49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49E62-A6F9-424E-817A-720C6FE7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6513F-E094-4859-93ED-9F5D4DA8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2080A-4EC9-4CB4-B4BA-C94CEE6E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F0DD7-0505-48A5-BDF4-306DBB7F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C4D7A-1B80-4732-BD32-5C8C72F0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FAE45-4086-4AF7-81A3-2441A3F0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515A4-1ECE-46A0-BECA-E5189C70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4C833-4C99-4EDE-B87B-60A9500E1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9D052-5DEE-45C4-8BE8-CE658D2D9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571AA-24C7-4470-BD4C-AF296AE06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C2908-5151-450A-ACAD-DF14A91C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C8503-017F-42CB-8660-38EC4142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3C28D-A9EE-4EC0-9A44-D5208EE3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BCCCE-E571-4987-9339-570A1324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5789F-0CBA-47EA-9982-1B5A3A1B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0633E-04F9-49FE-BCD5-91D393F1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338DC-1B2C-4A42-9A95-7A6E1029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2C5BC-FAFD-442F-A0FE-63EAB2C6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BAE0A-E164-4CF8-9481-9FA63355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73BCC-98E1-485D-82EA-8D7887DFB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9AF3B-AC41-4940-9371-1D08B55AD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F2DDC-C00B-4791-BEFA-90C716C91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51FBB-1725-4198-BC32-CA25FCA7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02DA6-E203-47C2-9414-E6CAE53D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65324-FFA5-4A38-A70D-A5FEEBF8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6C0F8-63A4-48E0-8BE2-2F333A8D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2E7E5-8C04-4615-8E05-4BE0E5A3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71B94-E367-49AA-9062-DA93E4AF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31A35-514A-47DE-AF1A-9E31CE5A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03EE5-20C4-4650-BC7B-BC477764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2CDF8-F276-48F3-9313-FD052B48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096DD-767F-4FD9-92B4-6867C4BF6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BC3CD-DFFC-45AC-9FE1-895B71AE5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04A17-2B58-4378-BB42-DDC2DB0CB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FB06C-C9E3-4037-A742-B9AB00CA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8F798-6AC9-4B50-9F36-922456A0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7DCB9-BD94-4A95-A408-616319D0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6086F-9CFD-4918-8A9D-7680BA4C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88093-866A-4676-BB23-37785D1A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09D83-848C-4D41-AAE6-98414AFC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EAF8B-0E69-474E-98E1-167CFBF5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5358F-9A01-46EE-B93A-D775F0D3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BBCDA-33C7-4F61-96F8-DFC421D8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13977-079F-436D-A4BE-7ECC2DB28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8E136-C4A3-435C-B56A-05ADAE71B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BED0E-F040-40DC-8DAE-25DC0F2FA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DEBB5-B536-4C1C-B3A9-2155E254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9662C-8173-4166-80B6-48CB32C3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F7AB-5D1A-4B66-B3DC-F1835A15499A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AE15-A208-4F10-A1A1-880A869BFE0E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E2CA-4DAC-4E1E-AB1D-537F4455E867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A790-DAE8-4599-8BC6-F6D7B21C1698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6041-DE0D-4BC3-960A-29FF494D4BC0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CCCE-1D00-4850-ADDB-23335C5C0114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88E2-E36D-4ECC-B9F5-2F749EA31C9A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549C-901D-4E6C-9E94-3F052C305282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9317-9A26-4855-A3F5-E3C3F7F4E976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450A-0180-480E-A9B8-AC5F2F9F5117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Maze Explorer with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3" name="Picture 7" descr=""/>
          <p:cNvPicPr/>
          <p:nvPr/>
        </p:nvPicPr>
        <p:blipFill>
          <a:blip r:embed="rId1"/>
          <a:stretch/>
        </p:blipFill>
        <p:spPr>
          <a:xfrm>
            <a:off x="2714760" y="1571760"/>
            <a:ext cx="4514760" cy="4971960"/>
          </a:xfrm>
          <a:prstGeom prst="rect">
            <a:avLst/>
          </a:prstGeom>
          <a:ln w="0">
            <a:noFill/>
          </a:ln>
        </p:spPr>
      </p:pic>
      <p:sp>
        <p:nvSpPr>
          <p:cNvPr id="504" name="아래쪽 화살표 5"/>
          <p:cNvSpPr/>
          <p:nvPr/>
        </p:nvSpPr>
        <p:spPr>
          <a:xfrm rot="16200000">
            <a:off x="2107440" y="24645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7" name="TextBox 3"/>
          <p:cNvSpPr/>
          <p:nvPr/>
        </p:nvSpPr>
        <p:spPr>
          <a:xfrm>
            <a:off x="2281320" y="1928880"/>
            <a:ext cx="4374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MazeExplorer(lrf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lrf.DistanceMeasurements[355]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lrf.DistanceMeasurements[270]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lrf.DistanceMeasurements[180]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d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lt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0) or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d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lt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500) or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d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lt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000) 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Turn(-3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2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Go(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else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gt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500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Turn(3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2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GoTo(0.1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3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Go(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maze.py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eady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maze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basic python script and robot environmen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13" name="Picture 8" descr=""/>
          <p:cNvPicPr/>
          <p:nvPr/>
        </p:nvPicPr>
        <p:blipFill>
          <a:blip r:embed="rId1"/>
          <a:stretch/>
        </p:blipFill>
        <p:spPr>
          <a:xfrm>
            <a:off x="2496960" y="1857240"/>
            <a:ext cx="3646800" cy="4719600"/>
          </a:xfrm>
          <a:prstGeom prst="rect">
            <a:avLst/>
          </a:prstGeom>
          <a:ln w="0">
            <a:noFill/>
          </a:ln>
        </p:spPr>
      </p:pic>
      <p:sp>
        <p:nvSpPr>
          <p:cNvPr id="514" name="아래쪽 화살표 5"/>
          <p:cNvSpPr/>
          <p:nvPr/>
        </p:nvSpPr>
        <p:spPr>
          <a:xfrm rot="16200000">
            <a:off x="1893240" y="5464800"/>
            <a:ext cx="285480" cy="64260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아래쪽 화살표 6"/>
          <p:cNvSpPr/>
          <p:nvPr/>
        </p:nvSpPr>
        <p:spPr>
          <a:xfrm rot="5400000">
            <a:off x="5822280" y="482184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아래쪽 화살표 8"/>
          <p:cNvSpPr/>
          <p:nvPr/>
        </p:nvSpPr>
        <p:spPr>
          <a:xfrm rot="5400000">
            <a:off x="6107760" y="21074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MazeExplorer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19" name="Picture 6" descr=""/>
          <p:cNvPicPr/>
          <p:nvPr/>
        </p:nvPicPr>
        <p:blipFill>
          <a:blip r:embed="rId1"/>
          <a:stretch/>
        </p:blipFill>
        <p:spPr>
          <a:xfrm>
            <a:off x="4714920" y="928800"/>
            <a:ext cx="3071880" cy="5786280"/>
          </a:xfrm>
          <a:prstGeom prst="rect">
            <a:avLst/>
          </a:prstGeom>
          <a:ln w="0">
            <a:noFill/>
          </a:ln>
        </p:spPr>
      </p:pic>
      <p:sp>
        <p:nvSpPr>
          <p:cNvPr id="520" name="아래쪽 화살표 8"/>
          <p:cNvSpPr/>
          <p:nvPr/>
        </p:nvSpPr>
        <p:spPr>
          <a:xfrm rot="16200000">
            <a:off x="4464720" y="58935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MazeExplorer() modu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3" name="Picture 7" descr=""/>
          <p:cNvPicPr/>
          <p:nvPr/>
        </p:nvPicPr>
        <p:blipFill>
          <a:blip r:embed="rId1"/>
          <a:stretch/>
        </p:blipFill>
        <p:spPr>
          <a:xfrm>
            <a:off x="2714760" y="1571760"/>
            <a:ext cx="4514760" cy="4971960"/>
          </a:xfrm>
          <a:prstGeom prst="rect">
            <a:avLst/>
          </a:prstGeom>
          <a:ln w="0">
            <a:noFill/>
          </a:ln>
        </p:spPr>
      </p:pic>
      <p:sp>
        <p:nvSpPr>
          <p:cNvPr id="524" name="모서리가 둥근 직사각형 4"/>
          <p:cNvSpPr/>
          <p:nvPr/>
        </p:nvSpPr>
        <p:spPr>
          <a:xfrm>
            <a:off x="1857240" y="2428920"/>
            <a:ext cx="6072480" cy="3500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7" name="Picture 6" descr=""/>
          <p:cNvPicPr/>
          <p:nvPr/>
        </p:nvPicPr>
        <p:blipFill>
          <a:blip r:embed="rId1"/>
          <a:stretch/>
        </p:blipFill>
        <p:spPr>
          <a:xfrm>
            <a:off x="2500200" y="2071800"/>
            <a:ext cx="428652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ed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1"/>
          <a:stretch/>
        </p:blipFill>
        <p:spPr>
          <a:xfrm>
            <a:off x="2428920" y="1957320"/>
            <a:ext cx="428616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General solution for the Maze Miss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ed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2857680" y="2238480"/>
            <a:ext cx="314316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ed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2357280" y="2028960"/>
            <a:ext cx="428652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General</a:t>
            </a: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solution for the Maze Missi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neral solution for the Maze Miss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Go along the left wall or right wal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4" name="직사각형 3"/>
          <p:cNvSpPr/>
          <p:nvPr/>
        </p:nvSpPr>
        <p:spPr>
          <a:xfrm>
            <a:off x="2786040" y="2500200"/>
            <a:ext cx="3571920" cy="31435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직선 연결선 5"/>
          <p:cNvSpPr/>
          <p:nvPr/>
        </p:nvSpPr>
        <p:spPr>
          <a:xfrm>
            <a:off x="2786040" y="3929040"/>
            <a:ext cx="100008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직선 연결선 6"/>
          <p:cNvSpPr/>
          <p:nvPr/>
        </p:nvSpPr>
        <p:spPr>
          <a:xfrm>
            <a:off x="5000760" y="2500200"/>
            <a:ext cx="0" cy="7146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직선 연결선 10"/>
          <p:cNvSpPr/>
          <p:nvPr/>
        </p:nvSpPr>
        <p:spPr>
          <a:xfrm flipH="1">
            <a:off x="5643720" y="4429080"/>
            <a:ext cx="71424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직선 연결선 13"/>
          <p:cNvSpPr/>
          <p:nvPr/>
        </p:nvSpPr>
        <p:spPr>
          <a:xfrm flipV="1">
            <a:off x="4500720" y="5143680"/>
            <a:ext cx="0" cy="4903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직선 연결선 16"/>
          <p:cNvSpPr/>
          <p:nvPr/>
        </p:nvSpPr>
        <p:spPr>
          <a:xfrm>
            <a:off x="3071880" y="4286160"/>
            <a:ext cx="0" cy="71460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직선 연결선 17"/>
          <p:cNvSpPr/>
          <p:nvPr/>
        </p:nvSpPr>
        <p:spPr>
          <a:xfrm>
            <a:off x="3071880" y="2786040"/>
            <a:ext cx="0" cy="71424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직선 연결선 18"/>
          <p:cNvSpPr/>
          <p:nvPr/>
        </p:nvSpPr>
        <p:spPr>
          <a:xfrm flipH="1">
            <a:off x="3214800" y="4071960"/>
            <a:ext cx="490320" cy="936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직선 연결선 20"/>
          <p:cNvSpPr/>
          <p:nvPr/>
        </p:nvSpPr>
        <p:spPr>
          <a:xfrm flipH="1">
            <a:off x="3642840" y="2642400"/>
            <a:ext cx="490680" cy="972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직선 연결선 21"/>
          <p:cNvSpPr/>
          <p:nvPr/>
        </p:nvSpPr>
        <p:spPr>
          <a:xfrm flipH="1">
            <a:off x="3223800" y="3704400"/>
            <a:ext cx="490680" cy="972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직선 연결선 22"/>
          <p:cNvSpPr/>
          <p:nvPr/>
        </p:nvSpPr>
        <p:spPr>
          <a:xfrm flipH="1">
            <a:off x="3928680" y="3786120"/>
            <a:ext cx="9720" cy="27612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직선 연결선 24"/>
          <p:cNvSpPr/>
          <p:nvPr/>
        </p:nvSpPr>
        <p:spPr>
          <a:xfrm>
            <a:off x="4786200" y="2643120"/>
            <a:ext cx="0" cy="71460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직선 연결선 25"/>
          <p:cNvSpPr/>
          <p:nvPr/>
        </p:nvSpPr>
        <p:spPr>
          <a:xfrm>
            <a:off x="5214960" y="2643120"/>
            <a:ext cx="0" cy="71460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직선 연결선 26"/>
          <p:cNvSpPr/>
          <p:nvPr/>
        </p:nvSpPr>
        <p:spPr>
          <a:xfrm flipH="1" flipV="1">
            <a:off x="4929120" y="3490920"/>
            <a:ext cx="214560" cy="936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neral solution for the Maze Miss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heck distances against for the left side wall and front wal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0" name="직사각형 3"/>
          <p:cNvSpPr/>
          <p:nvPr/>
        </p:nvSpPr>
        <p:spPr>
          <a:xfrm>
            <a:off x="2571840" y="2643120"/>
            <a:ext cx="142920" cy="2928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직사각형 4"/>
          <p:cNvSpPr/>
          <p:nvPr/>
        </p:nvSpPr>
        <p:spPr>
          <a:xfrm>
            <a:off x="2786040" y="2357280"/>
            <a:ext cx="3276720" cy="204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모서리가 둥근 직사각형 5"/>
          <p:cNvSpPr/>
          <p:nvPr/>
        </p:nvSpPr>
        <p:spPr>
          <a:xfrm>
            <a:off x="4429080" y="4165560"/>
            <a:ext cx="714600" cy="1143000"/>
          </a:xfrm>
          <a:custGeom>
            <a:avLst/>
            <a:gdLst>
              <a:gd name="textAreaLeft" fmla="*/ 34560 w 714600"/>
              <a:gd name="textAreaRight" fmla="*/ 680040 w 714600"/>
              <a:gd name="textAreaTop" fmla="*/ 34560 h 1143000"/>
              <a:gd name="textAreaBottom" fmla="*/ 1108440 h 1143000"/>
            </a:gdLst>
            <a:ahLst/>
            <a:rect l="textAreaLeft" t="textAreaTop" r="textAreaRight" b="textAreaBottom"/>
            <a:pathLst>
              <a:path w="21600" h="34543">
                <a:moveTo>
                  <a:pt x="3600" y="0"/>
                </a:moveTo>
                <a:arcTo wR="3600" hR="3600" stAng="16200000" swAng="-5400000"/>
                <a:lnTo>
                  <a:pt x="0" y="30943"/>
                </a:lnTo>
                <a:arcTo wR="3600" hR="3600" stAng="10800000" swAng="-5400000"/>
                <a:lnTo>
                  <a:pt x="18000" y="34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473" name="직선 화살표 연결선 9"/>
          <p:cNvCxnSpPr/>
          <p:nvPr/>
        </p:nvCxnSpPr>
        <p:spPr>
          <a:xfrm flipH="1" flipV="1">
            <a:off x="4071600" y="4451040"/>
            <a:ext cx="357840" cy="2160"/>
          </a:xfrm>
          <a:prstGeom prst="straightConnector1">
            <a:avLst/>
          </a:prstGeom>
          <a:ln w="2844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cxnSp>
        <p:nvCxnSpPr>
          <p:cNvPr id="474" name="직선 화살표 연결선 10"/>
          <p:cNvCxnSpPr/>
          <p:nvPr/>
        </p:nvCxnSpPr>
        <p:spPr>
          <a:xfrm flipH="1" flipV="1">
            <a:off x="4785480" y="3521880"/>
            <a:ext cx="10440" cy="654840"/>
          </a:xfrm>
          <a:prstGeom prst="straightConnector1">
            <a:avLst/>
          </a:prstGeom>
          <a:ln w="2844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cxnSp>
        <p:nvCxnSpPr>
          <p:cNvPr id="475" name="직선 화살표 연결선 12"/>
          <p:cNvCxnSpPr/>
          <p:nvPr/>
        </p:nvCxnSpPr>
        <p:spPr>
          <a:xfrm flipH="1" flipV="1">
            <a:off x="4123800" y="3858840"/>
            <a:ext cx="377280" cy="378720"/>
          </a:xfrm>
          <a:prstGeom prst="straightConnector1">
            <a:avLst/>
          </a:prstGeom>
          <a:ln w="2844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sp>
        <p:nvSpPr>
          <p:cNvPr id="476" name="TextBox 15"/>
          <p:cNvSpPr/>
          <p:nvPr/>
        </p:nvSpPr>
        <p:spPr>
          <a:xfrm>
            <a:off x="1922040" y="3857760"/>
            <a:ext cx="6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4136760" y="1857240"/>
            <a:ext cx="6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TextBox 17"/>
          <p:cNvSpPr/>
          <p:nvPr/>
        </p:nvSpPr>
        <p:spPr>
          <a:xfrm>
            <a:off x="4860000" y="3000240"/>
            <a:ext cx="189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18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맑은 고딕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distance of LR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TextBox 18"/>
          <p:cNvSpPr/>
          <p:nvPr/>
        </p:nvSpPr>
        <p:spPr>
          <a:xfrm>
            <a:off x="3143160" y="3427560"/>
            <a:ext cx="157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27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맑은 고딕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distance of LR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TextBox 19"/>
          <p:cNvSpPr/>
          <p:nvPr/>
        </p:nvSpPr>
        <p:spPr>
          <a:xfrm>
            <a:off x="3214800" y="4308480"/>
            <a:ext cx="1214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355</a:t>
            </a:r>
            <a:r>
              <a:rPr b="0" lang="en-US" sz="1400" spc="-1" strike="noStrike" baseline="30000">
                <a:solidFill>
                  <a:srgbClr val="000000"/>
                </a:solidFill>
                <a:latin typeface="맑은 고딕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distance of LR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자유형 20"/>
          <p:cNvSpPr/>
          <p:nvPr/>
        </p:nvSpPr>
        <p:spPr>
          <a:xfrm rot="17992800">
            <a:off x="5831280" y="4331520"/>
            <a:ext cx="1052640" cy="54936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c0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TextBox 21"/>
          <p:cNvSpPr/>
          <p:nvPr/>
        </p:nvSpPr>
        <p:spPr>
          <a:xfrm>
            <a:off x="6252840" y="4572000"/>
            <a:ext cx="25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Turn right 30 degre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neral solution for the Maze Miss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urn right slightly (about 30 degrees) for the left and front wall detections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If 18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맑은 고딕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distance of LRF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is less than 1000 millimeter, turn right 30 degrees (-30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If 27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맑은 고딕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distance of LRF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is less than 500 millimeter, turn right 30 degrees (-30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If 35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맑은 고딕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distance of LRF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is less than 200 millimeter, turn right 30 degrees (-30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neral solution for the Maze Miss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heck open space on the left sid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7" name="직사각형 3"/>
          <p:cNvSpPr/>
          <p:nvPr/>
        </p:nvSpPr>
        <p:spPr>
          <a:xfrm>
            <a:off x="3071880" y="2428920"/>
            <a:ext cx="214200" cy="3000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직사각형 4"/>
          <p:cNvSpPr/>
          <p:nvPr/>
        </p:nvSpPr>
        <p:spPr>
          <a:xfrm>
            <a:off x="3286080" y="3786120"/>
            <a:ext cx="135720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모서리가 둥근 직사각형 5"/>
          <p:cNvSpPr/>
          <p:nvPr/>
        </p:nvSpPr>
        <p:spPr>
          <a:xfrm>
            <a:off x="4214880" y="4286160"/>
            <a:ext cx="1357200" cy="7146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490" name="직선 화살표 연결선 9"/>
          <p:cNvCxnSpPr/>
          <p:nvPr/>
        </p:nvCxnSpPr>
        <p:spPr>
          <a:xfrm flipV="1">
            <a:off x="5285160" y="3357360"/>
            <a:ext cx="2520" cy="930960"/>
          </a:xfrm>
          <a:prstGeom prst="straightConnector1">
            <a:avLst/>
          </a:prstGeom>
          <a:ln w="2844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sp>
        <p:nvSpPr>
          <p:cNvPr id="491" name="TextBox 15"/>
          <p:cNvSpPr/>
          <p:nvPr/>
        </p:nvSpPr>
        <p:spPr>
          <a:xfrm>
            <a:off x="2257200" y="3714840"/>
            <a:ext cx="6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TextBox 19"/>
          <p:cNvSpPr/>
          <p:nvPr/>
        </p:nvSpPr>
        <p:spPr>
          <a:xfrm>
            <a:off x="5429160" y="3191040"/>
            <a:ext cx="1214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355</a:t>
            </a:r>
            <a:r>
              <a:rPr b="0" lang="en-US" sz="1400" spc="-1" strike="noStrike" baseline="30000">
                <a:solidFill>
                  <a:srgbClr val="000000"/>
                </a:solidFill>
                <a:latin typeface="맑은 고딕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distance of LR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자유형 20"/>
          <p:cNvSpPr/>
          <p:nvPr/>
        </p:nvSpPr>
        <p:spPr>
          <a:xfrm flipV="1" rot="14829000">
            <a:off x="5729040" y="2601720"/>
            <a:ext cx="801720" cy="40824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c0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TextBox 21"/>
          <p:cNvSpPr/>
          <p:nvPr/>
        </p:nvSpPr>
        <p:spPr>
          <a:xfrm>
            <a:off x="6157800" y="200016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Turn left 30 degre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neral solution for the Maze Miss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heck open space on the left sid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If 35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맑은 고딕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distance of LRF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is greater than 1500 millimeter, turn left 30 degrees (30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neral solution for the Maze Miss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seudo code for Maze Miss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9" name="Picture 5" descr=""/>
          <p:cNvPicPr/>
          <p:nvPr/>
        </p:nvPicPr>
        <p:blipFill>
          <a:blip r:embed="rId1"/>
          <a:stretch/>
        </p:blipFill>
        <p:spPr>
          <a:xfrm>
            <a:off x="2781360" y="1928880"/>
            <a:ext cx="35812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29T11:41:59Z</dcterms:modified>
  <cp:revision>976</cp:revision>
  <dc:subject/>
  <dc:title>슬라이드 1</dc:title>
</cp:coreProperties>
</file>