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4BF6E-54EE-4B5F-8A78-3428952D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4EAB9-F98E-4952-A51F-9612479F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22622-DFC8-4C60-AFFF-FAE3678E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099E2-B51E-4D8D-982E-8C8BE5A2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CF6CA-584E-4BAE-81BD-D51170E4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A575D-582D-4F92-B8D0-2C340438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509F1-7901-45BA-A008-967FBB6C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71B8C-1A8B-49B5-800E-0C36EFE8D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D3847-141A-4243-9758-B9AE6A42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6EDF3-3FD1-41FC-AB3B-B4186394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5A19E-2DF7-4BAC-AEC6-2CE0ECFD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059C1-58DB-4AED-BFA8-7DCA0761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584BE-AE90-445F-B090-B0694B15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7C535-2122-42AD-A2B0-6DAFB7C0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161FC-E6DF-426E-964C-BB692ADA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8622E-8810-46E8-96CF-3E004B71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977F6-EFAD-40A2-A9FD-5FA0B1CF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A6586-B51D-48A4-9A6B-72661415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02EB0-91ED-4DCC-9084-AFD6092B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A1A26-521E-46DA-914C-1E3E1060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F4318-626F-4B41-939B-41F07966B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FEEAB-B4ED-44FE-A71B-9CE729B0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EF1A1-9598-4398-8B33-9B5309DD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860D6-5753-4DA4-A360-B951DB63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292CD-CAAC-48B5-989F-C71B3DBD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037A4-4F5C-454E-A061-CA663685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ADBB6-8AA5-4018-B8AD-98A579E4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768AD-EAD7-42D3-833C-39295BFC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F186C-32FC-4846-9444-DB32B4D0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8EDA0-629F-48CE-A6BC-76D80AA1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5B455-D91C-4624-9311-CB45951F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95FA1-E0F3-4693-A03F-DAA76D74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90C1B-B4F4-492F-8F06-ACCC5C814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51F4-0A55-47E7-9AFA-8CDB0AEF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8866-2E85-498E-9436-7A07FD78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1B5A-07E3-45C7-9B1B-DE7D5622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28E3-C476-4925-8AA0-F294925F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6128-9CBC-4C3F-9E71-4D031B26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C091-78DE-4D70-8443-340A2269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E7C3-DE21-454F-B87B-5EC7B959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A3BD-1738-45EF-B110-ECAA3CB4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8319-28CA-4B71-B278-EA1CF05B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59A6-0A59-4D95-A3E7-89D43A44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1735-8B94-47ED-9A0B-F6E6BA70F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EF9C-5BAD-4723-AB97-07CB3FF32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51A2-364B-4583-BC7A-03F5E136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CDA0-C521-4FB5-9248-AE820CAB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35DD-5A33-4477-AB1A-CF1E69EB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0B84-5187-48D3-9703-F94A6D39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62D4-0763-4C7E-AFD8-5BECD66A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3D37-1304-4702-8061-D01DC52C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9B27-DB1C-40C3-BE2B-BA548A17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8127-6699-4EB3-800B-71F88FA5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FCE2-BAAC-4465-8897-31A46213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45B2-2250-4CBD-A6C0-7B6FF79C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7160-671C-44C1-BE8E-B11BE0054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9CD1-584B-4701-8F4D-4D0E07186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2AE6C-5C9A-457D-B1B9-09A459B7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FF1F6-9F1D-4F39-86B2-792C5CB1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AC69C-A302-4C9A-893B-133CE13B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34F7F-4988-489A-89A5-B9EEFDE3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B25EA-66A5-40D0-9ECC-57DAE384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7F9EC-6018-4B5E-BC3E-CCBC8599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4998E-E58B-4B83-9696-FCB10BAF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2EE20-1746-46D8-AB4A-FDA819CD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024EB-01B9-4D71-B403-AA498F36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6D9BC-42DF-4F34-9F37-25DBA5EA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B4A55-8758-4787-BA52-882BC5BD9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6F152-DBB1-4051-BD7F-7B56CE639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6635E-FCAA-4296-8BCC-288CBF8E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E36B6-8145-461C-8DA9-CEFE59DB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15DC7-2010-42F3-A311-E53C91EA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7B1D1-89B4-47B1-AE0D-0DFFA37F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A5212-9077-42B8-BF6A-AE094C92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D07DF-7571-4975-A9A4-5ED86269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8B99B-E874-41A8-A75A-5852900F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ED72A-0711-42D7-840D-94EA9313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2C454-0B98-45B1-AE95-BBFB2FC6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5C6EA-DE31-49D3-A8C4-D5628214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18B69-155E-4118-A0F4-4A1DEA75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7DF5B-DDB4-423B-BCA1-E82D6D2B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8B133-F6F3-4B30-BEEB-DC80D6253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D20F0-7EF4-4349-ABB9-98ECA116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7BB47-245C-467D-917D-09B716D0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191F9-BA9A-422D-A476-A66925EE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37A78-7AA3-4D4B-8247-6AD1428B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27031-C95D-41EE-A772-1034781A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23A72-561E-4950-B26E-CD3E3B90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08C93-BD68-4706-845E-230E4700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0C6D1-DA38-4FD1-8554-3F8F1C71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3BE0C-EE57-4DB3-BECD-DAFEE348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85A1B-C541-41E1-B462-685170B87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99134-B8BA-4197-B3E2-EF3924190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4817D-A879-49D8-8599-5BB59C4D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DFE79-50E4-4DFD-AE75-BA267F73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79800-FBE0-4487-BE03-39BA89A3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F1A80-7CD9-480C-921E-7CF95D72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5D040-D5D7-48B5-A88E-71EC3F5A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46F33-C658-4433-ADDF-E5C504D9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45DF1-1D15-4150-B294-2B7BBC8C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135B6-B432-4882-97B3-FDAEC744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CE4DC-1339-4757-B8E7-62FC267E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34F83-3F1A-45BC-9E4E-718C7880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3E7B5-CCD5-4633-9903-0C826B68D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F3CF2-2562-41D6-A55D-96A6CB0EC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DACAE-047B-48E6-94F5-16E0EB503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77898-90E2-4DCC-97EA-6CC27F10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770D6-C309-4485-AE85-5BA4004E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2942-D705-43C4-A171-1EC62A70003B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D035-7DDC-4084-B620-01DA1F5BD2F7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7A45-1066-46F0-B13B-AADA632F3647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1D7B-B0F7-4E56-8D24-837F17B672D8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22CC-0A12-4663-9EF7-32D3EADAAD78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4B3D-695C-4AF6-BF37-A448E3FE26DF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A90A-9225-43A2-AAA7-13A0A524BD0D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A998-E313-42BA-A8C9-699F18CF3351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8124-A127-4D14-BC78-B393339101EF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A255-E172-4ACC-908D-81E11D11EB5B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ent2” in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JointControl1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4786200" y="1500120"/>
            <a:ext cx="3714840" cy="4880160"/>
          </a:xfrm>
          <a:prstGeom prst="rect">
            <a:avLst/>
          </a:prstGeom>
          <a:ln w="0">
            <a:noFill/>
          </a:ln>
        </p:spPr>
      </p:pic>
      <p:sp>
        <p:nvSpPr>
          <p:cNvPr id="471" name="아래쪽 화살표 4"/>
          <p:cNvSpPr/>
          <p:nvPr/>
        </p:nvSpPr>
        <p:spPr>
          <a:xfrm rot="16200000">
            <a:off x="4107600" y="596448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JointControl1(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4" name="Picture 7" descr=""/>
          <p:cNvPicPr/>
          <p:nvPr/>
        </p:nvPicPr>
        <p:blipFill>
          <a:blip r:embed="rId1"/>
          <a:stretch/>
        </p:blipFill>
        <p:spPr>
          <a:xfrm>
            <a:off x="4286160" y="1214280"/>
            <a:ext cx="3838680" cy="5220000"/>
          </a:xfrm>
          <a:prstGeom prst="rect">
            <a:avLst/>
          </a:prstGeom>
          <a:ln w="0">
            <a:noFill/>
          </a:ln>
        </p:spPr>
      </p:pic>
      <p:sp>
        <p:nvSpPr>
          <p:cNvPr id="475" name="모서리가 둥근 직사각형 4"/>
          <p:cNvSpPr/>
          <p:nvPr/>
        </p:nvSpPr>
        <p:spPr>
          <a:xfrm>
            <a:off x="3714840" y="2071800"/>
            <a:ext cx="5214960" cy="3714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8" name="Picture 6" descr=""/>
          <p:cNvPicPr/>
          <p:nvPr/>
        </p:nvPicPr>
        <p:blipFill>
          <a:blip r:embed="rId1"/>
          <a:stretch/>
        </p:blipFill>
        <p:spPr>
          <a:xfrm>
            <a:off x="785880" y="1785960"/>
            <a:ext cx="4286160" cy="368604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7" descr=""/>
          <p:cNvPicPr/>
          <p:nvPr/>
        </p:nvPicPr>
        <p:blipFill>
          <a:blip r:embed="rId2"/>
          <a:stretch/>
        </p:blipFill>
        <p:spPr>
          <a:xfrm>
            <a:off x="4214880" y="271476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4" name="아래쪽 화살표 5"/>
          <p:cNvSpPr/>
          <p:nvPr/>
        </p:nvSpPr>
        <p:spPr>
          <a:xfrm rot="16200000">
            <a:off x="3464640" y="2107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5" name="Picture 7" descr=""/>
          <p:cNvPicPr/>
          <p:nvPr/>
        </p:nvPicPr>
        <p:blipFill>
          <a:blip r:embed="rId1"/>
          <a:stretch/>
        </p:blipFill>
        <p:spPr>
          <a:xfrm>
            <a:off x="4286160" y="1214280"/>
            <a:ext cx="383868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8" name="TextBox 3"/>
          <p:cNvSpPr/>
          <p:nvPr/>
        </p:nvSpPr>
        <p:spPr>
          <a:xfrm>
            <a:off x="2293200" y="1803240"/>
            <a:ext cx="375588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JointControl1(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whil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rue: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nt2.JointAngle(9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.sleep(1.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nt2.JointAngle(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.sleep(1.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nt2.JointAngle(-9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.sleep(1.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joint_simple.py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joint_simple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basic script for the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4" name="Picture 2" descr=""/>
          <p:cNvPicPr/>
          <p:nvPr/>
        </p:nvPicPr>
        <p:blipFill>
          <a:blip r:embed="rId1"/>
          <a:stretch/>
        </p:blipFill>
        <p:spPr>
          <a:xfrm>
            <a:off x="2514600" y="2990880"/>
            <a:ext cx="411480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script for the joint samples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7" name="Picture 2" descr=""/>
          <p:cNvPicPr/>
          <p:nvPr/>
        </p:nvPicPr>
        <p:blipFill>
          <a:blip r:embed="rId1"/>
          <a:stretch/>
        </p:blipFill>
        <p:spPr>
          <a:xfrm>
            <a:off x="2490840" y="1747800"/>
            <a:ext cx="416232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30T04:39:32Z</dcterms:modified>
  <cp:revision>972</cp:revision>
  <dc:subject/>
  <dc:title>슬라이드 1</dc:title>
</cp:coreProperties>
</file>