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83DD-FA42-471C-89FC-554E99D2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4D0A-DBE1-4C8B-BBCB-D37523ED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EA34E-4EF7-4C07-8AE7-63CC70F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0ADC-F28F-4E1C-BDDD-490EB0D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35728-7FEF-443B-A86F-26B5BE6F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BF57-1308-4AAC-8F6D-3DAE985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DA93F-C642-4A6B-9882-55287BD0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C86EB-2E9F-4613-89D7-9F55442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3B064-9DE3-45C5-A7DA-DBC1D8D6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8667-AFE5-48D3-A55D-332FA44C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3412-6EF2-42A7-89F6-DBF1BE3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C4663-B736-4122-B862-F9D14DB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7793-6DD6-44CB-8FA9-B622C5B1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4E7F9-56B6-4211-8EF0-CEA96C26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69534-1A8B-4C34-A154-09E1A8C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07E9-88D5-45A3-AC42-0C324E9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AE865-F7D9-4633-9535-FBA85015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702F-099B-4317-A42C-A7795CC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4CF2E-B880-46A0-B66F-B78E9E26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53E8-7F5E-4197-BCDC-BE8C190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02C6D-13B7-4256-9908-07B501A4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2A6A-4C83-4638-9031-05669ADB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CBB44-5D05-4286-B64E-446C3A9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FA285-8BE6-4C3B-89BE-0924B25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0E53-5F71-430D-A5BF-B84B87A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C1FF2-426A-407A-9DF9-3EDDDDD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EDAC5-5B60-40CD-9030-17D05AF2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350E5-09F7-4515-9160-2FBB1E1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8D24F-48C0-4698-B4C2-41F3DE6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F1F25-EABA-43C0-89AC-7EAFEE9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34175-0801-4D37-9CAB-8E10F99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8BE93-613F-444B-AD58-4B9A78C0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6E17-2E44-4711-8A34-57E140B3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917-6A2F-4203-BC8D-51094A99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55A-E6FC-45F8-83CE-E4EE449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39A-1722-4D8A-9615-119AAE60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798-8F33-4F01-BF78-CA2B886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620-CB6E-4790-831A-92797DD4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CE7-B6A1-4450-8B3C-EAD83A17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185-747F-44AB-AF5D-99C93FB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81F-E9D1-4123-814B-9F9B5E6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697-04A7-47D9-92DB-1B2ED71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B36-9924-45B9-A1C5-1D152C96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430-C668-4B78-8F20-891975EE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854-B14F-4EFA-92AC-3F5EB0DF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464-77F0-44CC-B01E-7713AC5F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D0C3-C2CB-4A4E-B5B4-A7412C9F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50F-8CD2-44F7-A27C-9BDC711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CAD8-FC21-4EB8-BE73-87D243F7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9D76-8E6D-4964-BF3E-E9E5E4DE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6530-62AD-469A-A62C-54BADD4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5E9B-1D70-45A1-9F01-B49EC4B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BB93-E210-4083-84B3-4F5F493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3576-9413-4EE9-9DA6-C802D9C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098-11AF-49BE-AFE7-3F6E311D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A499-8613-44B9-938B-FFA317A0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9096-258D-4A94-8B76-9D102AD1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ABC4-801A-468E-AF66-0022051E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349D-B5F2-4D85-A029-4EEF8B9C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7D0A-EE30-4370-AC8F-3F7849F8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491D-C645-473A-997B-A3898955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2ADF-46AC-46FA-8E34-638627E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2AB5-0A08-47B4-8EEB-EC1985E6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DC20-F685-445D-8547-72DC134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FD48-9C86-4AA3-AFB3-D6B8779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F536-CC0D-41B0-B088-0CC2168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A469-F53E-4DA1-934C-AB696C2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8084-C217-431F-A3E8-CDCAC605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F37B-87A9-4564-BC53-57E7FAEA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3A49-6E53-40DF-879B-AB5A8B3C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E3DC-0DB8-4E8E-8BDF-77CBF67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96BC-E411-4CFE-9E26-E8E5C85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9C21-81D6-4D92-A9B0-2FAB4AA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2D18-8BE6-421C-BD53-0F868232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EA82-5584-4C85-A661-6C6D329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E8C5-8A60-4F45-BBAB-0D5237A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F329-9F93-40B6-9FB1-CF498A9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FF5FD-3C11-46A2-AD94-8BB20E5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99B5-97F4-4873-AFD4-3D494A0C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D16E-819A-40FA-958F-E1F75DE0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4EA5-92D8-4B5A-90AB-95F96C9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1CD5A-C40F-4333-8BE3-2E48FD82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A8B2-DF84-44FA-B123-042746F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E9E1-8085-499C-8A85-430B847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6FF9-3F0D-4786-91C2-B9DB7B2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5C68-A94C-4059-9AB2-867069F1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D32A8-0654-4B78-B6CA-D70EE2E7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35C5-62E2-499E-8E05-BABEE1D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33C0E-18FB-4FE0-9AC6-D1DB492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F959-15CE-4661-BA8A-EEA26BA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9DA9-ADBC-48C2-9740-56218B70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5770-38C2-41E1-9708-FBBD510F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ADFB-44BC-40B2-B1BF-99A65A49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0DBE-99DF-4A39-99B6-A7818F4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FA55D-8D6F-4FAE-B8C8-1F2DBE3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898D-923C-43E1-9B1D-44A62C1A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02F5-8A12-4193-B01F-02727EE7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D313F-6CE9-4E4D-897E-B12C43D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C97A0-B3FA-4D07-BC0D-D162DEBF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B9CD6-3CDA-45BB-9297-6F3107FF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DA91-F353-4A97-BCC4-BE646C8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781B-37EA-491B-9B00-03CDC5CE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F8525-5F28-4B7E-AF27-9F13AF3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99D11-5032-4726-BB5A-B09676A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CEDE-CAE1-40F0-A151-9A83B16E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38ED-01C9-4D90-80F0-C32194B2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FCBFB-66EF-4D31-8E28-595B579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FA92-F143-4A11-BDCA-CF851FD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99E-DB47-4AE6-86B0-B67A46EC3B3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B405-003A-446D-AC70-10CE2C06F5A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BCC-94B7-4B73-BC95-F98D79AA1668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77A6-3E24-4420-88F9-B0568219213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314-9E62-4863-924F-1FEE9B5C135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21D4-FCEE-460D-877E-49812AAAEBA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898-617B-46E8-8040-77D26D00C6E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84E5-7628-4CC6-A53C-FFD2769C296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626-B822-4351-8A0B-22D61B5095C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9C5-8481-49BC-A6F6-6581F961BEE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352760" cy="51433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19645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4622760" y="1143000"/>
            <a:ext cx="3740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모서리가 둥근 직사각형 4"/>
          <p:cNvSpPr/>
          <p:nvPr/>
        </p:nvSpPr>
        <p:spPr>
          <a:xfrm>
            <a:off x="2857680" y="1928880"/>
            <a:ext cx="607212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713120" y="1071720"/>
            <a:ext cx="3787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94" name="모서리가 둥근 직사각형 4"/>
          <p:cNvSpPr/>
          <p:nvPr/>
        </p:nvSpPr>
        <p:spPr>
          <a:xfrm>
            <a:off x="2857680" y="3429000"/>
            <a:ext cx="6072120" cy="25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28920" y="21002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2750400" y="18925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6"/>
          <p:cNvSpPr/>
          <p:nvPr/>
        </p:nvSpPr>
        <p:spPr>
          <a:xfrm rot="16200000">
            <a:off x="2750400" y="3250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227320" y="1803240"/>
            <a:ext cx="5325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Presse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HardwareIdentifi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Na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 ' / ' + p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Reaction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Pressed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HardwareIdentifi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Front bumper was 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-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ea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a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bumper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bumper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Add “/Procedure_SensorNotify:proc2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2228760" y="2205000"/>
            <a:ext cx="4486320" cy="415296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764360" y="5883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아래쪽 화살표 6"/>
          <p:cNvSpPr/>
          <p:nvPr/>
        </p:nvSpPr>
        <p:spPr>
          <a:xfrm rot="5400000">
            <a:off x="5979240" y="4955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2352600" y="1833480"/>
            <a:ext cx="4438800" cy="466740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29:34Z</dcterms:modified>
  <cp:revision>966</cp:revision>
  <dc:subject/>
  <dc:title>슬라이드 1</dc:title>
</cp:coreProperties>
</file>