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05868-82A9-498E-921F-AA341B99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1DC3D-D792-4F78-A9EB-844C52CB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A5B02-2568-4892-9DCF-959B982A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AA50D-FA0E-4533-A64D-81540FB0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2C817-5113-4A17-AE9E-36D0E6FE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2CA41-90FD-420D-87DA-167988AF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4AD37-3ACA-4F61-8F8C-0062AA0B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70E1E-E6F4-4CBB-AAF7-07C3AF0A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C1462-B967-4BF9-BECE-CE70DF75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55E6-4D59-4B6F-8D6A-C9060140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C2A95-8F75-42EC-8F03-B07A79AC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88BA8-777B-419E-B8F1-267CEB5D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C18A3-074F-48A9-A4C1-21720BD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5DC94-4BEA-4033-B945-A9079904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D2227-8B4B-4501-B55A-C0AB580A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E7E34-E498-4630-8F89-75CC396A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564F3-15AF-4195-8425-F5D8540F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71C15-F0DB-42FD-9376-BBEA01BA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9F254-F540-4AFE-9F30-F484D024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595C6-71BF-47DB-8FB3-B57FA9BF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9329D-6AB1-4777-94B8-1C1CA78B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CE2EB-1B6B-46BA-98CA-95D4AE79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B474F-D61A-40AF-987E-BCB88FED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65B21-E93E-46F9-9F31-083EBC30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9D6A8-849F-4C17-874E-5E8F0C3E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9A1D1-1B4D-4D1A-9442-85802D29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87C06-A432-4E97-A424-E99624C5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8D0FA-6852-4606-9525-6FC6CBEF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7A2AA-5A97-4E7F-8503-F157DA5C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C5972-90AF-4813-B95B-2C61CF38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69770-7245-44E3-AA0D-D48B872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E708B-6307-47A0-AB2C-B91931FC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5576B-26EA-4F4D-B7FF-C196DAA2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837-41DA-4CF9-87D3-6FC8BA96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F2A-E173-4603-8C71-F98A15CD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374-2C6B-426F-BA4F-EADA3C8F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590-D50C-482E-B3ED-C7106BA3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F28-7FFB-45C2-97E5-F6DDB721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467-9023-4F7B-A04C-09E0B9F8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045-7BD9-4BA7-AB84-5A48296D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EBB-7CCC-4352-B6C1-21D270F3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BBA-1DDB-406D-A18F-C8301861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78D-AEC5-4923-8C3C-EEA69D55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A41-FDA1-43DF-BDC7-EEB8C2AB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A22-8045-4EF6-8A37-93B5B3E9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3170-66BE-4670-B649-BB9AC68D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BD94-4DC9-4A78-B9C3-B0C00B3F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F442-8B21-4AA6-A9D2-D7321B87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8B0D-A9B5-4032-BE82-D2210D97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B1D1-3B3D-40A5-9BDC-0ED074E8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5446-4398-4BC3-81FA-6E5F8721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7548-28E7-45E6-9D6F-3F7014A0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D444-F9B3-4ED9-BADD-521245EB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C586-A4B9-4294-98DC-F6217946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F97E-8937-41B6-BDD8-CCFF6FEB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4F4A-21F7-46F0-BBC6-824558A0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7AC7-F2DE-4F4F-8486-13FEF4FB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D121C-892D-4B26-9057-A43BE11E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06AE-1117-452A-9BC0-11B1041B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A9CF-D40F-4BD8-B4AB-858A1A5A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5F4A3-5F9A-425D-88B8-6FBD8829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E538-051B-4DA3-8B8C-3A2E7B25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9A54-649F-4642-90F2-FDBB5A27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9363-442E-4562-AAE3-642E870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D551-FDF2-472D-B2BF-CA48422F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394B-BB13-4955-904A-F665AE1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5950-7F72-4C45-B588-90A1632B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D64F-84C9-446D-AF47-0134C76F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EEE3-61B3-420C-9099-4CA5BFC5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EDAAB-07AF-477B-9DF1-528205E0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5C99-6C8E-4092-B16F-7FA6F6CA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BBEC-34B6-4FB2-8447-0E096C35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A3EA4-0B72-4326-96BD-2C2371EA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BD97-CE51-45D3-9A41-6691233F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CB0D3-19B2-4413-84CF-FF844BB9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A9EEB-F122-4003-B0F8-A5CEB5A9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DC143-87AD-4D30-8FEA-0DA9FA41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7544-61BD-4736-9DAB-93DF45B5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473F1-A10C-4CD6-953D-DE08B13E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CB706-E18C-4752-B398-31E01039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1127D-273B-4DEE-9BE9-41DC6636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D3387-7055-49D6-B977-1FC56DE4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76A31-46AA-4566-AF2E-7BB3DC01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91E7A-F436-4535-B6DB-A8445AE3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1EFBD-9AED-44CF-BCD7-BE1ECD6D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EB18A-F0BF-4103-AAB7-CD4A1880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0101B-6A21-4C20-AAE3-C894331C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7C96E-91D8-4BDD-ADF4-5F0DE696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DB335-7D08-4DCF-B694-E239E5B1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DFB3-513B-4082-AE22-9B2F3E44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5821-A64E-4228-B02B-9C6AAC33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CBA7B-1523-40EC-863B-D08B0D37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C346-F1DA-4EC8-B854-18332070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CE851-51D4-4DD3-A7FD-DE90E811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9CAB9-0B81-43EE-AB2E-534ADA64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33622-0AEB-4EA2-9279-12643D32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4534C-969D-4DC0-9BAF-BFBB2D9F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4FA96-DC81-447D-BE66-D4A32986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2B90E-20F0-413E-B57E-DD8A0390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ABD7B-A236-47AA-9579-FCDC2E06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88439-A92C-4C22-B5A5-206C5E9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5E16-2D72-42F9-8468-90120A87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4D8DA-3165-4F57-A612-0234DD3C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36A15-1F50-45B8-8795-3FB529DE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F08DC-C841-4FA1-ACB9-1B2DAE24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9B5E0-052C-443A-B6A6-9A668F91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5DFAB-59FB-4E9A-82FB-FD24D99D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41B6-08B6-4636-941F-A4715860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3ED3-53D8-4B01-BAE2-373E0D0BB4F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B9E7-052E-4419-9D7B-0AD756C2698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CBFC-2B0A-4AED-ADEE-4F69080EC834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011F-77A7-4DEF-ABAF-CE9789C6EE0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846B-2BBF-4D60-A3EC-2CBA0D6BA18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923A-0802-4FD9-9A98-D9F628C497B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9F9-9CF4-4F6C-86E9-C94A4D0911C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A95E-02E0-478C-9EC9-1F4091AF9C7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7F54-9F28-4BA6-BBF4-259011F11B5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66C2-E23C-47D7-82FA-BDE2A0C8282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6" descr=""/>
          <p:cNvPicPr/>
          <p:nvPr/>
        </p:nvPicPr>
        <p:blipFill>
          <a:blip r:embed="rId1"/>
          <a:stretch/>
        </p:blipFill>
        <p:spPr>
          <a:xfrm>
            <a:off x="2571840" y="1571760"/>
            <a:ext cx="4352760" cy="51433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19645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4622760" y="1143000"/>
            <a:ext cx="3740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모서리가 둥근 직사각형 4"/>
          <p:cNvSpPr/>
          <p:nvPr/>
        </p:nvSpPr>
        <p:spPr>
          <a:xfrm>
            <a:off x="2857680" y="1928880"/>
            <a:ext cx="607212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"/>
          <p:cNvPicPr/>
          <p:nvPr/>
        </p:nvPicPr>
        <p:blipFill>
          <a:blip r:embed="rId2"/>
          <a:stretch/>
        </p:blipFill>
        <p:spPr>
          <a:xfrm>
            <a:off x="4643280" y="3000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4713120" y="1071720"/>
            <a:ext cx="378792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94" name="모서리가 둥근 직사각형 4"/>
          <p:cNvSpPr/>
          <p:nvPr/>
        </p:nvSpPr>
        <p:spPr>
          <a:xfrm>
            <a:off x="2857680" y="3429000"/>
            <a:ext cx="6072120" cy="25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28920" y="21002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428920" y="20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42900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2750400" y="18925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6"/>
          <p:cNvSpPr/>
          <p:nvPr/>
        </p:nvSpPr>
        <p:spPr>
          <a:xfrm rot="16200000">
            <a:off x="2750400" y="3250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227320" y="1803240"/>
            <a:ext cx="5325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Presse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HardwareIdentifie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Na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 ' / ' + p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Reaction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Pressed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HardwareIdentifi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Front bumper was 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-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ea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a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bumper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bumper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Add “/Procedure_SensorNotify:proc2”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"/>
          <a:stretch/>
        </p:blipFill>
        <p:spPr>
          <a:xfrm>
            <a:off x="2228760" y="2205000"/>
            <a:ext cx="4486320" cy="415296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764360" y="5883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아래쪽 화살표 6"/>
          <p:cNvSpPr/>
          <p:nvPr/>
        </p:nvSpPr>
        <p:spPr>
          <a:xfrm rot="5400000">
            <a:off x="5979240" y="4955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1"/>
          <a:stretch/>
        </p:blipFill>
        <p:spPr>
          <a:xfrm>
            <a:off x="2352600" y="1833480"/>
            <a:ext cx="4438800" cy="466740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29:34Z</dcterms:modified>
  <cp:revision>966</cp:revision>
  <dc:subject/>
  <dc:title>슬라이드 1</dc:title>
</cp:coreProperties>
</file>