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68EF0-2CDD-4D48-9065-74B4670F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8E7ED-4BA9-4FBB-ABBF-81E211A8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6D19F-E960-43DE-9ACA-3FBB84E8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19341-E38B-4358-A5C1-DB135EAB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DE3CD-7117-4848-860B-ABCE6B56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149E3-76C5-42FA-A2F4-3ECFC651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BB5D1-4F10-4017-9395-218EE48E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322D6-93D6-4C0D-84CA-B26EB128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3F9B0-3A0A-476C-A03B-125DD205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EBE82-5D56-4AAA-863E-366F27B1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2FF70-E636-49F6-9CD5-CAD01F67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5D0B3-B656-408F-82FD-79B9E5F3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F48BD-9E50-4052-8C93-1BA11B4F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0D1C1-7B2B-4446-9924-49784D30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57B6F-0E8B-4D0E-ABDD-F7CA113B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B76A9-D847-479D-84C6-F7FBA5B3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7AB71-BB19-482A-AAB1-FADCD28B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F1C1D-01CF-4F5F-B7F1-9A848E6E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5933A-7470-4720-9DCE-5BEF8F6B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5EE71-E86D-4071-9E7E-034A1695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E5787-8A33-4277-A077-89A31C61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6B695-942F-43B2-9EEC-4134AEA5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75089-72FB-4540-8E5A-E1B09481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51177-BD28-4826-A7D2-29BA601E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1D08C-DF39-4094-A1A1-05D42229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0826A-1981-454A-ABAE-0D3A49FF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9BF07-4635-4536-BAF3-156AC439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7173D-3C29-4164-8953-372A5B52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EF36E-6696-4EA7-915A-FDBF25EC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7E123-1FEE-4256-B26D-59F40CFA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3C5E1-53C4-4040-82FA-90F61F85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0F6C4-F12C-4E38-8992-701B2CB9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C7C32-6B19-4B6D-AA04-C39C0506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3349-4A1B-4C6A-B345-B07D0A61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494-F148-44EF-88C8-B2E24720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2DB6-411D-4255-89A1-3091C7DA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4532-C1D5-43C7-847E-CCCCCC3E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D074-5752-4D11-8ED2-51E09BD2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BE6E-BAE8-4B6A-B1A9-E989FC19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1137-8F4C-48F2-9283-85FFC115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9346-A404-4F8C-AF70-3152108D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3090-185A-45EB-B53B-3AEBAF32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606A-A471-4786-ADEF-5B609A11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2C0F-A585-4E18-8C55-E590417E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6A8D-454C-4274-A5EF-DACA96C3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2F06-148F-42FC-B131-D0090E79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7928-9473-467C-8506-B64CD791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122C-293B-485D-8A92-C7CC8C2C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D695-BD75-411E-BD28-30DF9540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4A24-EF93-49DA-BC77-86F2B564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4AD9-AD0B-4654-B5E4-10AB5B99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678C-5781-4B70-8877-2ACED600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48BC-843B-447A-ACCE-4D7329CB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3462-E9AD-4223-95A2-D8634254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BF08-7C37-43FF-8DBC-718D674E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FC5A-B1C1-4D9A-B393-027532CA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D925-459A-41FD-B6AC-491D96A3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03EAE-8958-4257-BD0D-6782552B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3BF43-CFBC-4087-858D-5B47AD1F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F8A69-FBBB-4329-B38D-6A867434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9AAD9-0D65-4147-9B43-32CA8619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4393F-18D7-4736-A735-7DEC0444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C744E-3DC2-4718-AE6F-6CF2819B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9F091-BFE1-48AC-957F-78E3F675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82A8D-A283-4449-A254-DA7EDF42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D9ECA-7BA3-4974-BFBF-915470BA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504FF-383D-4950-A28E-2DB1C7ED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99829-61CA-455C-A872-56AD584C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FCD28-E6E3-4B8B-8E3B-3E46A667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91776-C3D8-481B-B7A9-E7E98C98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35C6A-8ABD-4156-A9B9-CC194914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A6454-90D1-4EB3-9B89-7822AF74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41A09-69D7-4AB6-9975-2E5F51AE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80589-EFE4-47BF-B2C9-F7928EBE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B9543-DFD0-416F-8EBB-F9A844C6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3265E-17FC-47E1-85CF-FA234ED1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AF1B2-21D4-4619-8996-23E3E30F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5DE5F-DF57-45B0-B352-CD5C0090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FBDBB-94B0-4B16-8A8E-B448D789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63E29-5EE1-47F7-980C-03552DEB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85877-6A04-4DAC-85BF-5BB828AC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B7F0A-419F-44B0-8F82-DB9F8CB8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BEA9A-A7BA-4CA4-97F0-E1EA4D2A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05C5A-D7D1-4818-9566-126371FD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8ECE0-3D6C-406C-8D2B-9F5E0E9C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44DF6-E492-4EAF-AB01-39E3741C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08A9F-A343-47BD-A77D-DE0D89C3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9AFA8-44B9-4C75-ABE7-B8C913B8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7D9CE-62D0-4879-9A4F-BD056A4A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C2790-DE36-4966-95D0-2BD65E45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C3D00-F37A-4423-B558-83CA4E04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FF5B1-706C-4C9E-B71D-9FE61B28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D68C4-4D1E-4CFE-81B8-02388144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3A638-EFF2-444F-B567-44752F93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D0EC3-F6C5-42A5-838E-699899EF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79631-03C9-4143-B848-2736FCB0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31A9F-AC2D-4759-A00F-1B018D10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621CE-77AE-4B7C-A1EB-01E197D9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8BC7D-4924-4DB3-82E8-4E629C53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FDD9E-C588-4422-B12C-D07B1985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3D4FE-C041-4F10-BA4B-97E9F56C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C3C51-8847-4A68-9D14-9C5FA9CF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A6358-D5DD-48CE-B0C7-EAEBF2FA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CB18F-1355-4D21-91E5-99812E066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E52C4-832F-4ECA-B310-15EEA42C7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5B38F-5B76-429D-9C7D-4639A8AE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397C9-899E-432D-9AC4-D392C02A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51890-67DB-4E23-868D-6087831C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74D0-F873-43BF-9479-A1B33E6B61F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9F74-CBC6-48A1-9043-F0DD1FA29A5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A65B-3F28-41B1-AB64-0146909CAD3F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8637-5758-45AC-91D3-78FBE8231993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F1A6-C297-4B7D-8FFA-51B180759A4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BB07-5F1B-4724-B1D1-9BD6481A6D70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9B6F-1A29-4B81-A772-66CE5490C97B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BAF3-225C-4A56-A416-5D4D83FDAD9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C582-0710-49D6-88E7-3E85D76A7FC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35A1-34CE-4AFB-AC57-20A34A525B8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ython Interface Programming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add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Define Python variab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tretch/>
        </p:blipFill>
        <p:spPr>
          <a:xfrm>
            <a:off x="1243080" y="1928880"/>
            <a:ext cx="6657840" cy="3571920"/>
          </a:xfrm>
          <a:prstGeom prst="rect">
            <a:avLst/>
          </a:prstGeom>
          <a:ln w="0">
            <a:noFill/>
          </a:ln>
        </p:spPr>
      </p:pic>
      <p:sp>
        <p:nvSpPr>
          <p:cNvPr id="482" name="자유형 4"/>
          <p:cNvSpPr/>
          <p:nvPr/>
        </p:nvSpPr>
        <p:spPr>
          <a:xfrm flipV="1">
            <a:off x="2286000" y="2642760"/>
            <a:ext cx="3643200" cy="228600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TextBox 5"/>
          <p:cNvSpPr/>
          <p:nvPr/>
        </p:nvSpPr>
        <p:spPr>
          <a:xfrm>
            <a:off x="423360" y="421488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Dou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cli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아래쪽 화살표 6"/>
          <p:cNvSpPr/>
          <p:nvPr/>
        </p:nvSpPr>
        <p:spPr>
          <a:xfrm rot="16200000">
            <a:off x="1035720" y="46076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아래쪽 화살표 7"/>
          <p:cNvSpPr/>
          <p:nvPr/>
        </p:nvSpPr>
        <p:spPr>
          <a:xfrm rot="1502400">
            <a:off x="4265280" y="21733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Use “LoadFile” method to load py fi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676440" y="1900080"/>
            <a:ext cx="7791120" cy="4743720"/>
          </a:xfrm>
          <a:prstGeom prst="rect">
            <a:avLst/>
          </a:prstGeom>
          <a:ln w="0">
            <a:noFill/>
          </a:ln>
        </p:spPr>
      </p:pic>
      <p:sp>
        <p:nvSpPr>
          <p:cNvPr id="489" name="자유형 4"/>
          <p:cNvSpPr/>
          <p:nvPr/>
        </p:nvSpPr>
        <p:spPr>
          <a:xfrm flipV="1">
            <a:off x="3071880" y="3286080"/>
            <a:ext cx="2500200" cy="192888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아래쪽 화살표 6"/>
          <p:cNvSpPr/>
          <p:nvPr/>
        </p:nvSpPr>
        <p:spPr>
          <a:xfrm rot="16200000">
            <a:off x="678600" y="482148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all “Execute” method to execute py fi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690480" y="1809720"/>
            <a:ext cx="7763040" cy="4762440"/>
          </a:xfrm>
          <a:prstGeom prst="rect">
            <a:avLst/>
          </a:prstGeom>
          <a:ln w="0">
            <a:noFill/>
          </a:ln>
        </p:spPr>
      </p:pic>
      <p:sp>
        <p:nvSpPr>
          <p:cNvPr id="494" name="자유형 4"/>
          <p:cNvSpPr/>
          <p:nvPr/>
        </p:nvSpPr>
        <p:spPr>
          <a:xfrm flipV="1">
            <a:off x="2347920" y="3429000"/>
            <a:ext cx="3081240" cy="187632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아래쪽 화살표 5"/>
          <p:cNvSpPr/>
          <p:nvPr/>
        </p:nvSpPr>
        <p:spPr>
          <a:xfrm rot="16200000">
            <a:off x="821520" y="496440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1347840" y="195264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499" name="아래쪽 화살표 4"/>
          <p:cNvSpPr/>
          <p:nvPr/>
        </p:nvSpPr>
        <p:spPr>
          <a:xfrm rot="16200000">
            <a:off x="821520" y="546444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Call Procedure of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Procedure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Use “Invoke” method with procedure name as follow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681120" y="2038320"/>
            <a:ext cx="7781760" cy="3533760"/>
          </a:xfrm>
          <a:prstGeom prst="rect">
            <a:avLst/>
          </a:prstGeom>
          <a:ln w="0">
            <a:noFill/>
          </a:ln>
        </p:spPr>
      </p:pic>
      <p:sp>
        <p:nvSpPr>
          <p:cNvPr id="504" name="자유형 4"/>
          <p:cNvSpPr/>
          <p:nvPr/>
        </p:nvSpPr>
        <p:spPr>
          <a:xfrm flipV="1">
            <a:off x="2786040" y="4143240"/>
            <a:ext cx="2928960" cy="51912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아래쪽 화살표 5"/>
          <p:cNvSpPr/>
          <p:nvPr/>
        </p:nvSpPr>
        <p:spPr>
          <a:xfrm rot="16200000">
            <a:off x="892800" y="432144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yProc1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259160" cy="485748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Procedure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9" name="모서리가 둥근 직사각형 4"/>
          <p:cNvSpPr/>
          <p:nvPr/>
        </p:nvSpPr>
        <p:spPr>
          <a:xfrm>
            <a:off x="2071800" y="3286080"/>
            <a:ext cx="4500360" cy="500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Procedure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1347840" y="195264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513" name="아래쪽 화살표 4"/>
          <p:cNvSpPr/>
          <p:nvPr/>
        </p:nvSpPr>
        <p:spPr>
          <a:xfrm rot="16200000">
            <a:off x="821520" y="5536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ython Command in SP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all Procedure of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all Function of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Get variable from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t variable 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Call Function of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Function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Use “Invoke(name, p1, p2)” method to call “Add” func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700200" y="1952640"/>
            <a:ext cx="7743600" cy="3619440"/>
          </a:xfrm>
          <a:prstGeom prst="rect">
            <a:avLst/>
          </a:prstGeom>
          <a:ln w="0">
            <a:noFill/>
          </a:ln>
        </p:spPr>
      </p:pic>
      <p:sp>
        <p:nvSpPr>
          <p:cNvPr id="518" name="자유형 4"/>
          <p:cNvSpPr/>
          <p:nvPr/>
        </p:nvSpPr>
        <p:spPr>
          <a:xfrm flipV="1">
            <a:off x="4071960" y="4071960"/>
            <a:ext cx="857160" cy="87624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아래쪽 화살표 5"/>
          <p:cNvSpPr/>
          <p:nvPr/>
        </p:nvSpPr>
        <p:spPr>
          <a:xfrm rot="16200000">
            <a:off x="821520" y="46792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(a,b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259160" cy="48574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Function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3" name="모서리가 둥근 직사각형 4"/>
          <p:cNvSpPr/>
          <p:nvPr/>
        </p:nvSpPr>
        <p:spPr>
          <a:xfrm>
            <a:off x="2071800" y="2357280"/>
            <a:ext cx="4500360" cy="928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Function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1347840" y="1881360"/>
            <a:ext cx="6448320" cy="4190760"/>
          </a:xfrm>
          <a:prstGeom prst="rect">
            <a:avLst/>
          </a:prstGeom>
          <a:ln w="0">
            <a:noFill/>
          </a:ln>
        </p:spPr>
      </p:pic>
      <p:sp>
        <p:nvSpPr>
          <p:cNvPr id="527" name="아래쪽 화살표 4"/>
          <p:cNvSpPr/>
          <p:nvPr/>
        </p:nvSpPr>
        <p:spPr>
          <a:xfrm rot="16200000">
            <a:off x="821520" y="48934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Get variable from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t variable from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all “GetVariable(name)” metho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738360" y="1962000"/>
            <a:ext cx="7667280" cy="3610080"/>
          </a:xfrm>
          <a:prstGeom prst="rect">
            <a:avLst/>
          </a:prstGeom>
          <a:ln w="0">
            <a:noFill/>
          </a:ln>
        </p:spPr>
      </p:pic>
      <p:sp>
        <p:nvSpPr>
          <p:cNvPr id="532" name="자유형 4"/>
          <p:cNvSpPr/>
          <p:nvPr/>
        </p:nvSpPr>
        <p:spPr>
          <a:xfrm flipV="1">
            <a:off x="3214800" y="3929040"/>
            <a:ext cx="1857240" cy="59040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아래쪽 화살표 5"/>
          <p:cNvSpPr/>
          <p:nvPr/>
        </p:nvSpPr>
        <p:spPr>
          <a:xfrm rot="16200000">
            <a:off x="892800" y="41076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Variab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259160" cy="485748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t variable from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7" name="모서리가 둥근 직사각형 4"/>
          <p:cNvSpPr/>
          <p:nvPr/>
        </p:nvSpPr>
        <p:spPr>
          <a:xfrm>
            <a:off x="2071800" y="5929200"/>
            <a:ext cx="4500360" cy="714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t variable from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1347840" y="180972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541" name="아래쪽 화살표 4"/>
          <p:cNvSpPr/>
          <p:nvPr/>
        </p:nvSpPr>
        <p:spPr>
          <a:xfrm rot="16200000">
            <a:off x="821520" y="52506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Set variable to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Set variable to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Use “Setvariable(name, value)” method to bind variab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685800" y="1866960"/>
            <a:ext cx="7772400" cy="3990960"/>
          </a:xfrm>
          <a:prstGeom prst="rect">
            <a:avLst/>
          </a:prstGeom>
          <a:ln w="0">
            <a:noFill/>
          </a:ln>
        </p:spPr>
      </p:pic>
      <p:sp>
        <p:nvSpPr>
          <p:cNvPr id="546" name="자유형 4"/>
          <p:cNvSpPr/>
          <p:nvPr/>
        </p:nvSpPr>
        <p:spPr>
          <a:xfrm flipV="1">
            <a:off x="3857760" y="4857840"/>
            <a:ext cx="1071360" cy="59040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아래쪽 화살표 5"/>
          <p:cNvSpPr/>
          <p:nvPr/>
        </p:nvSpPr>
        <p:spPr>
          <a:xfrm rot="16200000">
            <a:off x="821520" y="51076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ython Command in SPL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yProc2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259160" cy="485748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Set variable to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1" name="모서리가 둥근 직사각형 4"/>
          <p:cNvSpPr/>
          <p:nvPr/>
        </p:nvSpPr>
        <p:spPr>
          <a:xfrm>
            <a:off x="2071800" y="3786120"/>
            <a:ext cx="4500360" cy="928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Set variable to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1347840" y="180972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555" name="아래쪽 화살표 4"/>
          <p:cNvSpPr/>
          <p:nvPr/>
        </p:nvSpPr>
        <p:spPr>
          <a:xfrm rot="16200000">
            <a:off x="892800" y="51076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MessagePort” instance 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428760" y="2085840"/>
            <a:ext cx="8286480" cy="4057920"/>
          </a:xfrm>
          <a:prstGeom prst="rect">
            <a:avLst/>
          </a:prstGeom>
          <a:ln w="0">
            <a:noFill/>
          </a:ln>
        </p:spPr>
      </p:pic>
      <p:sp>
        <p:nvSpPr>
          <p:cNvPr id="560" name="자유형 4"/>
          <p:cNvSpPr/>
          <p:nvPr/>
        </p:nvSpPr>
        <p:spPr>
          <a:xfrm flipV="1">
            <a:off x="1928880" y="4357440"/>
            <a:ext cx="5929200" cy="151920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1" name="아래쪽 화살표 5"/>
          <p:cNvSpPr/>
          <p:nvPr/>
        </p:nvSpPr>
        <p:spPr>
          <a:xfrm rot="16200000">
            <a:off x="321480" y="5536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all “NotufyEventToSPL” procedur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64" name="Picture 2" descr=""/>
          <p:cNvPicPr/>
          <p:nvPr/>
        </p:nvPicPr>
        <p:blipFill>
          <a:blip r:embed="rId1"/>
          <a:stretch/>
        </p:blipFill>
        <p:spPr>
          <a:xfrm>
            <a:off x="428760" y="1924200"/>
            <a:ext cx="8286480" cy="4076640"/>
          </a:xfrm>
          <a:prstGeom prst="rect">
            <a:avLst/>
          </a:prstGeom>
          <a:ln w="0">
            <a:noFill/>
          </a:ln>
        </p:spPr>
      </p:pic>
      <p:sp>
        <p:nvSpPr>
          <p:cNvPr id="565" name="자유형 4"/>
          <p:cNvSpPr/>
          <p:nvPr/>
        </p:nvSpPr>
        <p:spPr>
          <a:xfrm flipV="1">
            <a:off x="2571840" y="4500720"/>
            <a:ext cx="2286000" cy="23328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아래쪽 화살표 5"/>
          <p:cNvSpPr/>
          <p:nvPr/>
        </p:nvSpPr>
        <p:spPr>
          <a:xfrm rot="16200000">
            <a:off x="535680" y="4393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NotifyEventToSPL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259160" cy="485748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0" name="모서리가 둥근 직사각형 4"/>
          <p:cNvSpPr/>
          <p:nvPr/>
        </p:nvSpPr>
        <p:spPr>
          <a:xfrm>
            <a:off x="2071800" y="4714920"/>
            <a:ext cx="5286240" cy="1214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procedure template for the MessagePortHandler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447840" y="1862280"/>
            <a:ext cx="8248320" cy="4066920"/>
          </a:xfrm>
          <a:prstGeom prst="rect">
            <a:avLst/>
          </a:prstGeom>
          <a:ln w="0">
            <a:noFill/>
          </a:ln>
        </p:spPr>
      </p:pic>
      <p:sp>
        <p:nvSpPr>
          <p:cNvPr id="574" name="자유형 4"/>
          <p:cNvSpPr/>
          <p:nvPr/>
        </p:nvSpPr>
        <p:spPr>
          <a:xfrm flipV="1">
            <a:off x="2286000" y="5000760"/>
            <a:ext cx="2714760" cy="87624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5" name="아래쪽 화살표 5"/>
          <p:cNvSpPr/>
          <p:nvPr/>
        </p:nvSpPr>
        <p:spPr>
          <a:xfrm rot="16200000">
            <a:off x="321480" y="5536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1347840" y="1881360"/>
            <a:ext cx="6448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ython Command under “Expression” tab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3" name="Picture 7" descr=""/>
          <p:cNvPicPr/>
          <p:nvPr/>
        </p:nvPicPr>
        <p:blipFill>
          <a:blip r:embed="rId1"/>
          <a:stretch/>
        </p:blipFill>
        <p:spPr>
          <a:xfrm>
            <a:off x="2214720" y="1928880"/>
            <a:ext cx="4695840" cy="409572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ython Command in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5" name="아래쪽 화살표 4"/>
          <p:cNvSpPr/>
          <p:nvPr/>
        </p:nvSpPr>
        <p:spPr>
          <a:xfrm rot="8464800">
            <a:off x="5456160" y="23760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아래쪽 화살표 5"/>
          <p:cNvSpPr/>
          <p:nvPr/>
        </p:nvSpPr>
        <p:spPr>
          <a:xfrm rot="16200000">
            <a:off x="1964520" y="3607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tart SPL.exe and typ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1285920" y="1785960"/>
            <a:ext cx="6078600" cy="4786200"/>
          </a:xfrm>
          <a:prstGeom prst="rect">
            <a:avLst/>
          </a:prstGeom>
          <a:ln w="0">
            <a:noFill/>
          </a:ln>
        </p:spPr>
      </p:pic>
      <p:sp>
        <p:nvSpPr>
          <p:cNvPr id="461" name="아래쪽 화살표 4"/>
          <p:cNvSpPr/>
          <p:nvPr/>
        </p:nvSpPr>
        <p:spPr>
          <a:xfrm rot="5400000">
            <a:off x="5822280" y="2464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아래쪽 화살표 5"/>
          <p:cNvSpPr/>
          <p:nvPr/>
        </p:nvSpPr>
        <p:spPr>
          <a:xfrm rot="5400000">
            <a:off x="6822360" y="3321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아래쪽 화살표 6"/>
          <p:cNvSpPr/>
          <p:nvPr/>
        </p:nvSpPr>
        <p:spPr>
          <a:xfrm rot="5400000">
            <a:off x="6965280" y="38934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아래쪽 화살표 7"/>
          <p:cNvSpPr/>
          <p:nvPr/>
        </p:nvSpPr>
        <p:spPr>
          <a:xfrm rot="5400000">
            <a:off x="5964840" y="46076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7" name="TextBox 4"/>
          <p:cNvSpPr/>
          <p:nvPr/>
        </p:nvSpPr>
        <p:spPr>
          <a:xfrm>
            <a:off x="1896120" y="1785960"/>
            <a:ext cx="545040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dd(a,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b):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"Th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dd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function"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return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MyProc1():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"Th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sampl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procedure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without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parameter"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MyProc2():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"Th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sampl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procedure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using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global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variables"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1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NotifyEventToSPL():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'NotifyEventToSPL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called'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c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True: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MessagePort.Post("Cou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Msg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ython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-&gt;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"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str(cnt)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c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c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"HelloApps"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in the SPL Edito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ss “F5” key or click “Run” ic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1285920" y="1947960"/>
            <a:ext cx="6324480" cy="3695760"/>
          </a:xfrm>
          <a:prstGeom prst="rect">
            <a:avLst/>
          </a:prstGeom>
          <a:ln w="0">
            <a:noFill/>
          </a:ln>
        </p:spPr>
      </p:pic>
      <p:sp>
        <p:nvSpPr>
          <p:cNvPr id="471" name="아래쪽 화살표 4"/>
          <p:cNvSpPr/>
          <p:nvPr/>
        </p:nvSpPr>
        <p:spPr>
          <a:xfrm rot="2628000">
            <a:off x="3039840" y="163332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in the SPL Edito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ion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1347840" y="180972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475" name="아래쪽 화살표 4"/>
          <p:cNvSpPr/>
          <p:nvPr/>
        </p:nvSpPr>
        <p:spPr>
          <a:xfrm rot="16200000">
            <a:off x="821520" y="53935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15:55Z</dcterms:modified>
  <cp:revision>915</cp:revision>
  <dc:subject/>
  <dc:title>슬라이드 1</dc:title>
</cp:coreProperties>
</file>