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8CD2E-1A91-4B27-B51E-B0943C01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3029A-2739-45C4-AFA9-FDAAD7CF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0B5C5-048A-4336-AC8A-C1F5FCD9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96786-28B7-462E-A4C5-E16E15F3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8847B-F42B-4439-B68E-BD8D6DA4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B5A33-2447-4F42-B0F7-C5D2913B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65369-9EB3-4093-904B-9DAC9532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D2A93-ADAF-46A7-BC41-405CA0A80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11C0E-A5FA-476C-8025-454826334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7B450-2610-4565-8779-3728F445A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70689-3D0A-4BB1-A3CB-4AD12605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D3749-83E8-47A1-BBFC-DA94CE4A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4779A-67A3-436D-B713-11B3976C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5D713-7B51-44CC-BC23-5C08CED4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29898-1DAE-4403-916F-147775FE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E0CF0-5BB3-4EEA-8D31-CA52A918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F0C3D-E280-430A-86A8-9F41B76E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10B3C-3BF8-4B72-A9E5-17A9A29C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8FD3D-A6F0-4E43-A65B-6984EE62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6D717-84B6-4613-83B0-4C7FD8E27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903EE-5242-493D-925C-47AB5F911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D2E3D-E8BD-411B-AC25-DB41678EB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60FF8-4EEA-4A54-9CA6-3210415B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A1F22-CCB9-400E-B563-011CD7B7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8FFAF2-027C-4A52-8A15-04E36E16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C35E7D-DBB2-4414-85AE-02449EA4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31006F-140F-487E-A6AC-37831275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B34B47-9FC2-4FA9-87D1-27BA5736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340C66-C5FF-4937-81CB-B907CD04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BD1AE-084A-4235-848E-FEAF027B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738800-8221-4231-B3EA-DF810C39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26F4A-C6BE-401F-B362-300109345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7837C1-6B8E-4BDA-9CAA-00A94F6EB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52EE-C242-40EE-A106-BDB5F3BA6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0DB8-B8EE-4070-8F42-02B4D065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9C8F-5A83-403E-B782-FDEBE7B3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55C0-5FA1-41AF-A74B-A12E86B9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264B-0A99-4733-A2BD-090E6EA0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E458-FEB4-4514-ACBB-5FE0EABD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1DCD-17F9-410C-A3F5-25281B97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4AC7-007B-4124-B46E-14F50B85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DF44-E374-445B-87BE-B9DF9C39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4623-7BB3-44C2-93FB-EA933EE7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2BA3-DB5F-4E73-AA41-A59BDD11E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27A3-8097-443C-8E98-730F31AC5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71B3-9CA0-4309-B2A1-CBDB45C83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95301-86FC-4BD6-B691-403BFD5D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C293-12DB-472C-A9AE-551CF651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A207-7858-41E9-9725-5FEF9BB5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765A-97C5-434A-9728-BFF062294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5D34-213B-453E-BD72-1FBA9180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D875-BE5F-4773-9EB4-4F0EC7CC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38ED-8AF5-47EA-80F4-9422CAA2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94C0-16F1-4C2C-AF7A-1247D8B7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6783-0483-407A-B06C-E016EC99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2C35-E09D-4BE9-9644-78E14C644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25D9-52E3-408E-98D0-01631C522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BC151-BE03-403A-8184-8B01FBDAA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8ECE0-D664-4D4A-9C9A-0C90EE1C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1359B-4A5A-485A-A5F9-14C5E6C3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C6E86-69B6-4907-A1CB-EB9D970E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34C37-4E14-43DB-A8BB-4EDC278F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B8337-BF0B-48C8-BB7B-E272A0E1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C4E4B-5AC8-4F2E-92B9-80201BBF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B916A-62DB-48C3-A9FB-D7D9ED80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BC91A-9251-46A7-B4BA-97E71834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1C47E-8013-460B-8DB5-4C4D0711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9C372-F317-42D0-876D-646C7D41D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3E9AE-AEF5-4859-907E-8AA501C5B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35574-F902-4E96-95DF-896ADF3AA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DACB8-9D17-4381-B186-DDFED755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29BC1-2273-44B3-A57B-B8C9B296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F44A6-6A59-4712-93E0-C0C09CDA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7001B-9E98-4C26-B6B3-19589A88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7824E-49E8-4C6B-895D-FC85D007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16A0E-487E-4261-B9BD-B9B145BF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71111-F7C6-4574-BE15-EB2A265D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F5BF1-85BE-4A9E-BA7A-D131FC32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E765C-CE11-4515-BFD3-BD061F59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6F688-ED15-437E-9102-D67DF9186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00F70-86CC-49E9-A209-95ABF0314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5358A-40E7-413E-B629-D4901D776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B0A5F-6D73-4801-98B3-BC6E5574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8C28C-09E3-4B0B-BC74-D1AE0F46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FB865-5971-4A53-AB23-F35DCD5B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C21B5-7780-4EA5-A116-5FF69008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B2DCF-DABD-4687-AD16-81372552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C844F-20EC-449A-81FB-EF8B8703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904BF-2A4A-48A1-B864-02246A49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1ACF3-BD26-413B-82F4-AC1FE8CB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D46F2-1451-499F-97F5-6DBEA2BE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7D41C-848E-4BBA-83CD-CFA258FDF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546C5-0D25-4C3F-9115-7BE2C939C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FC311-146E-47F3-8483-DB9DEBBAC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061B4-54B7-4073-94E3-36907B46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B1750-A991-411E-8147-F1C8A7BB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3DE3C-7276-4487-8D8D-508C701A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FBB9C-63C2-4EBE-9B0D-56ED467A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E9AD4-9E87-42C4-A313-0DAE71DE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6FF6F-950D-4AFB-B45A-9983D208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09900-7A03-4BAD-9F9C-6B30F5A7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1C03E-EE05-4EAE-9CB6-6F845F4F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729CA-E93A-4B97-9539-15AC96DD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DA461-BACC-47AB-A7A5-761493A24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E4A93-CCA1-4138-A3B9-8EC51A991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471F3-F47A-4D58-883A-9EE4EFBC9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292BB-FEFF-437B-ABBE-1EE97B14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AC27C-68A6-4DB4-BAC2-7CB0240E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F9C3-F895-4225-B4EE-6BE8DBADEF3C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426C-DFF3-457F-A6F1-C2B803CDDA48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3"/>
          <p:cNvSpPr/>
          <p:nvPr/>
        </p:nvSpPr>
        <p:spPr>
          <a:xfrm>
            <a:off x="3436920" y="6605640"/>
            <a:ext cx="213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FA87-DE9C-4F3A-A795-AEC564960CBF}" type="slidenum">
              <a:rPr b="0" lang="de-DE" sz="1200" spc="-1" strike="noStrike">
                <a:solidFill>
                  <a:srgbClr val="000000"/>
                </a:solidFill>
                <a:latin typeface="Segoe Semi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8367-193A-4A88-A599-ED06A0B82FF5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84EF-98BC-443E-B89A-A0B05D26A351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0DF5-4DAD-4C74-A08D-2558BAE0DE29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B89D-58B6-4A21-912E-DE345409D775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1C2E-F3F1-40B7-8C35-6F2107470031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F14C-AA20-49E2-9697-E4B7E7ACF37A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277B-A25C-421A-BACC-7746C3AAA084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8760" y="2349360"/>
            <a:ext cx="8286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Drive Robot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071800" y="5248080"/>
            <a:ext cx="6400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Young Joon Ki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http://www.helloapps.co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4394160" y="3814920"/>
            <a:ext cx="41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ython Interface Program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rive Robo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ssign the instance of “base1” into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2" name="Picture 4" descr=""/>
          <p:cNvPicPr/>
          <p:nvPr/>
        </p:nvPicPr>
        <p:blipFill>
          <a:blip r:embed="rId1"/>
          <a:stretch/>
        </p:blipFill>
        <p:spPr>
          <a:xfrm>
            <a:off x="633240" y="1981080"/>
            <a:ext cx="7877520" cy="4305600"/>
          </a:xfrm>
          <a:prstGeom prst="rect">
            <a:avLst/>
          </a:prstGeom>
          <a:ln w="0">
            <a:noFill/>
          </a:ln>
        </p:spPr>
      </p:pic>
      <p:sp>
        <p:nvSpPr>
          <p:cNvPr id="473" name="자유형 4"/>
          <p:cNvSpPr/>
          <p:nvPr/>
        </p:nvSpPr>
        <p:spPr>
          <a:xfrm flipV="1">
            <a:off x="3786120" y="5714280"/>
            <a:ext cx="1500120" cy="14292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아래쪽 화살표 6"/>
          <p:cNvSpPr/>
          <p:nvPr/>
        </p:nvSpPr>
        <p:spPr>
          <a:xfrm rot="16200000">
            <a:off x="821520" y="55364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아래쪽 화살표 7"/>
          <p:cNvSpPr/>
          <p:nvPr/>
        </p:nvSpPr>
        <p:spPr>
          <a:xfrm rot="1502400">
            <a:off x="3050640" y="245916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rive Robo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8" name="Picture 4" descr=""/>
          <p:cNvPicPr/>
          <p:nvPr/>
        </p:nvPicPr>
        <p:blipFill>
          <a:blip r:embed="rId1"/>
          <a:stretch/>
        </p:blipFill>
        <p:spPr>
          <a:xfrm>
            <a:off x="628560" y="1714680"/>
            <a:ext cx="7886880" cy="4324320"/>
          </a:xfrm>
          <a:prstGeom prst="rect">
            <a:avLst/>
          </a:prstGeom>
          <a:ln w="0">
            <a:noFill/>
          </a:ln>
        </p:spPr>
      </p:pic>
      <p:sp>
        <p:nvSpPr>
          <p:cNvPr id="479" name="자유형 4"/>
          <p:cNvSpPr/>
          <p:nvPr/>
        </p:nvSpPr>
        <p:spPr>
          <a:xfrm>
            <a:off x="3857760" y="5038560"/>
            <a:ext cx="500040" cy="57168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아래쪽 화살표 5"/>
          <p:cNvSpPr/>
          <p:nvPr/>
        </p:nvSpPr>
        <p:spPr>
          <a:xfrm rot="16200000">
            <a:off x="749880" y="4788720"/>
            <a:ext cx="285840" cy="6426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rive Robo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RobotDrive(left, right) module in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3" name="Picture 4" descr=""/>
          <p:cNvPicPr/>
          <p:nvPr/>
        </p:nvPicPr>
        <p:blipFill>
          <a:blip r:embed="rId1"/>
          <a:stretch/>
        </p:blipFill>
        <p:spPr>
          <a:xfrm>
            <a:off x="2928960" y="1857240"/>
            <a:ext cx="4081320" cy="4624560"/>
          </a:xfrm>
          <a:prstGeom prst="rect">
            <a:avLst/>
          </a:prstGeom>
          <a:ln w="0">
            <a:noFill/>
          </a:ln>
        </p:spPr>
      </p:pic>
      <p:sp>
        <p:nvSpPr>
          <p:cNvPr id="484" name="모서리가 둥근 직사각형 4"/>
          <p:cNvSpPr/>
          <p:nvPr/>
        </p:nvSpPr>
        <p:spPr>
          <a:xfrm>
            <a:off x="2571840" y="4143240"/>
            <a:ext cx="5000400" cy="785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rive Robo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7" name="Picture 4" descr=""/>
          <p:cNvPicPr/>
          <p:nvPr/>
        </p:nvPicPr>
        <p:blipFill>
          <a:blip r:embed="rId1"/>
          <a:stretch/>
        </p:blipFill>
        <p:spPr>
          <a:xfrm>
            <a:off x="2571840" y="2071800"/>
            <a:ext cx="428616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Drive Robot with Patter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rive Robot with Patter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RobotDrivePattern” modu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1" name="Picture 2" descr=""/>
          <p:cNvPicPr/>
          <p:nvPr/>
        </p:nvPicPr>
        <p:blipFill>
          <a:blip r:embed="rId1"/>
          <a:stretch/>
        </p:blipFill>
        <p:spPr>
          <a:xfrm>
            <a:off x="2376360" y="1900080"/>
            <a:ext cx="439128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rive Robot with Patter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RobotDrivePattern() module in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4" name="Picture 4" descr=""/>
          <p:cNvPicPr/>
          <p:nvPr/>
        </p:nvPicPr>
        <p:blipFill>
          <a:blip r:embed="rId1"/>
          <a:stretch/>
        </p:blipFill>
        <p:spPr>
          <a:xfrm>
            <a:off x="2928960" y="1857240"/>
            <a:ext cx="4081320" cy="4624560"/>
          </a:xfrm>
          <a:prstGeom prst="rect">
            <a:avLst/>
          </a:prstGeom>
          <a:ln w="0">
            <a:noFill/>
          </a:ln>
        </p:spPr>
      </p:pic>
      <p:sp>
        <p:nvSpPr>
          <p:cNvPr id="495" name="모서리가 둥근 직사각형 4"/>
          <p:cNvSpPr/>
          <p:nvPr/>
        </p:nvSpPr>
        <p:spPr>
          <a:xfrm>
            <a:off x="2571840" y="4929120"/>
            <a:ext cx="5000400" cy="1143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rive Robot with Patter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8" name="Picture 2" descr=""/>
          <p:cNvPicPr/>
          <p:nvPr/>
        </p:nvPicPr>
        <p:blipFill>
          <a:blip r:embed="rId1"/>
          <a:stretch/>
        </p:blipFill>
        <p:spPr>
          <a:xfrm>
            <a:off x="4572000" y="2143080"/>
            <a:ext cx="4286160" cy="36864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3" descr=""/>
          <p:cNvPicPr/>
          <p:nvPr/>
        </p:nvPicPr>
        <p:blipFill>
          <a:blip r:embed="rId2"/>
          <a:stretch/>
        </p:blipFill>
        <p:spPr>
          <a:xfrm>
            <a:off x="214200" y="2143080"/>
            <a:ext cx="428652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Read Robot Positi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Read Robot Posi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RobotPosition” modu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2419200" y="1857240"/>
            <a:ext cx="4305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Topics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Drive Robo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Drive Robot with Patter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Read Robot Posit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Read Robot Posi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RobotPosition() module in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06" name="Picture 4" descr=""/>
          <p:cNvPicPr/>
          <p:nvPr/>
        </p:nvPicPr>
        <p:blipFill>
          <a:blip r:embed="rId1"/>
          <a:stretch/>
        </p:blipFill>
        <p:spPr>
          <a:xfrm>
            <a:off x="2928960" y="1857240"/>
            <a:ext cx="4081320" cy="4624560"/>
          </a:xfrm>
          <a:prstGeom prst="rect">
            <a:avLst/>
          </a:prstGeom>
          <a:ln w="0">
            <a:noFill/>
          </a:ln>
        </p:spPr>
      </p:pic>
      <p:sp>
        <p:nvSpPr>
          <p:cNvPr id="507" name="모서리가 둥근 직사각형 4"/>
          <p:cNvSpPr/>
          <p:nvPr/>
        </p:nvSpPr>
        <p:spPr>
          <a:xfrm>
            <a:off x="2571840" y="2643120"/>
            <a:ext cx="5000400" cy="1500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Read Robot Posi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PL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10" name="Picture 2" descr=""/>
          <p:cNvPicPr/>
          <p:nvPr/>
        </p:nvPicPr>
        <p:blipFill>
          <a:blip r:embed="rId1"/>
          <a:stretch/>
        </p:blipFill>
        <p:spPr>
          <a:xfrm>
            <a:off x="785880" y="1857240"/>
            <a:ext cx="6448320" cy="419112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3" descr=""/>
          <p:cNvPicPr/>
          <p:nvPr/>
        </p:nvPicPr>
        <p:blipFill>
          <a:blip r:embed="rId2"/>
          <a:stretch/>
        </p:blipFill>
        <p:spPr>
          <a:xfrm>
            <a:off x="4429080" y="2786040"/>
            <a:ext cx="428616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4" name="Picture 5" descr=""/>
          <p:cNvPicPr/>
          <p:nvPr/>
        </p:nvPicPr>
        <p:blipFill>
          <a:blip r:embed="rId1"/>
          <a:stretch/>
        </p:blipFill>
        <p:spPr>
          <a:xfrm>
            <a:off x="3643200" y="1000080"/>
            <a:ext cx="4991040" cy="5657760"/>
          </a:xfrm>
          <a:prstGeom prst="rect">
            <a:avLst/>
          </a:prstGeom>
          <a:ln w="0">
            <a:noFill/>
          </a:ln>
        </p:spPr>
      </p:pic>
      <p:sp>
        <p:nvSpPr>
          <p:cNvPr id="455" name="아래쪽 화살표 4"/>
          <p:cNvSpPr/>
          <p:nvPr/>
        </p:nvSpPr>
        <p:spPr>
          <a:xfrm rot="16200000">
            <a:off x="3035880" y="1821600"/>
            <a:ext cx="285840" cy="6426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아래쪽 화살표 5"/>
          <p:cNvSpPr/>
          <p:nvPr/>
        </p:nvSpPr>
        <p:spPr>
          <a:xfrm rot="16200000">
            <a:off x="3036240" y="3678840"/>
            <a:ext cx="285480" cy="64260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아래쪽 화살표 6"/>
          <p:cNvSpPr/>
          <p:nvPr/>
        </p:nvSpPr>
        <p:spPr>
          <a:xfrm rot="16200000">
            <a:off x="3035880" y="4679280"/>
            <a:ext cx="285840" cy="6426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0" name="TextBox 3"/>
          <p:cNvSpPr/>
          <p:nvPr/>
        </p:nvSpPr>
        <p:spPr>
          <a:xfrm>
            <a:off x="2359080" y="1928880"/>
            <a:ext cx="487512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rom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obotPosition(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RobotPosition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alled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whil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rue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x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tr(base1.Position.X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z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tr(base1.Position.Z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Position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X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and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Z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&gt;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x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z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.sleep(0.5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obotDrive(left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ight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RobotDriv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alled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Go(left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ight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obotDrivePattern(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RobotDrivePattern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alled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whil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rue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GoTo(1.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3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Turn(9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2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Robot_Drive.py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eady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s “&lt;MSRDS Root Dir&gt;/UserData/robot_drive.py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Drive</a:t>
            </a: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Robot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rive Robo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basic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6" name="Picture 5" descr=""/>
          <p:cNvPicPr/>
          <p:nvPr/>
        </p:nvPicPr>
        <p:blipFill>
          <a:blip r:embed="rId1"/>
          <a:stretch/>
        </p:blipFill>
        <p:spPr>
          <a:xfrm>
            <a:off x="2386080" y="2852640"/>
            <a:ext cx="43718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rive Robo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simulation environment and robo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9" name="Picture 4" descr=""/>
          <p:cNvPicPr/>
          <p:nvPr/>
        </p:nvPicPr>
        <p:blipFill>
          <a:blip r:embed="rId1"/>
          <a:stretch/>
        </p:blipFill>
        <p:spPr>
          <a:xfrm>
            <a:off x="2371680" y="2100240"/>
            <a:ext cx="440064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1:18:26Z</dcterms:created>
  <dc:creator>yjoonkim</dc:creator>
  <dc:description/>
  <dc:language>en-US</dc:language>
  <cp:lastModifiedBy>yjoonkim</cp:lastModifiedBy>
  <dcterms:modified xsi:type="dcterms:W3CDTF">2010-03-29T11:16:23Z</dcterms:modified>
  <cp:revision>928</cp:revision>
  <dc:subject/>
  <dc:title>슬라이드 1</dc:title>
</cp:coreProperties>
</file>