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667CB-9F21-4049-B305-C497C8B9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3690C-A1E3-4A93-8DF8-245C1047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23FFE-B511-4E42-9B54-ECFF35F2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1458F-1F1E-4284-B2E6-20903964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C1A41-56FF-4155-9712-95B2D78B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F1EE2-7B80-4F45-A630-8CB41D39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E7141-9E21-4D22-8561-27055526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DFDF9-2816-44C9-89AA-3AA1E0FFA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F4B5D-178A-430A-8E15-7FFE7148B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7873B-6A9B-41DB-A31D-4416D9212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62881-8471-4552-9CD4-61147DE5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032C4-B108-4EA8-9B54-142DA994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752F0-C30B-4434-89B3-61FF6A43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BA7FD-DF11-42AE-9C81-F1F11FAA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C89BE-B29C-4D06-A2BF-3F604341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D8C42-8F51-4973-BD99-AD5D2FDE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68DEB-4E13-4B80-BE6C-8AD51D21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0BC07-9046-41DA-AF19-DF2EE267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44C45-796D-4664-889E-A89475E2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EA2DD-5767-49AF-AB7B-C727429BD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E4CB4-80FB-48C6-82DE-961E8FA41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B90C53-C62E-4BCE-A688-637BFB859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F73661-B171-4B39-80F0-9E61C057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033FA1-70F0-4E0D-AFBE-C4B39472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CE216-BB58-4033-B792-97F9F098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34FFA-FDF7-461B-BDFA-34523FDA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CD407-038D-45DC-937E-90231E31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E418A-DF1A-48D4-B1D0-B929127D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1B9AD-271E-465C-8E24-74DBF67A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01428-2ED6-4B54-97AA-01067341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0BDA6-459A-454E-B9B5-7801BFF0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350CE1-4A7F-4ECE-B98E-7E05EF630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B9443-0DB8-48DA-BEB4-DB89DC4BE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2960-8785-42AA-87C3-41E372764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0B85-99A9-43DF-A61C-A39C8666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172F-C921-441E-BB1A-D3040CAF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250A-C90C-4FB8-A547-8F08A41C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E484-B966-4BFA-9F5D-D2DEDBA2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6A14-5D19-4E1B-B86E-07FB1CAA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93F2-06AE-4A10-8190-E40D7B7D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1F65-9CC0-4B7B-BBEC-2D0801DC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1C97-742A-4711-9380-EA1416C2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57C7-39AD-46D4-A1E1-F201052B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866E-416E-4E5C-BA89-E0D50C59C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4039-F781-4031-BF0D-31B24C5F3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36387-8836-4E0E-819A-4FA7ECDAC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D8A6-8F7D-45EA-BF55-7DEE6DBE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E511-6473-4484-B695-5F9D29D7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239A-30FD-475B-9763-6FB585FD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781B-361E-4D85-907E-D9CBF645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1A74-8CBC-4CD9-9E45-4E12416A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FBED-D320-4592-B4F9-DCDFD080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913F-9E4A-45D8-82F7-D6875386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F0D5-8423-48B2-B10C-B1A66E70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3747-BC89-4159-B480-D11CECC8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77BE-1E01-46A2-9DC0-86EA8D534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B37A-930E-4F49-BEA8-3FF1A703D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BF1D0-BF66-4947-9E1B-394C7F5AA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5ACE3-9D27-41AF-859C-7B048113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361E9-5715-420D-96A2-0C11E878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95784-AD84-421E-B63E-5790099B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1B141-5A48-4947-B70D-6B539045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BB07C-CB00-4AFD-AE8A-71F51B83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C4890-F5F7-4050-AAA5-A41430A9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8C97F-B968-4F38-944E-3197B152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C9DDB-5CD3-4E44-9A2E-0A519596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3B032-B122-45D5-979C-986BE747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F3D13-7CBD-4DA9-B276-6CA23B2DB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565DC-F47A-466B-BCA6-3B9B75622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00C9B-9AFA-422D-B279-3AC5D328D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C8876-C722-435B-8EEF-36AA465C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D8AF2-E04F-4E4A-BD7B-111F1BE1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4627E-676B-439E-919C-6382DD2C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6AABC-7BC8-42AE-899B-49E2693E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72EAE-8DE1-4150-80C4-BE06879F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8DCA3-2FF6-46C2-A4F4-B1AA8A87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EB2F7-FE58-400D-BCC6-9F1E70FF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61B03-E422-4A88-98E1-7B2EDC9C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EA2B9-6330-4301-9CF9-4424F597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6C03D-3643-441D-9796-F971F2579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951F9-F186-46D7-829A-BCD02B14E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E9722-624A-455E-AE62-CADF155CE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BBCF3-2AD7-4DA3-AD23-BE5D9988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554D2-54E0-4EC3-803E-267F0DCB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9F080-EE93-4F53-A189-2E6A400C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5FE75-0866-48F9-AC02-798777A5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2ACFE-88F6-4BA1-B3A2-8C6BBE30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1147C-0A6F-45BE-85DB-65FE2FB5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2BD7F-FA11-4696-9E1A-A5CFC076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6EC66-081D-43B1-96D7-6CABACF9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13710-6D01-4696-8F38-A5C4F093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1E321-2F46-42FE-9B15-00318A729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E182B-B7E2-4120-A2AC-8FF4B8CDA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102E0-AF4B-472F-8C43-7C4B03DA2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5553A-D808-4470-A4A1-D45F3A3C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F5F3C-183F-4C35-B6A0-F449841D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EBBAE-AC75-4761-94E8-614EFD38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1AAD0-10A0-4F41-AFB1-0912C951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6EE00-1359-472C-A7C9-E0E1F08A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19FB6-4F18-4773-8AF8-7F3A1A85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24C65-C85A-4B01-ACD6-E09E31F6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A400E-C259-4767-A68F-6D4B1F2A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5FB38-43EE-4FB1-8EB3-180427B1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BFED6-82D2-46AA-B11D-4F93FDF86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8F167-F5DF-4FC0-9973-C5B5621F1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2AB4C-68F9-4094-94A3-842BA55DC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F050E-6F2D-4845-98D5-003FECFC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70EBC-68AB-44FF-AF98-38ED1529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5498-01EB-494C-A303-2D9BD753D1AC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7D66-6FB5-43B3-9808-3FE11A096786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3"/>
          <p:cNvSpPr/>
          <p:nvPr/>
        </p:nvSpPr>
        <p:spPr>
          <a:xfrm>
            <a:off x="3436920" y="6605640"/>
            <a:ext cx="21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66D9-7771-435D-A02A-E77E17293E5E}" type="slidenum">
              <a:rPr b="0" lang="de-DE" sz="1200" spc="-1" strike="noStrike">
                <a:solidFill>
                  <a:srgbClr val="000000"/>
                </a:solidFill>
                <a:latin typeface="Segoe Semi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3ED3-0FE9-4B2F-B562-F6C292CB00A6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CE14-A2D6-4B20-AE3C-C3CF8E8EF56A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648A-1DBD-4B2D-BC93-089D025700B0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98A0-C7F1-4175-B64D-59A41D63AF1D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0558-2A1C-4906-A557-177197BC502B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DC68-9989-45E6-8764-CB9BD0187C44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08DC-9AA8-49E1-93FD-B5E345D85AD9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349360"/>
            <a:ext cx="8286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071800" y="524808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Young Joon Ki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http://www.helloapps.co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4394160" y="3814920"/>
            <a:ext cx="41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ython Interface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basic sim environment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dumy entity to check whether sim engine is started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4" name="Picture 2" descr=""/>
          <p:cNvPicPr/>
          <p:nvPr/>
        </p:nvPicPr>
        <p:blipFill>
          <a:blip r:embed="rId1"/>
          <a:stretch/>
        </p:blipFill>
        <p:spPr>
          <a:xfrm>
            <a:off x="2262240" y="2519280"/>
            <a:ext cx="461952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“WaitForEntityCreation” and “WaitForServiceCreation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7" name="Picture 3" descr=""/>
          <p:cNvPicPr/>
          <p:nvPr/>
        </p:nvPicPr>
        <p:blipFill>
          <a:blip r:embed="rId1"/>
          <a:stretch/>
        </p:blipFill>
        <p:spPr>
          <a:xfrm>
            <a:off x="343080" y="2000160"/>
            <a:ext cx="8458200" cy="3772080"/>
          </a:xfrm>
          <a:prstGeom prst="rect">
            <a:avLst/>
          </a:prstGeom>
          <a:ln w="0">
            <a:noFill/>
          </a:ln>
        </p:spPr>
      </p:pic>
      <p:sp>
        <p:nvSpPr>
          <p:cNvPr id="478" name="자유형 5"/>
          <p:cNvSpPr/>
          <p:nvPr/>
        </p:nvSpPr>
        <p:spPr>
          <a:xfrm>
            <a:off x="2143080" y="4214880"/>
            <a:ext cx="1857600" cy="107136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아래쪽 화살표 6"/>
          <p:cNvSpPr/>
          <p:nvPr/>
        </p:nvSpPr>
        <p:spPr>
          <a:xfrm rot="16200000">
            <a:off x="178560" y="38934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ssign “splengine1” into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CreateEntit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2" name="Picture 6" descr=""/>
          <p:cNvPicPr/>
          <p:nvPr/>
        </p:nvPicPr>
        <p:blipFill>
          <a:blip r:embed="rId1"/>
          <a:stretch/>
        </p:blipFill>
        <p:spPr>
          <a:xfrm>
            <a:off x="4000680" y="1571760"/>
            <a:ext cx="4809960" cy="4848120"/>
          </a:xfrm>
          <a:prstGeom prst="rect">
            <a:avLst/>
          </a:prstGeom>
          <a:ln w="0">
            <a:noFill/>
          </a:ln>
        </p:spPr>
      </p:pic>
      <p:sp>
        <p:nvSpPr>
          <p:cNvPr id="483" name="아래쪽 화살표 4"/>
          <p:cNvSpPr/>
          <p:nvPr/>
        </p:nvSpPr>
        <p:spPr>
          <a:xfrm rot="16200000">
            <a:off x="3464640" y="56077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reateEntity(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6" name="Picture 4" descr=""/>
          <p:cNvPicPr/>
          <p:nvPr/>
        </p:nvPicPr>
        <p:blipFill>
          <a:blip r:embed="rId1"/>
          <a:stretch/>
        </p:blipFill>
        <p:spPr>
          <a:xfrm>
            <a:off x="933480" y="1828800"/>
            <a:ext cx="7277040" cy="4743360"/>
          </a:xfrm>
          <a:prstGeom prst="rect">
            <a:avLst/>
          </a:prstGeom>
          <a:ln w="0">
            <a:noFill/>
          </a:ln>
        </p:spPr>
      </p:pic>
      <p:sp>
        <p:nvSpPr>
          <p:cNvPr id="487" name="모서리가 둥근 직사각형 4"/>
          <p:cNvSpPr/>
          <p:nvPr/>
        </p:nvSpPr>
        <p:spPr>
          <a:xfrm>
            <a:off x="642960" y="2714760"/>
            <a:ext cx="8072280" cy="3286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0" name="Picture 6" descr=""/>
          <p:cNvPicPr/>
          <p:nvPr/>
        </p:nvPicPr>
        <p:blipFill>
          <a:blip r:embed="rId1"/>
          <a:stretch/>
        </p:blipFill>
        <p:spPr>
          <a:xfrm>
            <a:off x="500040" y="1857240"/>
            <a:ext cx="4286160" cy="36864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2"/>
          <a:stretch/>
        </p:blipFill>
        <p:spPr>
          <a:xfrm>
            <a:off x="3714840" y="2714760"/>
            <a:ext cx="428616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ed resul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1347840" y="1881360"/>
            <a:ext cx="64483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4" name="아래쪽 화살표 5"/>
          <p:cNvSpPr/>
          <p:nvPr/>
        </p:nvSpPr>
        <p:spPr>
          <a:xfrm rot="16200000">
            <a:off x="392760" y="267840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5" name="Picture 4" descr=""/>
          <p:cNvPicPr/>
          <p:nvPr/>
        </p:nvPicPr>
        <p:blipFill>
          <a:blip r:embed="rId1"/>
          <a:stretch/>
        </p:blipFill>
        <p:spPr>
          <a:xfrm>
            <a:off x="933480" y="1828800"/>
            <a:ext cx="727704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8" name="TextBox 3"/>
          <p:cNvSpPr/>
          <p:nvPr/>
        </p:nvSpPr>
        <p:spPr>
          <a:xfrm>
            <a:off x="728640" y="2143080"/>
            <a:ext cx="638496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reateEntity(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or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n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ange(1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50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AddNewEntity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ent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tr(i) 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Position: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5.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\n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AddBoxShap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Dimensions:0.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Mass:0.1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plengine1.ExecuteScriptText(s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.sleep(1.0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entity_creation.py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s “&lt;MSRDS Root Dir&gt;/UserData/entity_creation.p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basic script for the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4" name="Picture 5" descr=""/>
          <p:cNvPicPr/>
          <p:nvPr/>
        </p:nvPicPr>
        <p:blipFill>
          <a:blip r:embed="rId1"/>
          <a:stretch/>
        </p:blipFill>
        <p:spPr>
          <a:xfrm>
            <a:off x="2181240" y="2862360"/>
            <a:ext cx="478152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“SPLEngine” command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7" name="Picture 5" descr=""/>
          <p:cNvPicPr/>
          <p:nvPr/>
        </p:nvPicPr>
        <p:blipFill>
          <a:blip r:embed="rId1"/>
          <a:stretch/>
        </p:blipFill>
        <p:spPr>
          <a:xfrm>
            <a:off x="685800" y="2147760"/>
            <a:ext cx="8172360" cy="3781440"/>
          </a:xfrm>
          <a:prstGeom prst="rect">
            <a:avLst/>
          </a:prstGeom>
          <a:ln w="0">
            <a:noFill/>
          </a:ln>
        </p:spPr>
      </p:pic>
      <p:sp>
        <p:nvSpPr>
          <p:cNvPr id="468" name="자유형 5"/>
          <p:cNvSpPr/>
          <p:nvPr/>
        </p:nvSpPr>
        <p:spPr>
          <a:xfrm flipV="1">
            <a:off x="1928880" y="3785400"/>
            <a:ext cx="3286080" cy="107172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TextBox 6"/>
          <p:cNvSpPr/>
          <p:nvPr/>
        </p:nvSpPr>
        <p:spPr>
          <a:xfrm>
            <a:off x="-19800" y="4071960"/>
            <a:ext cx="78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맑은 고딕"/>
              </a:rPr>
              <a:t>Doub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맑은 고딕"/>
              </a:rPr>
              <a:t>cli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아래쪽 화살표 7"/>
          <p:cNvSpPr/>
          <p:nvPr/>
        </p:nvSpPr>
        <p:spPr>
          <a:xfrm rot="16200000">
            <a:off x="378720" y="44647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아래쪽 화살표 8"/>
          <p:cNvSpPr/>
          <p:nvPr/>
        </p:nvSpPr>
        <p:spPr>
          <a:xfrm rot="1502400">
            <a:off x="3036600" y="28162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1:18:26Z</dcterms:created>
  <dc:creator>yjoonkim</dc:creator>
  <dc:description/>
  <dc:language>en-US</dc:language>
  <cp:lastModifiedBy>yjoonkim</cp:lastModifiedBy>
  <dcterms:modified xsi:type="dcterms:W3CDTF">2010-03-30T05:00:48Z</dcterms:modified>
  <cp:revision>983</cp:revision>
  <dc:subject/>
  <dc:title>슬라이드 1</dc:title>
</cp:coreProperties>
</file>