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C6A0C-B488-4FD9-B864-FC6DFC7F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6B12-369E-4B58-B068-634D5EA4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B1664-87E3-47E4-BFAA-17CE6A92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7D102-F5DB-4EC2-A647-B4F001C8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31879-2290-4E1C-A5E3-49F3D5F0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0938D-794E-4B42-B654-3111E820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ABE2-A27B-4E5A-99BD-8EDEA7B5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A990B-4693-4E7E-80F1-98088526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FB540-F67A-4531-B61E-465219DA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D805-14FE-4C01-8808-3D51077E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EF0B4-7C3D-4E86-8368-14954041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7863-679C-4EA1-AE4F-C3517D50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F7A0E-0673-49AE-AC24-DB73A73A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DB7A-FB28-4A45-A1F5-0743950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A7DC6-E2B0-4C18-88E2-1EBC5092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018D-0535-4FA0-BF41-A58DCD93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8B7C-58B9-42C9-92B0-3CCDCE69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188BF-87F5-41ED-8C06-C78039E3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8C665-3E2E-4646-BAE5-6B674421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CB2B0-6382-4234-A618-D4B7BD11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18C26-E67C-44B3-AF74-82E59045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876CE-00F8-4238-9374-07B14C7F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559C4-DC04-44A2-A5DD-116B76B1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555A8-293B-4EA2-BEB1-B7DE4508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9C45C-C664-455E-9E54-60181ECC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187F7-84F6-4994-BB2D-8A5BFBFA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AB4E9-279C-4283-A255-7658C94E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8356E-9B26-41CD-85B8-8EE8EC5D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B0EA8-BBBD-4C2E-B6FE-21418333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EDACB-D490-498D-A608-CD24CDE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44C73-1849-48A6-8C9D-E4E3893F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67E30-D91D-4922-8026-67D80A5B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E35F1-FD4A-42B1-8AFB-03184558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A96-F843-4039-A106-52F6CE32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50F-D276-4DE7-9992-6E8618CD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6FA-AB85-40DB-A996-5436EE00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79B-AB48-4D16-B2B0-0115D5DB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3A3-6502-4F77-9698-33E54C58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5FC-4640-4F4E-A629-FCCBED83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A3B-42D9-4C75-8202-D673720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06F-478F-4AB6-9DAE-20C9FC56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245-7EE4-4110-8507-175EA7B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D75-8BF0-48B0-93AA-1E330C8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7E9-6A57-4795-9931-C2E79972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0E1-8F42-44D7-9F8A-97D5534B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364F-BF9A-4A74-8788-1F03C066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566C-F455-4C37-90FC-8167C04C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451D-4305-46DB-B8D4-C9AC26A3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515A-7950-4EB2-80CF-CC88A0B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5E74-49B7-411F-B905-7AF75C6D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80EC-C20E-413C-BCF8-5B47B464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E76C-2CA3-46D1-8910-9150824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BC48-D3BA-46FE-BBB4-23933437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1957-0976-4DA2-B55D-CDCA00E1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B59C-730A-478A-98E3-98B8B69F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A7DE-F825-4132-A0CE-41BEF48A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629F-17B2-4EC8-BDFD-A36E767E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F0F5-F81A-46F1-93C1-00071F97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5104-C866-4821-AA93-237B3733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052E-5439-402E-BE82-434584C3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62CA-7C4E-4D1E-A24E-0FDD02AD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15A3-EBE9-452C-9663-3B62E935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B043-A896-4DFD-B8D6-178B28BB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B1AB9-1D5D-4006-863B-01CE4279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2736-D796-430A-8C99-979B3288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C451-681F-408D-AEE5-14C1783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F7D79-771E-47D1-A67D-1C357FA3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3552-1BDD-4647-A2F4-9895EBE2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F1F9-B9C7-4450-B935-9042794B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B077-4DEF-4EC1-B5B9-79565F5E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D0898-BEAE-41FD-9076-EB8D1B36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50F4-32FB-4A4B-AC68-1CFB4D7C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6310-FEEE-434D-A617-C765E09F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04CF-BCFE-4385-8D6A-0F864B47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3EE93-BDBB-4432-BED3-E11C47B3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7B84-E7F7-4D63-BE38-A94CF254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8098-A1E3-442D-BFB1-399FE3F1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91B9-1486-4C13-9153-46F92B0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7A36-8369-462E-BAB1-931E46B9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F1F7A-DBC5-4140-8F82-2373ECAF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282E-23C5-4E1C-BF8E-1B89C99E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80A84-D5FC-426A-AC67-A581A515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55E96-2782-4AFB-B749-BD2AD48D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C12AD-AC25-45BD-9D54-2052B2F9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86F6E-10D6-4B28-B3E0-2A259A35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5580-E0E6-43BC-9B29-C3867BC4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EB2D-3667-4862-8979-C6B01657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46C68-E0BB-413B-8A62-D8CE7066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9783D-D0BA-4565-AB11-B073EC60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93C31-977C-4BF6-84AC-3F950878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210B-9A6F-41D0-B25C-66206403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D68F4-0D5B-4893-8223-E6D12D6B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C960B-456A-477A-A70C-0F921E19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3C2E7-B2FF-4B61-82F9-31608C24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9108-B78A-4715-B848-1990D39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CCB1B-A808-4028-9526-8F18D204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76F3B-4EEF-4036-BCB1-0D9F2AEC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C2953-8CA5-4094-858A-1B96D02E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568ED-60E3-4778-86CA-DEDA5CBF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1468-4C46-4E29-91E0-A398DBD0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4B257-8112-4816-B0BE-3A13197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D1AC5-51D8-4D94-94D8-E1C8B79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F3E18-20AF-489B-973F-8FB8193A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3EB5-5452-4AB0-8361-9D8264C2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0A5AD-574A-4233-8530-38C44CCC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AE8CE-E0C9-43BA-8715-F623CF8B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289A5-EAFF-4248-922A-B063ADAE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D7868-0F37-47C0-9AC0-4ADCAD80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3B43-0431-4D6D-9010-A24291E6082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D9EA-88FC-4A48-9950-F14414D9787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4C95-55CF-4E8C-B1F2-AD0B45BC4F9A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05ED-F9CF-42EC-A91C-B494F2B62C1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CC4D-8034-42EF-9936-ABC4E6C8A1B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608E-FD4F-4188-8627-080DAD2F53E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BB5A-E767-4E46-BA84-51E0AE29506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DD0E-C63E-4505-85E5-21D0CC36043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F07B-568E-48AC-8A9D-B9F87C89142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8585-AC04-49DF-BCB5-B4DA096B613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2247840" y="2376360"/>
            <a:ext cx="46483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642960" y="1933560"/>
            <a:ext cx="8096400" cy="4067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자유형 5"/>
          <p:cNvSpPr/>
          <p:nvPr/>
        </p:nvSpPr>
        <p:spPr>
          <a:xfrm>
            <a:off x="2571840" y="3857760"/>
            <a:ext cx="1714320" cy="1285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53568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ApplyForc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3714840" y="1643040"/>
            <a:ext cx="4562280" cy="483876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10752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571840"/>
            <a:ext cx="80722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4000680" y="29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132156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1704960" y="2143080"/>
            <a:ext cx="55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pplyForce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m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1.Forc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cm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ontrol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ontrol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319480" y="2838600"/>
            <a:ext cx="450504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9" descr=""/>
          <p:cNvPicPr/>
          <p:nvPr/>
        </p:nvPicPr>
        <p:blipFill>
          <a:blip r:embed="rId1"/>
          <a:stretch/>
        </p:blipFill>
        <p:spPr>
          <a:xfrm>
            <a:off x="566640" y="1981080"/>
            <a:ext cx="8010720" cy="3591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자유형 5"/>
          <p:cNvSpPr/>
          <p:nvPr/>
        </p:nvSpPr>
        <p:spPr>
          <a:xfrm flipV="1">
            <a:off x="1857240" y="3714120"/>
            <a:ext cx="3143520" cy="9284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39290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50640" y="224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18:26Z</dcterms:modified>
  <cp:revision>986</cp:revision>
  <dc:subject/>
  <dc:title>슬라이드 1</dc:title>
</cp:coreProperties>
</file>