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5704B-1874-4D78-8C5D-6F92A02E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0AE03-5FA0-422E-ABA7-B1633CF1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2FE8D-7B55-4A08-84C2-D5EA44EA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7ACC4-6D94-45D2-A659-07494E6E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700BD-A66E-452D-A266-E01B3A34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CD42A-F4BA-4AF0-851B-20C3D56A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AA608-0D08-4F81-AD30-365CFB92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8F03B-922F-4F83-83AE-66F0BB35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21DAF-9158-4F9E-9A21-F8265AFB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63ABA-D562-4637-BB56-EF777702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89DE9-9FC2-4DA7-8FFE-6B70CF87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245BC-460C-4CAF-B320-35C7AFD9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00C03-2BFC-41BC-A933-4D4D3E9C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18897-5747-4410-8803-CED8D7B9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D159F-490C-4E9E-A0E5-37E33808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19AF8-E2F0-4828-84E5-D7F1FB60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6B616-350B-4035-81DD-6E56D0D7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88F2A-B02D-49ED-ADA6-6B0C8721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69932-092C-4CF4-8EA8-C9C55795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45342-C1EF-4E0D-818B-9302AEAE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6574D-EFFA-4475-9C1C-0A9C5EFE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D0792-65EF-4F4E-AEF2-74E98584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8BDF9-384B-4DB6-B0FA-91F5AC03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17BDB-4960-4A42-B6C3-3E70A40A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F99E8-846B-48C9-9454-3ED0B972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B51FF-44C0-4F2D-B5E9-AEF87053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558CD-F586-40A8-9CFF-BB754132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40C5E-8A1A-4830-A24F-D0A0A1BF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9F7E9-6942-4953-955D-2EAEB46C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1EF96-84E7-4E7A-95AD-DD3CC1F0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6EE7A-9A5F-4D45-90D2-8E1504B9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49950-77BE-431C-BF4E-8E962095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9F6EF-96AE-4651-9601-AF28157F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647-EFAA-4D45-86FB-796EEC8B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727-0BE5-4B6C-8394-390100E3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B0A-0E10-4424-A176-A4A31C9B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89C-915B-407D-A1A0-563AA707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601-6EA6-480B-8938-8ED2EB5F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86D-4DF3-460C-9BE4-90276DE9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9F6-407A-42A8-9672-C861E17B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5FD-FC1E-4FEA-885F-62CF0BB6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40D-D4A2-437A-8FAF-2D841E44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397-9364-4E84-B116-BC5E1443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61A-C2E6-4E7A-956D-12895AF6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778-0C50-4767-B890-225C939E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81C8-C1EC-47F5-A90B-F2F1ABC1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EB64-FC4B-40AF-B2BF-275E818D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1F10-5736-4E3E-A5A8-D12EAC9F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10E2-366A-48B5-B4F0-48392500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6F4E-95C9-4D79-9874-4CB1391D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7034-095A-4D96-93F1-7A24EFA3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051E-8DEC-4895-8F4F-6C3B40D4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76D3-EE25-4607-807F-96B3B255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30A2-0285-4BB1-B03A-A0788E8A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A79B-6238-43D2-A250-0F85DD38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3AD3-4F45-495A-9BA1-829579B2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7881-E018-4DFD-AF7B-932CECE4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DBEB1-E794-4835-8637-EC0C8ECB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67325-B683-454C-BA9D-D1AAA617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03AF9-05E9-4FF0-A931-96D8E35F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8894B-656D-4451-ABDF-186B61A5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12480-04E0-4748-A2F1-CDF7EE58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9A5A1-C4E4-4D0C-9E38-7A378376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12866-1373-48A5-A95C-44F0B582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B471-8D5C-4F9E-8FE4-0AC275BF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89D28-4A66-4800-9AF8-22D252B8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BF002-6985-4397-9939-DF681D60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BB91B-4630-4E38-A876-81CC825B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99810-DBD9-4C16-B51C-85F2442E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7D639-1111-4BA1-AB12-C54E5BB6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7CE4F-73E7-4EDC-9347-10B9A97E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8A532-1F42-458F-8D81-18C95E39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44292-8AB2-4BAE-884B-D291C814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CCBCA-302E-4FFC-9E02-5149058C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E0D79-193B-4B4C-ABC2-542B620A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B89AD-EE1F-4E9F-9E09-C636A4BA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61CFD-189C-4ED3-8DD5-3BB8D480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3F4E4-61B3-45BF-AE0F-29FC6428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E0D2B-9F79-404E-AD94-D27AE68B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70938-EF2C-4C83-BD4A-F5CAADD2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330C7-C7AF-483B-9BDA-6F5B7AC0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AEEBC-FD63-4738-BAFB-221DACE0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FEF08-080E-44AC-ABE0-7769815C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82957-AE35-4D5D-9579-532F4724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7B2F9-BFAD-40F9-807F-CB336F51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F8C26-6FC1-4022-96FD-B9BD254A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7D94A-BEE5-4F12-BB35-6A1ABFA7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BD468-3B8E-407F-83B8-94BBB94B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52E0A-E629-46C2-801B-D3537EB9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95B57-5440-4584-9BF1-7998DEFC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590C2-4650-4300-A5ED-28C831A9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A7074-75A2-40A4-8E9B-3AED580C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AF3F1-E4E3-4262-98C9-44C65DCD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7810B-744B-451C-B916-FED3FAD9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0AE37-BFD5-4944-872F-7D828B78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1C945-C001-4F8D-9055-E5888291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5B0CA-0273-4F5C-90AD-16025CF6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4F119-6A99-43B6-933E-3C22B474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AAE8E-9460-46DD-8B32-16714795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37B3F-BB61-4011-82EA-80C74AF5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840C1-8262-437B-8E1F-23B85E0C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1DBBF-A33B-4F0D-A8D1-3B787190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55F79-1B8D-4A72-B168-C8831A4F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10B02-5093-45D9-8B50-2A3AD2C8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38623-750F-43D4-90F2-6F3AF8C2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AE5A6-B576-417F-87C9-8FB22575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CA586-61E0-4A63-9F90-FC3F3AF6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3227B-D602-469B-AF9B-E134F547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04FF-B114-4397-B288-3737104A1AA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DF1F-3A3C-4CD6-8CB2-333D627D060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FAC0-D5EF-4263-A7B2-6DBE35D347AB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575A-9886-4508-ABEC-73E9779255A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75AD-2CFE-45F0-B3D8-4633227B015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4AB1-5440-4EC6-AE4B-77592B21FF5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32E7-4500-45DE-93D8-7BA02A7DCA1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29D6-9107-42C6-BD4F-24ACA117A5A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A9F1-915A-488B-A491-CE4A69EAF2C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E02E-3AE7-4D36-A03C-BA0FE4A862C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im environment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dumy entity to check whether sim engine is starte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2262240" y="2519280"/>
            <a:ext cx="46195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WaitForEntityCreation” and “WaitForServiceCrea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343080" y="2000160"/>
            <a:ext cx="8458200" cy="3772080"/>
          </a:xfrm>
          <a:prstGeom prst="rect">
            <a:avLst/>
          </a:prstGeom>
          <a:ln w="0">
            <a:noFill/>
          </a:ln>
        </p:spPr>
      </p:pic>
      <p:sp>
        <p:nvSpPr>
          <p:cNvPr id="478" name="자유형 5"/>
          <p:cNvSpPr/>
          <p:nvPr/>
        </p:nvSpPr>
        <p:spPr>
          <a:xfrm>
            <a:off x="2143080" y="4214880"/>
            <a:ext cx="1857600" cy="107136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아래쪽 화살표 6"/>
          <p:cNvSpPr/>
          <p:nvPr/>
        </p:nvSpPr>
        <p:spPr>
          <a:xfrm rot="16200000">
            <a:off x="178560" y="3893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splengin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CreateEntit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2" name="Picture 6" descr=""/>
          <p:cNvPicPr/>
          <p:nvPr/>
        </p:nvPicPr>
        <p:blipFill>
          <a:blip r:embed="rId1"/>
          <a:stretch/>
        </p:blipFill>
        <p:spPr>
          <a:xfrm>
            <a:off x="4000680" y="1571760"/>
            <a:ext cx="4809960" cy="4848120"/>
          </a:xfrm>
          <a:prstGeom prst="rect">
            <a:avLst/>
          </a:prstGeom>
          <a:ln w="0">
            <a:noFill/>
          </a:ln>
        </p:spPr>
      </p:pic>
      <p:sp>
        <p:nvSpPr>
          <p:cNvPr id="483" name="아래쪽 화살표 4"/>
          <p:cNvSpPr/>
          <p:nvPr/>
        </p:nvSpPr>
        <p:spPr>
          <a:xfrm rot="16200000">
            <a:off x="3464640" y="5607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reateEntity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933480" y="1828800"/>
            <a:ext cx="7277040" cy="4743360"/>
          </a:xfrm>
          <a:prstGeom prst="rect">
            <a:avLst/>
          </a:prstGeom>
          <a:ln w="0">
            <a:noFill/>
          </a:ln>
        </p:spPr>
      </p:pic>
      <p:sp>
        <p:nvSpPr>
          <p:cNvPr id="487" name="모서리가 둥근 직사각형 4"/>
          <p:cNvSpPr/>
          <p:nvPr/>
        </p:nvSpPr>
        <p:spPr>
          <a:xfrm>
            <a:off x="642960" y="2714760"/>
            <a:ext cx="8072280" cy="3286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6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4286160" cy="3686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2"/>
          <a:stretch/>
        </p:blipFill>
        <p:spPr>
          <a:xfrm>
            <a:off x="3714840" y="2714760"/>
            <a:ext cx="42861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아래쪽 화살표 5"/>
          <p:cNvSpPr/>
          <p:nvPr/>
        </p:nvSpPr>
        <p:spPr>
          <a:xfrm rot="16200000">
            <a:off x="392760" y="267840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933480" y="1828800"/>
            <a:ext cx="72770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728640" y="2143080"/>
            <a:ext cx="63849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reateEntity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o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ange(1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NewEntit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i) 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Position: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.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\n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BoxShap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Dimensions: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Mass:0.1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plengine1.ExecuteScriptText(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entity_creation.p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entity_creation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cript for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tretch/>
        </p:blipFill>
        <p:spPr>
          <a:xfrm>
            <a:off x="2181240" y="2862360"/>
            <a:ext cx="47815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SPLEngine” comman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1"/>
          <a:stretch/>
        </p:blipFill>
        <p:spPr>
          <a:xfrm>
            <a:off x="685800" y="2147760"/>
            <a:ext cx="8172360" cy="3781440"/>
          </a:xfrm>
          <a:prstGeom prst="rect">
            <a:avLst/>
          </a:prstGeom>
          <a:ln w="0">
            <a:noFill/>
          </a:ln>
        </p:spPr>
      </p:pic>
      <p:sp>
        <p:nvSpPr>
          <p:cNvPr id="468" name="자유형 5"/>
          <p:cNvSpPr/>
          <p:nvPr/>
        </p:nvSpPr>
        <p:spPr>
          <a:xfrm flipV="1">
            <a:off x="1928880" y="3785400"/>
            <a:ext cx="3286080" cy="10717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-19800" y="407196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아래쪽 화살표 7"/>
          <p:cNvSpPr/>
          <p:nvPr/>
        </p:nvSpPr>
        <p:spPr>
          <a:xfrm rot="16200000">
            <a:off x="378720" y="4464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8"/>
          <p:cNvSpPr/>
          <p:nvPr/>
        </p:nvSpPr>
        <p:spPr>
          <a:xfrm rot="1502400">
            <a:off x="3036600" y="2816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30T05:00:48Z</dcterms:modified>
  <cp:revision>983</cp:revision>
  <dc:subject/>
  <dc:title>슬라이드 1</dc:title>
</cp:coreProperties>
</file>