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9C530-45CC-4535-ADBD-5DF2B580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E6984-D4EA-46F9-98A1-4734B080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90810-EA01-4092-A760-0DA64366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9FCD3-39DE-4E99-BCB5-5AF90421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F5090-1317-4381-8AC8-F1F2BE75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06392-D74E-4574-BE33-1F968136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BB2FE-B6A1-49F8-A96E-CA43B299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C1F6A-9DB0-4B9C-9333-1F5EA108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C0FCC-5AAA-47A0-AC12-A31A0AA6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0C04F-941C-4F15-89CB-5DA0E970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1B993-1641-4787-B57B-D0F53B1D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79D8D-11E5-427A-A025-71AF5991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B5DF2-E798-40B5-8B57-A2830219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9FD20-1698-4E34-9D74-0C46320D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E1E31-05DC-42BE-9727-48878270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0E2A5-ED68-428B-8B6E-575EBF9D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2B671-E5CC-4E8C-9E3D-9BA2DC5F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E981F-9618-43FE-A359-5D1B24B9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D9F8A-67D0-4E6F-99E7-87801943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880B5-643D-45AF-A3EF-1B504A5A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CB384-B372-4E28-B9B7-065752F9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04241-CDCB-4329-9138-835BD0FC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B8D27-4B82-4E67-B12B-4C65D464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67A09-03ED-4B91-A85F-90D83438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FDBC2-284A-476E-9A3E-3DE2D351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12890-EB17-4FCD-8D15-5CFAA8AD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17EDB-4655-46D8-8F53-A99F14D0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50DF5-6BAA-4508-AD7C-6D512585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83042-E6F7-4B6D-BCB4-6AA4B5C4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9B4D4-1637-4B59-86AA-F77374B3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9205B-237E-410A-89B9-B72A8ABF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4B632-6988-4A65-9084-E8E87511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D555D-DCC0-4FB4-A35F-59209E40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727-C52E-4EBF-A93C-7CF5EDF1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C3C-7715-4139-A44E-0EF3973C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963-9987-4C71-92BE-26B49556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363-5753-4817-8050-3691B074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801-55CF-4865-B396-C1FB7A6B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CA6-1F19-4778-AB04-24092B24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AF4-185B-4745-9EFB-CA3B7E98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421-54BB-49E9-B52B-60688CA7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120-8CE4-4A4E-8FD1-1FDA0234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1F2-6A26-42FC-938C-C19D43B2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A68-7071-4E4A-BBF4-445F89B5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149-1BE2-4BEE-B5ED-5CAC9124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22B8-7919-4821-B868-733836B6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7460-7008-4A12-84EF-686D7635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72C3-DBE7-4F78-8963-0B6F6D28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D09A-E01F-4D6D-9FA3-DDFED1B1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8BE9-A5D5-44E9-A062-1ED28029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B62A-3A78-48F0-BEA4-080C2AD8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2DF5-F02E-4612-9156-ED333DBB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187D-514B-4DCF-8E70-A73E333B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0198-DA9B-4B89-BB35-3E6EA4B0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A6B3-AAAB-4FBD-ABBE-22636B75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536B-F17E-474D-81C8-8FA52BA2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6CFD-D2D2-417B-A780-52FB151E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0F33B-A31A-4B5B-8D11-3B47F947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3C62-F3BD-4040-AA4A-2AD27DBC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723BE-156F-4139-8467-DCF2E7A0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B4531-CC56-4972-984C-D36D8A00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8105A-B256-475C-B2E0-E7414109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7BB6F-38C9-4C13-B9B5-44481306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CEC83-B9E1-4696-AF30-7132ECDA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CBF49-199A-4066-B455-7C602471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D8A73-9172-41BF-A97A-08517501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46A9E-FBFA-4993-9FF9-4FF21017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01DA1-276A-4817-933E-8386907F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0B6CC-661A-4E0F-B48B-A8BF2C7F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5AE78-9283-47A3-B5F7-8A825AE7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84C07-EBDF-444C-8EA8-5A0BE51D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885E8-D42C-4862-8960-88C518FE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FB03C-8FE8-4A17-B770-23E89FC1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42A36-E1B3-4AE6-91F3-854315B4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7C931-3979-427C-9312-62B7FF69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1C6CF-E771-4C05-8893-9373B145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E70D6-453F-4C52-9CE3-C5426AC3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208BE-5676-476B-82AF-F76C2297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589EB-F77E-4813-803A-89883B91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599A8-7EB6-4426-A19F-89656998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107F2-2E97-4267-BBDC-69BCE2CC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ECC59-49ED-4A3D-9B7D-C035CD42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ED50A-E0C2-4E52-A350-DE998E0A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6C4D2-8299-412E-8924-E585C73E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BCD49-69F7-4DBD-BFBD-03BBF799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669A1-5FF5-47B9-BC8B-62469D9A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EB97C-FC02-4775-8F96-57EAF62F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BB2E7-D825-4854-AFDE-C21D04F1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CFD65-749C-4F3E-81B9-9B1A24C4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30A68-2D18-4A9A-8683-9B3D4F95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BDB45-86D0-4D75-89DB-3540E5ED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1472D-D32E-4EEF-83B4-AB1C0CA3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78288-889A-43A0-AA34-50968B7A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33096-84D3-487D-BDF8-98430965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B4E83-A64D-40A2-9CF9-916D6772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1A1CE-14A1-4DD6-804F-A0C2082B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39873-ECEC-448E-85CB-1CE667B8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4D539-FA24-4122-987F-D0A32043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61A99-957F-4C48-92B7-62FCD548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45632-18AD-474E-9343-E0C8ADF5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8B5EA-6B5E-4A45-9B9A-71E35004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C44B4-B053-4138-B57A-48BDE91B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E4D05-711E-4AA7-9276-5577BEAA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76B9F-A52D-4973-B0FD-7E032AB8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15DE5-E22F-475A-9B5A-4B844D4F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8D7E2-A73B-4AB9-86FF-C54D405B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7B1AA-401E-47CE-82D4-6D11028E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D6994-35D1-4CAC-819F-E15CC62F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A271-615A-417A-AC0F-E5C6D222322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4A2D-3CDB-4CB7-B849-9009D968759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E7FB-8719-43B4-AEB6-936DEE2FA3F1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FD97-1A1F-4BB1-AA8E-81A202A2D43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8434-6E11-4E19-984A-F2D58A27862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F94D-02C7-429B-84D0-45E26569E12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B6B7-2A50-4EDA-9B80-A4B3B321D44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CCD3-3C0C-4A94-904E-87AE8B8FAE8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A077-C857-4415-89F5-F1730258771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7305-F347-4A32-92F0-75C785FCE3E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2428920" y="1738440"/>
            <a:ext cx="4271760" cy="4905360"/>
          </a:xfrm>
          <a:prstGeom prst="rect">
            <a:avLst/>
          </a:prstGeom>
          <a:ln w="0">
            <a:noFill/>
          </a:ln>
        </p:spPr>
      </p:pic>
      <p:sp>
        <p:nvSpPr>
          <p:cNvPr id="474" name="아래쪽 화살표 4"/>
          <p:cNvSpPr/>
          <p:nvPr/>
        </p:nvSpPr>
        <p:spPr>
          <a:xfrm rot="16200000">
            <a:off x="1750320" y="6179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LRFEventReac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4714920" y="1143000"/>
            <a:ext cx="36972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EventReaction(lrf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0" name="Picture 5" descr=""/>
          <p:cNvPicPr/>
          <p:nvPr/>
        </p:nvPicPr>
        <p:blipFill>
          <a:blip r:embed="rId1"/>
          <a:stretch/>
        </p:blipFill>
        <p:spPr>
          <a:xfrm>
            <a:off x="3929040" y="1000080"/>
            <a:ext cx="4210200" cy="5695920"/>
          </a:xfrm>
          <a:prstGeom prst="rect">
            <a:avLst/>
          </a:prstGeom>
          <a:ln w="0">
            <a:noFill/>
          </a:ln>
        </p:spPr>
      </p:pic>
      <p:sp>
        <p:nvSpPr>
          <p:cNvPr id="481" name="모서리가 둥근 직사각형 4"/>
          <p:cNvSpPr/>
          <p:nvPr/>
        </p:nvSpPr>
        <p:spPr>
          <a:xfrm>
            <a:off x="2714760" y="1928880"/>
            <a:ext cx="6072120" cy="4143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1"/>
          <a:stretch/>
        </p:blipFill>
        <p:spPr>
          <a:xfrm>
            <a:off x="2428920" y="1957320"/>
            <a:ext cx="42861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2357280" y="185724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2357280" y="181440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929040" y="1000080"/>
            <a:ext cx="4210200" cy="569592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3393360" y="2321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2238480" y="1803240"/>
            <a:ext cx="47527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EventReaction(lrf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globa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18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00) a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lrf_reaction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lrf_reaction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6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638600" cy="4390920"/>
          </a:xfrm>
          <a:prstGeom prst="rect">
            <a:avLst/>
          </a:prstGeom>
          <a:ln w="0">
            <a:noFill/>
          </a:ln>
        </p:spPr>
      </p:pic>
      <p:sp>
        <p:nvSpPr>
          <p:cNvPr id="465" name="아래쪽 화살표 5"/>
          <p:cNvSpPr/>
          <p:nvPr/>
        </p:nvSpPr>
        <p:spPr>
          <a:xfrm rot="16200000">
            <a:off x="1892880" y="560772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아래쪽 화살표 6"/>
          <p:cNvSpPr/>
          <p:nvPr/>
        </p:nvSpPr>
        <p:spPr>
          <a:xfrm rot="5400000">
            <a:off x="6036480" y="4679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8" descr=""/>
          <p:cNvPicPr/>
          <p:nvPr/>
        </p:nvPicPr>
        <p:blipFill>
          <a:blip r:embed="rId1"/>
          <a:stretch/>
        </p:blipFill>
        <p:spPr>
          <a:xfrm>
            <a:off x="2286000" y="1643040"/>
            <a:ext cx="4714920" cy="4905360"/>
          </a:xfrm>
          <a:prstGeom prst="rect">
            <a:avLst/>
          </a:prstGeom>
          <a:ln w="0">
            <a:noFill/>
          </a:ln>
        </p:spPr>
      </p:pic>
      <p:sp>
        <p:nvSpPr>
          <p:cNvPr id="470" name="아래쪽 화살표 8"/>
          <p:cNvSpPr/>
          <p:nvPr/>
        </p:nvSpPr>
        <p:spPr>
          <a:xfrm rot="16200000">
            <a:off x="1678680" y="6036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7:14Z</dcterms:modified>
  <cp:revision>953</cp:revision>
  <dc:subject/>
  <dc:title>슬라이드 1</dc:title>
</cp:coreProperties>
</file>