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5CA3-1489-49A7-B0EA-01C77FAD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B967-864E-4B07-8593-FC34C95B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9269-E736-4CC6-94D6-C993D5A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E129-7B84-4BCE-81CE-B1F4D78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490B-21C2-4DEA-9E91-AD221B7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8E55-52B8-46E7-B202-B3DEF01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02BD-4C79-4A62-A375-75CB8230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92E2-2CE4-4638-B6C4-1A83A547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09C6-97B1-441C-89CF-0BB8970C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98A2-8EA2-4577-8518-DEB8B0B1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6328F-F023-4508-804E-BE94724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B237F-CB9C-4CD1-8949-162DF42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D0DA-6562-4954-AF50-1670275D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BEEC5-6361-4115-BEF5-8894C7D1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C8943-4B4A-48B8-ACBE-375C85A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EBCA-FDC5-46C1-BDDF-620C0B8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7FC16-6E31-46D1-86E1-AF867D7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73E16-0819-40FC-88C1-BF779E8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736C5-2A1D-4839-877B-33C7C016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2CEBA-72DE-430A-8003-A209A97A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94E3-CF49-4732-8098-7C4A304C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A5962-4FCA-4406-A585-D5A31561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F7719-2216-448D-9C4A-2369AFE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371F4-970B-4A96-BCBD-007AB04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9B36B-CC93-4BF9-A369-889E9ED3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9F983-7908-493C-81DD-1A913A3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02A97-BCA7-45C2-B538-C8BD3A7C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7C517-3F4E-474D-A48F-3BE6FA4F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4B02-E1B1-45B3-A21A-764A120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73A8B-880C-4CD8-8EA9-D755880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0AEB8-BE4E-498E-B956-C290DEA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06BC6-7CE1-4367-B666-88039999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25F23-CE9F-466E-ACA7-689D49EB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6DD-41EA-4FFF-B830-1FF780E7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758-0AF3-4717-80EE-5492885E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073-B029-49BE-A6CB-6510AA05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D02-147A-437C-B272-F30C1F78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03E-3DD5-4955-A14C-287A3AF1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DAC-0C16-49B0-B729-1F993D42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1E0-83A2-4376-A859-2A1740D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88C-1646-4843-9BE4-B4A79430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20E-4115-4937-AEFD-3A0CAE0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659-ACDF-4879-8166-DD7C3972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ECA-52C6-4DC9-BB76-9C204E90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56E-BFB6-412B-B068-FC807A0F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AB69-4AAE-4932-AB14-983E7273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9B78-E0D3-4DD2-AE1E-104BA503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075E-3DB6-47D6-BBF0-DFD7F1EA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06A6-A4CC-4BAE-844F-D59312B5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9E05-C8E2-465F-8434-A06A83F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5F5C-E215-41A5-8659-29E34109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E6BF-66A4-4BB7-B659-B388E3B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D943-9323-4BE9-9A71-8661A4B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5514-45A2-46F4-B65E-E70E9A25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0ECB-1DBF-4CE1-9414-DFD49020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6D65-EC00-4D24-89A6-32ED3589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2FE7-4A4D-4883-87C2-C28E1AF2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3572-8139-486D-A6A1-922A38BE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4975-4647-4AA1-A2B7-D428E06C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4F2B-9A39-4578-B98D-31E8FAFE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EBA4-E87F-4A40-80DC-5738708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E030-C527-4F06-B731-1A4FDA0C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F9D1-DE22-4220-A63A-E5A7908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8874-AE9F-4C72-AEF2-99CD4C9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68C5-5166-46E5-9488-209E8D3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55E9-706A-4E80-8F92-A7B85DB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E24E-F361-4466-BB2F-78CB03DE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497D-7AA5-4111-BF75-B6276A9C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E581-3BD3-4969-B970-617B6DD4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1B6C-F527-43EF-86F6-EE8729F9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431E-E21C-40BB-A5C4-E580EEBC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DC680-D29B-43A9-9CAE-5380F88C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A5A1-0EB2-4C8C-A016-99D03165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F02E-15CA-4C70-A6D8-55B68485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CAB1-14DB-409F-9A26-FA1B27F2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EC9B-0F03-492B-9172-F37D25E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B96A9-9C34-44B0-9028-CDC54E3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5529-EEE5-4159-B264-F27AF85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8EC6-E234-46E4-92CE-97AF2B7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ADB0-24B5-4ECA-AD72-357FCAD3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8FB5-9912-4D9C-B9B6-E7C99044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DB64-8551-4512-BA88-2551A1E8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9B4C3-6EAA-46CF-8CE6-891A4B78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FB09-C7F4-4D1A-AB2C-EF78B05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841A-A19F-4BE8-955F-C1BF61A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9125-A54E-4A07-9560-5CCB315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ACE7-157E-49A3-B906-E827100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435A-930B-4D75-AA3B-96AE9B5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A777-E784-4ECF-9FA2-7DA0099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C596-3E37-424B-8B48-AAFB18A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C50EF-3015-44A2-BAFE-F2644B9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C68E-8609-478D-88B0-21064C51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77824-9BE5-4130-8CF0-7C249220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ADE85-C46B-4708-968F-2A5ECA6E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2BF2-47C0-44F0-975B-1614F27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913B-4ADD-43C4-839D-602FD87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A6C5-9ABA-4FA4-A06C-F46C585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34D0-557F-4748-BC60-9827AA97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9BC43-B233-4FA0-B0C4-1EB9408D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CFB1-CCDE-4231-84FF-F02C0F1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A0BD-0708-4255-BA18-E18B8359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9440-7C82-4F22-8CB9-96A59C4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AC90-E807-4674-8CF6-EA8D50D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DE49C-3430-478A-94CA-A616C2C8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1E2D-C471-4744-8387-34FC1951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9316B-D7A8-4992-8104-ECC9A851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82CA-B1A0-46FF-BCE8-1F64DBB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7A9C2-9417-4E5B-B63C-7E67386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0E9-054D-4832-8174-538C303ADFB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4494-777C-4D0B-A2B7-C0D8D79B90D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554-66AF-4A17-9777-74B854A038F0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B53-F1C3-441B-813D-61780385BB4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4B6-537B-4C2F-BC23-2F42DD02E10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673E-4D1D-4A27-B477-5ECE682C9C4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CEBA-A76D-41F7-97A0-1005B24C13D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62E2-4FD0-4D5D-8A4F-76ABD3EA676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CAF-0D05-4320-8AA9-32F006CD0B7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5033-C7C6-48B3-8EB9-97B991847D5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 with 0.3 and 0.3 pow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3935520" cy="4929120"/>
          </a:xfrm>
          <a:prstGeom prst="rect">
            <a:avLst/>
          </a:prstGeom>
          <a:ln w="0">
            <a:noFill/>
          </a:ln>
        </p:spPr>
      </p:pic>
      <p:sp>
        <p:nvSpPr>
          <p:cNvPr id="476" name="아래쪽 화살표 8"/>
          <p:cNvSpPr/>
          <p:nvPr/>
        </p:nvSpPr>
        <p:spPr>
          <a:xfrm rot="16200000">
            <a:off x="2107440" y="6107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and “lrf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heckLRF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530520" cy="5362560"/>
          </a:xfrm>
          <a:prstGeom prst="rect">
            <a:avLst/>
          </a:prstGeom>
          <a:ln w="0">
            <a:noFill/>
          </a:ln>
        </p:spPr>
      </p:pic>
      <p:sp>
        <p:nvSpPr>
          <p:cNvPr id="480" name="아래쪽 화살표 7"/>
          <p:cNvSpPr/>
          <p:nvPr/>
        </p:nvSpPr>
        <p:spPr>
          <a:xfrm rot="16200000">
            <a:off x="410760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LRF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1500120" y="2643120"/>
            <a:ext cx="6072120" cy="185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lrf sensor even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ptions of LRF Sen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493" name="아래쪽 화살표 4"/>
          <p:cNvSpPr/>
          <p:nvPr/>
        </p:nvSpPr>
        <p:spPr>
          <a:xfrm rot="5400000">
            <a:off x="5536440" y="296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아래쪽 화살표 5"/>
          <p:cNvSpPr/>
          <p:nvPr/>
        </p:nvSpPr>
        <p:spPr>
          <a:xfrm rot="5400000">
            <a:off x="6036480" y="496476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ild sim environment and basic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/Procedure_SensorNotify:proc1” op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05160" y="2205000"/>
            <a:ext cx="4333680" cy="4438800"/>
          </a:xfrm>
          <a:prstGeom prst="rect">
            <a:avLst/>
          </a:prstGeom>
          <a:ln w="0">
            <a:noFill/>
          </a:ln>
        </p:spPr>
      </p:pic>
      <p:sp>
        <p:nvSpPr>
          <p:cNvPr id="498" name="아래쪽 화살표 4"/>
          <p:cNvSpPr/>
          <p:nvPr/>
        </p:nvSpPr>
        <p:spPr>
          <a:xfrm rot="16200000">
            <a:off x="1892880" y="61794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아래쪽 화살표 5"/>
          <p:cNvSpPr/>
          <p:nvPr/>
        </p:nvSpPr>
        <p:spPr>
          <a:xfrm rot="5400000">
            <a:off x="6179400" y="5179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 and 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952800" cy="4943160"/>
          </a:xfrm>
          <a:prstGeom prst="rect">
            <a:avLst/>
          </a:prstGeom>
          <a:ln w="0">
            <a:noFill/>
          </a:ln>
        </p:spPr>
      </p:pic>
      <p:sp>
        <p:nvSpPr>
          <p:cNvPr id="503" name="아래쪽 화살표 4"/>
          <p:cNvSpPr/>
          <p:nvPr/>
        </p:nvSpPr>
        <p:spPr>
          <a:xfrm rot="16200000">
            <a:off x="1892880" y="575064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아래쪽 화살표 5"/>
          <p:cNvSpPr/>
          <p:nvPr/>
        </p:nvSpPr>
        <p:spPr>
          <a:xfrm rot="16200000">
            <a:off x="1893240" y="610776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” with event val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544920" cy="5514840"/>
          </a:xfrm>
          <a:prstGeom prst="rect">
            <a:avLst/>
          </a:prstGeom>
          <a:ln w="0">
            <a:noFill/>
          </a:ln>
        </p:spPr>
      </p:pic>
      <p:sp>
        <p:nvSpPr>
          <p:cNvPr id="508" name="아래쪽 화살표 4"/>
          <p:cNvSpPr/>
          <p:nvPr/>
        </p:nvSpPr>
        <p:spPr>
          <a:xfrm rot="16200000">
            <a:off x="482184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512" name="모서리가 둥근 직사각형 4"/>
          <p:cNvSpPr/>
          <p:nvPr/>
        </p:nvSpPr>
        <p:spPr>
          <a:xfrm>
            <a:off x="1285920" y="4572000"/>
            <a:ext cx="614376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2821680" y="2535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282168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176560" y="1928880"/>
            <a:ext cx="5961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heckLRF(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Check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1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LRFEvent(lrf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robot_lrf.py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while loop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343240" y="1990800"/>
            <a:ext cx="4457520" cy="372420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821600" y="4250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609480" y="1643040"/>
            <a:ext cx="7925040" cy="4915080"/>
          </a:xfrm>
          <a:prstGeom prst="rect">
            <a:avLst/>
          </a:prstGeom>
          <a:ln w="0">
            <a:noFill/>
          </a:ln>
        </p:spPr>
      </p:pic>
      <p:sp>
        <p:nvSpPr>
          <p:cNvPr id="470" name="자유형 5"/>
          <p:cNvSpPr/>
          <p:nvPr/>
        </p:nvSpPr>
        <p:spPr>
          <a:xfrm>
            <a:off x="2643120" y="3857760"/>
            <a:ext cx="1643040" cy="17859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 rot="16200000">
            <a:off x="46440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아래쪽 화살표 7"/>
          <p:cNvSpPr/>
          <p:nvPr/>
        </p:nvSpPr>
        <p:spPr>
          <a:xfrm rot="1502400">
            <a:off x="2479320" y="2101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53Z</dcterms:modified>
  <cp:revision>947</cp:revision>
  <dc:subject/>
  <dc:title>슬라이드 1</dc:title>
</cp:coreProperties>
</file>