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8C86C-DAC8-4CBE-B5C3-9A21874A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C7E2-4D39-4721-A039-CA433AA5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BA5F-B654-4F99-BFE2-D136CE78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152BD-4A67-484D-AF9D-17A08D5C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C6F15-7EAC-4600-92D9-0BAA0E21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05C70-BC29-48AC-A210-82E439C2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6FD70-16D2-4E65-9CA7-C7096D7C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97B33-CBD3-4417-9E47-35EC5539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76532-B02B-407A-A6EC-1E92970C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B7927-B6E1-4337-9574-4C03C744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596ED-D1BA-4ADA-B318-D6DB4471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F99A1-648C-4DB8-9DE6-BBAD953D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D6486-84ED-46D7-A4F2-64EC3662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951A2-19B5-406C-B581-9B5BCAB1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876E0-B86B-4310-AEBB-252C6040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ABAE-6A88-4B27-8CFB-0AD3B0CC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D7274-3C20-4F4D-96A1-C1C6CCF1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B55E8-0F1E-470A-B3AD-820D5F1E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99E79-DB7A-4629-8DA9-C3E943FB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9AAB7-6664-45CD-8498-67C8C959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33D35-F2A0-4262-B0EC-82E7820E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628A0-46E8-4D0C-8798-07E22DAA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B4C0D-6D84-44F3-8A40-23C0022C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1DBA7-E6A0-4396-A774-3A65F7FB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0F099-D087-4C58-BA27-0CA6AA32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C2FC0-3CF2-496A-A02B-F6E8941F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CAABA-2621-408C-81C3-B4E94184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35064-D2C1-4DD0-B2D2-4F78D017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9E8E0-62D3-4F0B-B1DF-C198CB0F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591AD-E887-4260-A284-5E0C9845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E8553-D416-4532-AC56-B1658425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C4D3F-4317-49B3-B3FC-92C80D92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9F5E6-25DA-4385-8A0C-901675E1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84E-9B4A-4162-9CC1-41774085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643-9C19-4DA6-ADFD-587834C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26B-8244-44B6-8276-7B7AD43C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128-BFA0-4A41-8FD0-95C552F8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203-EBE0-4F40-A21D-A16CB201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032-2BC4-436A-B9E2-48FC0DE1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13C-89FC-4945-9D1E-C1F6B9E0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121-C973-4C3C-9C55-1BCACDE5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911-0B8F-4CFD-88E0-030B696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97C-3AEC-484E-AAFD-61D6036C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956-EA13-4A80-A555-6ABC7134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889-2323-41CE-9A69-905636B5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B164-718C-4E88-8D12-0923AB43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3292-9D6C-4D7C-B2DE-4C4D7710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7472-9B6C-4FAE-804B-E5DE1C77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C4CE-ED57-40A2-B716-405646C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8F97-602B-4871-9DCA-67ADA3C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7ABE-2FD7-4C63-ADEA-4F26374B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12FA-046E-4E5C-8EC0-55358160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1B4B-6928-4D3A-BECB-125E315D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0C72-63D7-49C1-8BC5-2C60F0F6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6351-25B8-492B-9AC4-A70C71CC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EF20-E1B4-4660-BD0C-D56EE572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E3FD-1B27-4F8B-A83C-C36E679C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0F02-D067-49C0-84F7-65B3024F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1964-2577-49B3-AD7F-636459C0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9891-3533-4E38-A899-A1F5EBA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98D6-988E-4A9A-8C17-D2175B6F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06800-03AC-488F-84A0-2905CF3A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C1FD-D1BF-4862-918B-50E115C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A8C1-E7C7-4C2C-952F-72780FB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34E7-5A32-4CB9-9B72-0477E1B1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CA676-414D-4104-913B-CDBA065D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F69E-8565-40D3-9B59-F0850132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C346D-0237-4366-9E52-FD701C6D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986D-E36D-48F7-8A20-8AE2F6EB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BB1A-76EC-4838-A757-CCFD52F4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E8F7E-951E-48E6-9BD9-4BD7EBAE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48E0-C687-460D-ACB2-5E7E9F86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45279-0913-42E9-B809-880D72C3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8F3CA-48FE-4F2E-B3D6-5D83CD5F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5423-36F2-4A41-B261-84737F34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71D22-DE9D-4D8F-A8FF-807F020E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035A0-13E8-4BED-B8E0-90B6B5D2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65BF3-3809-4509-B464-D606C829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B0806-F36D-4607-A84D-06B33FA9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02EA-9589-46A6-A72E-B9E852EE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3499C-5393-4105-AA16-CC722DAA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10FCD-75B4-4D3A-8F50-074C28FA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77A32-1539-4893-B2E2-1C418B26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85FBE-CEB4-453C-9F69-47FD6C6F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8AB0-C869-4308-B60B-4A6681C8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C57DA-5CF4-4B40-A563-383A2D1C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A79C6-9535-4B10-AAA1-51BFBE16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F6706-903B-4A3E-8C8A-8B159475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9E833-36EF-4E17-8895-BCA25D5F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22B16-ABB7-4703-BA34-BCCFDC2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BB589-F632-42AB-93B6-883158D1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35421-C382-457E-84C1-733CE66F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24A9C-8664-44B4-A250-AF2B9B09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42487-BC83-43E8-BE6B-424BF15E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D389-58A9-4E9A-9A29-F04FC338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B043B-9FFE-443D-A724-C8178E50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04C54-AA14-4B10-9459-65C5FE4E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1746-501B-4916-9A9F-2A566F39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A356C-C4C5-4474-BAA5-523169D8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5D774-08B7-44DE-ACEF-C370C96E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1B0FF-1B29-4A68-8369-E77C1DED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29A6B-DF80-4C74-9DEF-623E3A75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23638-EC54-4CEC-B63D-B5A5F679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385ED-AD46-4202-9DDE-8C330A71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71099-D79A-490F-9E89-F0D08D60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5C884-36AE-4468-8013-0FEABEE5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1AECC-550B-43B1-BF7D-0AEA8740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0B7FB-4BAF-414B-9EDE-400794CD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2BCC-81C2-494F-9D96-1A5551EFF82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E13D-E009-4B9B-B200-9CC858ACD05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5468-64E0-4184-BBFB-9B04C2B56A78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52D0-B5F2-4B3C-9477-5629B5D1829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BA13-8526-45B5-AD40-C2BC9BDC28A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3E83-EEBC-47C2-9B14-B6A8E1FD890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B41D-B890-485A-AA2A-D86A8CD36BA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8CEC-953B-44CB-A3CF-9788F7F4D4A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6AEF-357B-44C9-9CE9-FE6B8A3E103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C3FD-13B2-4887-89B3-3E551640030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Interface Programming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add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efine Python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243080" y="1928880"/>
            <a:ext cx="6657840" cy="3571920"/>
          </a:xfrm>
          <a:prstGeom prst="rect">
            <a:avLst/>
          </a:prstGeom>
          <a:ln w="0">
            <a:noFill/>
          </a:ln>
        </p:spPr>
      </p:pic>
      <p:sp>
        <p:nvSpPr>
          <p:cNvPr id="482" name="자유형 4"/>
          <p:cNvSpPr/>
          <p:nvPr/>
        </p:nvSpPr>
        <p:spPr>
          <a:xfrm flipV="1">
            <a:off x="2286000" y="2642760"/>
            <a:ext cx="3643200" cy="22860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423360" y="421488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아래쪽 화살표 6"/>
          <p:cNvSpPr/>
          <p:nvPr/>
        </p:nvSpPr>
        <p:spPr>
          <a:xfrm rot="16200000">
            <a:off x="103572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아래쪽 화살표 7"/>
          <p:cNvSpPr/>
          <p:nvPr/>
        </p:nvSpPr>
        <p:spPr>
          <a:xfrm rot="1502400">
            <a:off x="4265280" y="2173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LoadFile” method to load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676440" y="1900080"/>
            <a:ext cx="7791120" cy="4743720"/>
          </a:xfrm>
          <a:prstGeom prst="rect">
            <a:avLst/>
          </a:prstGeom>
          <a:ln w="0">
            <a:noFill/>
          </a:ln>
        </p:spPr>
      </p:pic>
      <p:sp>
        <p:nvSpPr>
          <p:cNvPr id="489" name="자유형 4"/>
          <p:cNvSpPr/>
          <p:nvPr/>
        </p:nvSpPr>
        <p:spPr>
          <a:xfrm flipV="1">
            <a:off x="3071880" y="3286080"/>
            <a:ext cx="2500200" cy="19288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아래쪽 화살표 6"/>
          <p:cNvSpPr/>
          <p:nvPr/>
        </p:nvSpPr>
        <p:spPr>
          <a:xfrm rot="16200000">
            <a:off x="678600" y="4821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Execute” method to execute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690480" y="1809720"/>
            <a:ext cx="7763040" cy="4762440"/>
          </a:xfrm>
          <a:prstGeom prst="rect">
            <a:avLst/>
          </a:prstGeom>
          <a:ln w="0">
            <a:noFill/>
          </a:ln>
        </p:spPr>
      </p:pic>
      <p:sp>
        <p:nvSpPr>
          <p:cNvPr id="494" name="자유형 4"/>
          <p:cNvSpPr/>
          <p:nvPr/>
        </p:nvSpPr>
        <p:spPr>
          <a:xfrm flipV="1">
            <a:off x="2347920" y="3429000"/>
            <a:ext cx="3081240" cy="18763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아래쪽 화살표 5"/>
          <p:cNvSpPr/>
          <p:nvPr/>
        </p:nvSpPr>
        <p:spPr>
          <a:xfrm rot="16200000">
            <a:off x="821520" y="4964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99" name="아래쪽 화살표 4"/>
          <p:cNvSpPr/>
          <p:nvPr/>
        </p:nvSpPr>
        <p:spPr>
          <a:xfrm rot="16200000">
            <a:off x="821520" y="5464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” method with procedure name as follow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681120" y="2038320"/>
            <a:ext cx="7781760" cy="3533760"/>
          </a:xfrm>
          <a:prstGeom prst="rect">
            <a:avLst/>
          </a:prstGeom>
          <a:ln w="0">
            <a:noFill/>
          </a:ln>
        </p:spPr>
      </p:pic>
      <p:sp>
        <p:nvSpPr>
          <p:cNvPr id="504" name="자유형 4"/>
          <p:cNvSpPr/>
          <p:nvPr/>
        </p:nvSpPr>
        <p:spPr>
          <a:xfrm flipV="1">
            <a:off x="2786040" y="4143240"/>
            <a:ext cx="2928960" cy="5191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아래쪽 화살표 5"/>
          <p:cNvSpPr/>
          <p:nvPr/>
        </p:nvSpPr>
        <p:spPr>
          <a:xfrm rot="16200000">
            <a:off x="89280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1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모서리가 둥근 직사각형 4"/>
          <p:cNvSpPr/>
          <p:nvPr/>
        </p:nvSpPr>
        <p:spPr>
          <a:xfrm>
            <a:off x="2071800" y="3286080"/>
            <a:ext cx="450036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13" name="아래쪽 화살표 4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(name, p1, p2)” method to call “Add” fun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700200" y="1952640"/>
            <a:ext cx="7743600" cy="3619440"/>
          </a:xfrm>
          <a:prstGeom prst="rect">
            <a:avLst/>
          </a:prstGeom>
          <a:ln w="0">
            <a:noFill/>
          </a:ln>
        </p:spPr>
      </p:pic>
      <p:sp>
        <p:nvSpPr>
          <p:cNvPr id="518" name="자유형 4"/>
          <p:cNvSpPr/>
          <p:nvPr/>
        </p:nvSpPr>
        <p:spPr>
          <a:xfrm flipV="1">
            <a:off x="4071960" y="4071960"/>
            <a:ext cx="8571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아래쪽 화살표 5"/>
          <p:cNvSpPr/>
          <p:nvPr/>
        </p:nvSpPr>
        <p:spPr>
          <a:xfrm rot="16200000">
            <a:off x="82152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(a,b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모서리가 둥근 직사각형 4"/>
          <p:cNvSpPr/>
          <p:nvPr/>
        </p:nvSpPr>
        <p:spPr>
          <a:xfrm>
            <a:off x="2071800" y="235728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  <p:sp>
        <p:nvSpPr>
          <p:cNvPr id="527" name="아래쪽 화살표 4"/>
          <p:cNvSpPr/>
          <p:nvPr/>
        </p:nvSpPr>
        <p:spPr>
          <a:xfrm rot="16200000">
            <a:off x="821520" y="4893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GetVariable(name)” metho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738360" y="1962000"/>
            <a:ext cx="7667280" cy="3610080"/>
          </a:xfrm>
          <a:prstGeom prst="rect">
            <a:avLst/>
          </a:prstGeom>
          <a:ln w="0">
            <a:noFill/>
          </a:ln>
        </p:spPr>
      </p:pic>
      <p:sp>
        <p:nvSpPr>
          <p:cNvPr id="532" name="자유형 4"/>
          <p:cNvSpPr/>
          <p:nvPr/>
        </p:nvSpPr>
        <p:spPr>
          <a:xfrm flipV="1">
            <a:off x="3214800" y="3929040"/>
            <a:ext cx="185724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아래쪽 화살표 5"/>
          <p:cNvSpPr/>
          <p:nvPr/>
        </p:nvSpPr>
        <p:spPr>
          <a:xfrm rot="16200000">
            <a:off x="892800" y="4107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ariab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모서리가 둥근 직사각형 4"/>
          <p:cNvSpPr/>
          <p:nvPr/>
        </p:nvSpPr>
        <p:spPr>
          <a:xfrm>
            <a:off x="2071800" y="5929200"/>
            <a:ext cx="4500360" cy="71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41" name="아래쪽 화살표 4"/>
          <p:cNvSpPr/>
          <p:nvPr/>
        </p:nvSpPr>
        <p:spPr>
          <a:xfrm rot="16200000">
            <a:off x="821520" y="5250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Setvariable(name, value)” method to bind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85800" y="186696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546" name="자유형 4"/>
          <p:cNvSpPr/>
          <p:nvPr/>
        </p:nvSpPr>
        <p:spPr>
          <a:xfrm flipV="1">
            <a:off x="3857760" y="4857840"/>
            <a:ext cx="107136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아래쪽 화살표 5"/>
          <p:cNvSpPr/>
          <p:nvPr/>
        </p:nvSpPr>
        <p:spPr>
          <a:xfrm rot="16200000">
            <a:off x="82152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2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1" name="모서리가 둥근 직사각형 4"/>
          <p:cNvSpPr/>
          <p:nvPr/>
        </p:nvSpPr>
        <p:spPr>
          <a:xfrm>
            <a:off x="2071800" y="378612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55" name="아래쪽 화살표 4"/>
          <p:cNvSpPr/>
          <p:nvPr/>
        </p:nvSpPr>
        <p:spPr>
          <a:xfrm rot="16200000">
            <a:off x="89280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MessagePort” instanc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8286480" cy="4057920"/>
          </a:xfrm>
          <a:prstGeom prst="rect">
            <a:avLst/>
          </a:prstGeom>
          <a:ln w="0">
            <a:noFill/>
          </a:ln>
        </p:spPr>
      </p:pic>
      <p:sp>
        <p:nvSpPr>
          <p:cNvPr id="560" name="자유형 4"/>
          <p:cNvSpPr/>
          <p:nvPr/>
        </p:nvSpPr>
        <p:spPr>
          <a:xfrm flipV="1">
            <a:off x="1928880" y="4357440"/>
            <a:ext cx="5929200" cy="15192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NotufyEventToSPL” procedur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428760" y="1924200"/>
            <a:ext cx="8286480" cy="4076640"/>
          </a:xfrm>
          <a:prstGeom prst="rect">
            <a:avLst/>
          </a:prstGeom>
          <a:ln w="0">
            <a:noFill/>
          </a:ln>
        </p:spPr>
      </p:pic>
      <p:sp>
        <p:nvSpPr>
          <p:cNvPr id="565" name="자유형 4"/>
          <p:cNvSpPr/>
          <p:nvPr/>
        </p:nvSpPr>
        <p:spPr>
          <a:xfrm flipV="1">
            <a:off x="2571840" y="4500720"/>
            <a:ext cx="2286000" cy="2332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아래쪽 화살표 5"/>
          <p:cNvSpPr/>
          <p:nvPr/>
        </p:nvSpPr>
        <p:spPr>
          <a:xfrm rot="16200000">
            <a:off x="535680" y="4393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EventToSPL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0" name="모서리가 둥근 직사각형 4"/>
          <p:cNvSpPr/>
          <p:nvPr/>
        </p:nvSpPr>
        <p:spPr>
          <a:xfrm>
            <a:off x="2071800" y="4714920"/>
            <a:ext cx="5286240" cy="1214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procedure template for the MessagePortHandl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447840" y="1862280"/>
            <a:ext cx="8248320" cy="4066920"/>
          </a:xfrm>
          <a:prstGeom prst="rect">
            <a:avLst/>
          </a:prstGeom>
          <a:ln w="0">
            <a:noFill/>
          </a:ln>
        </p:spPr>
      </p:pic>
      <p:sp>
        <p:nvSpPr>
          <p:cNvPr id="574" name="자유형 4"/>
          <p:cNvSpPr/>
          <p:nvPr/>
        </p:nvSpPr>
        <p:spPr>
          <a:xfrm flipV="1">
            <a:off x="2286000" y="5000760"/>
            <a:ext cx="27147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under “Expression” tab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1"/>
          <a:stretch/>
        </p:blipFill>
        <p:spPr>
          <a:xfrm>
            <a:off x="2214720" y="1928880"/>
            <a:ext cx="4695840" cy="4095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5" name="아래쪽 화살표 4"/>
          <p:cNvSpPr/>
          <p:nvPr/>
        </p:nvSpPr>
        <p:spPr>
          <a:xfrm rot="8464800">
            <a:off x="5456160" y="23760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196452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tart SPL.exe and typ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078600" cy="4786200"/>
          </a:xfrm>
          <a:prstGeom prst="rect">
            <a:avLst/>
          </a:prstGeom>
          <a:ln w="0">
            <a:noFill/>
          </a:ln>
        </p:spPr>
      </p:pic>
      <p:sp>
        <p:nvSpPr>
          <p:cNvPr id="461" name="아래쪽 화살표 4"/>
          <p:cNvSpPr/>
          <p:nvPr/>
        </p:nvSpPr>
        <p:spPr>
          <a:xfrm rot="5400000">
            <a:off x="582228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아래쪽 화살표 5"/>
          <p:cNvSpPr/>
          <p:nvPr/>
        </p:nvSpPr>
        <p:spPr>
          <a:xfrm rot="5400000">
            <a:off x="6822360" y="3321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아래쪽 화살표 6"/>
          <p:cNvSpPr/>
          <p:nvPr/>
        </p:nvSpPr>
        <p:spPr>
          <a:xfrm rot="5400000">
            <a:off x="696528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 rot="5400000">
            <a:off x="596484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1896120" y="1785960"/>
            <a:ext cx="54504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(a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unction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retur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1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without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arameter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2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using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variables"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NotifyEventToSPL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'NotifyEventToSPL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essagePort.Post("Cou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sg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ytho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tr(cnt)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HelloApps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ss “F5” key or click “Run” ic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285920" y="1947960"/>
            <a:ext cx="6324480" cy="36957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2628000">
            <a:off x="3039840" y="16333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821520" y="5393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5:55Z</dcterms:modified>
  <cp:revision>915</cp:revision>
  <dc:subject/>
  <dc:title>슬라이드 1</dc:title>
</cp:coreProperties>
</file>