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4093E8-AB3C-468F-9B96-0B9E2835C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422886-4A21-445A-B446-FC76FC7E0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28D92F-A56B-4937-8339-5658BF620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A9B24A-F732-4380-B5EB-9E84239B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7AE10E-28F6-4DD6-9460-3C5FC8E67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4D2042-89D5-482D-AD60-1DE06B56C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9255B6-B69F-4452-8436-88BFA970E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81379C-58D3-412B-8745-DC4910918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BFF141-A364-41C9-B710-13EB3F9EF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A30E1E-95E3-43FD-AB17-ED06617CD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A85DC0-9CD2-4F79-888B-6F1E4B98C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B8B84D-637D-4F6F-98E0-844EE9B93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1992DE-33B6-424A-B026-69B3AA4CA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EA7625-6A91-4656-9513-157D1A000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AA8A17-1FDA-49C0-89B5-CC8FC2029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04EC13-6D2F-449A-85D5-81AC775EF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4D1ED6-0880-4465-8A40-29A9C36DB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D45303-A8D7-47CB-8E59-2DB36120F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41CDD3-F932-4E24-8E0D-8E59852B1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902039-5F0A-4C72-9AA2-DCC5ED220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8BBFF1-CECD-42A6-9513-4489BB754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12866A-FCF1-4A33-BF96-0E980B90E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B770D8-BD78-4B64-B3EB-5A4CAC634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8FF24F-E959-4386-B99E-68061A4C7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8AB728-637E-4D18-A8C2-FB4844F98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970A21-FDC6-4AB6-9C14-20AAC45F7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828EDE-DFDB-43BD-9A5B-ACFD8CE9D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F58858-8227-4EC3-9CDF-629C83D9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605153-725A-4885-B12A-44704AFFF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FD7734-9FDF-415B-8C45-725C338B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9D0E66-6386-4FBE-9A23-867CDD17A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2C2465-8015-430D-A41B-9032F34AF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D390E2-A5B6-4346-8F5E-A1A262C24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D3EA-7D0A-45D4-A654-5CC4D770F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BA37-6953-4EEB-944A-42D72185E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FCC6-0C94-4774-A6DB-7F61B3768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A331-4F43-4307-90A5-01CB3DFA5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B6B3-7556-4BFC-B320-8E0B1303B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FE3C-8F7C-491B-B65D-1D2F083F0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B781-2AE8-4FE1-9754-F252710C0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A337-622C-4998-8013-B9CEA8D9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B7D1-7C06-4C56-907E-24A9D3954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B971-9A4B-4619-BC78-D26F7210A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A3E0-327A-4413-BB50-3BD69AFE2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ECA5-B596-4A1B-A689-3BB3B1102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1478E-C002-4860-BAAB-EC9928309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23301-C297-4546-B68B-3F26936A3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401EC-AF57-4D22-998E-90690C5F0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90372-C74C-48D1-BB88-31381F9F9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6EEC7-5109-47ED-9360-8A47678B2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C4E43-FEF8-4B14-BC6F-9A04A26FF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E714A-A705-484F-9F0E-8213AA178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39A41-0CD5-42A9-BB6A-33C45A1AA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CC6D8-EE81-44E1-8226-30D4D1F3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42CDF-5A25-4FEF-A1CC-E98B4AE6E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14B17-528E-49AE-8EE7-EFBC7274D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97553-9E89-4612-9839-2BCE63359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09F88-2A75-4B6D-86AC-028F0992A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7E7D6-265B-49BF-AC43-295039D53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4E9D8-6978-4C9F-A925-D48E74FAB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BC8F8-AF89-443A-831E-35DAD2E7E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F15A4-2C32-446F-A7D3-87DBE2FE7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CB195-B79A-43EA-A226-90FD9EDB3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FE789-AEF7-4ABD-A412-A8A41D3A9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E36C3-8408-4541-9CBF-66BA787CE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3CE17-8A05-4E75-99EC-8B122D43F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6C35A-69DA-4CA2-96BE-176E2B963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864F5-25AC-4C24-9F48-505629056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37919-29C8-4D7C-AB38-204830A0D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1F9D6-08EF-435F-9040-9286AD9CC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5DE5A-C389-4393-8CE4-DB5267DEF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FCA33-EF48-41D0-BA34-A00BBFF42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1684D-2FB9-4585-9E61-462D807F2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BBA6D-42CA-4148-918D-E9BF86B9F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7E10A-546C-433E-A202-C879D38FF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AF11D-E5D6-4693-8AB9-646C5308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E8612-8E38-43BE-9DA7-BEC4D04ED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FED6F-6F01-4A9E-A527-A74AE712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014D9-B3B9-4620-834A-86806DBAB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0E31F-F151-49A6-A09C-B8FE7C80C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6D9C4-495A-461B-96B4-E3FBCCEAC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3F54FC-5D9A-404B-8A7E-09C99757C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AAF118-90C9-4882-8F75-CD268C47A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D60FA9-0E3F-45A0-887A-E6D916F54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FEEC8-B477-4B8F-9D6B-387C407B4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BC0719-BCCE-4881-B158-FADCCCFF1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2C0F7-4E9D-4456-94F5-B7A38DD3F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0686A4-1048-48E6-8761-D848E3C1D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96A9AE-7C3F-4734-BCE3-E25151CE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360E2-6255-4614-A9D8-FCBC6F19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5B540-3625-453F-BC24-0889952AB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AE84CB-BB53-43DE-B665-CFFFB06B9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0F624-B1F0-4AE7-A3B0-4A0DE50F2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4A02FE-6423-4999-9BFB-594399A8F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1D24CF-3AB4-48DD-BAC8-CB4CE8CC5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67C17-1CF7-4B4E-A2B3-5CE26F9E5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60B1C1-5CF0-4912-8109-D5D210A78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37146-F221-4126-B0B5-6F9F01F22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18DF42-C655-44B5-9325-82263D2C3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F56A30-6642-410B-8920-5AAFFB8B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0AEDF1-0572-47B1-8EDE-8D6BE93B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B351B7-9F3F-4A08-9241-E6EF0CF5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B787F2-C85E-4D65-BF76-2F9367971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79C966-7A29-4F9F-9908-9B25BE2E7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06F2C1-C955-41CA-9910-02F566BDF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391646-DC86-41BD-9F80-B903261E4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FB27A1-D7C9-453F-9C2E-C1DE76204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464883-6A8C-4079-96DB-FF9E6F51F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4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A267F-4298-4723-AFC6-1A9CC8B99E69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A5CC3-2526-4671-A75F-25F12B5148D1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13"/>
          <p:cNvSpPr/>
          <p:nvPr/>
        </p:nvSpPr>
        <p:spPr>
          <a:xfrm>
            <a:off x="3436920" y="6605640"/>
            <a:ext cx="2135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4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F0680-4119-413A-A198-8340F2625CE6}" type="slidenum">
              <a:rPr b="0" lang="de-DE" sz="1200" spc="-1" strike="noStrike">
                <a:solidFill>
                  <a:srgbClr val="000000"/>
                </a:solidFill>
                <a:latin typeface="Segoe Semibol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3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63009-AD58-47B9-84FC-3A7AF4663BF4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6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68287-9C61-4515-AA24-91B8DA393074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9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99600-8E46-4119-93A9-AD81EADC732F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2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CE9D5-DF11-460C-A32A-6E2D06A7FEAC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5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F1B6E-E291-4FEF-A4A4-D25B825FB6E7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18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0D3DD-9CC7-42A0-B334-A20B8AA5061D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1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D1F0C-A53C-4A77-9E1A-583F61ADCAE5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28760" y="2349360"/>
            <a:ext cx="82864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Entity Control in the Python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071800" y="5248080"/>
            <a:ext cx="64008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Young Joon Kim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http://www.helloapps.com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8" name="TextBox 3"/>
          <p:cNvSpPr/>
          <p:nvPr/>
        </p:nvSpPr>
        <p:spPr>
          <a:xfrm>
            <a:off x="4394160" y="3814920"/>
            <a:ext cx="416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ython Interface Programming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Entity Control in the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dd basic sim environment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dd dumy entity to check whether sim engine is started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74" name="Picture 5" descr=""/>
          <p:cNvPicPr/>
          <p:nvPr/>
        </p:nvPicPr>
        <p:blipFill>
          <a:blip r:embed="rId1"/>
          <a:stretch/>
        </p:blipFill>
        <p:spPr>
          <a:xfrm>
            <a:off x="2247840" y="2376360"/>
            <a:ext cx="4648320" cy="29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dd “WaitForEntityCreation” and “WaitForServiceCreation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76" name="Picture 7" descr=""/>
          <p:cNvPicPr/>
          <p:nvPr/>
        </p:nvPicPr>
        <p:blipFill>
          <a:blip r:embed="rId1"/>
          <a:stretch/>
        </p:blipFill>
        <p:spPr>
          <a:xfrm>
            <a:off x="642960" y="1933560"/>
            <a:ext cx="8096400" cy="406728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Entity Control in the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8" name="자유형 5"/>
          <p:cNvSpPr/>
          <p:nvPr/>
        </p:nvSpPr>
        <p:spPr>
          <a:xfrm>
            <a:off x="2571840" y="3857760"/>
            <a:ext cx="1714320" cy="1285920"/>
          </a:xfrm>
          <a:custGeom>
            <a:avLst/>
            <a:gdLst/>
            <a:ahLst/>
            <a:rect l="l" t="t" r="r" b="b"/>
            <a:pathLst>
              <a:path w="1810328" h="403321">
                <a:moveTo>
                  <a:pt x="0" y="6158"/>
                </a:moveTo>
                <a:cubicBezTo>
                  <a:pt x="265545" y="3079"/>
                  <a:pt x="531091" y="0"/>
                  <a:pt x="748146" y="24630"/>
                </a:cubicBezTo>
                <a:cubicBezTo>
                  <a:pt x="965201" y="49260"/>
                  <a:pt x="1125298" y="90825"/>
                  <a:pt x="1302328" y="153940"/>
                </a:cubicBezTo>
                <a:cubicBezTo>
                  <a:pt x="1479358" y="217055"/>
                  <a:pt x="1644843" y="310188"/>
                  <a:pt x="1810328" y="403321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sys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9" name="아래쪽 화살표 6"/>
          <p:cNvSpPr/>
          <p:nvPr/>
        </p:nvSpPr>
        <p:spPr>
          <a:xfrm rot="16200000">
            <a:off x="535680" y="360756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Entity Control in the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ssign “splengine1” into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Invoke “ApplyForce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82" name="Picture 6" descr=""/>
          <p:cNvPicPr/>
          <p:nvPr/>
        </p:nvPicPr>
        <p:blipFill>
          <a:blip r:embed="rId1"/>
          <a:stretch/>
        </p:blipFill>
        <p:spPr>
          <a:xfrm>
            <a:off x="3714840" y="1643040"/>
            <a:ext cx="4562280" cy="4838760"/>
          </a:xfrm>
          <a:prstGeom prst="rect">
            <a:avLst/>
          </a:prstGeom>
          <a:ln w="0">
            <a:noFill/>
          </a:ln>
        </p:spPr>
      </p:pic>
      <p:sp>
        <p:nvSpPr>
          <p:cNvPr id="483" name="아래쪽 화살표 4"/>
          <p:cNvSpPr/>
          <p:nvPr/>
        </p:nvSpPr>
        <p:spPr>
          <a:xfrm rot="16200000">
            <a:off x="3107520" y="560772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Entity Control in the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reateEntity(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86" name="Picture 6" descr=""/>
          <p:cNvPicPr/>
          <p:nvPr/>
        </p:nvPicPr>
        <p:blipFill>
          <a:blip r:embed="rId1"/>
          <a:stretch/>
        </p:blipFill>
        <p:spPr>
          <a:xfrm>
            <a:off x="1928880" y="1643040"/>
            <a:ext cx="6010200" cy="4905360"/>
          </a:xfrm>
          <a:prstGeom prst="rect">
            <a:avLst/>
          </a:prstGeom>
          <a:ln w="0">
            <a:noFill/>
          </a:ln>
        </p:spPr>
      </p:pic>
      <p:sp>
        <p:nvSpPr>
          <p:cNvPr id="487" name="모서리가 둥근 직사각형 4"/>
          <p:cNvSpPr/>
          <p:nvPr/>
        </p:nvSpPr>
        <p:spPr>
          <a:xfrm>
            <a:off x="642960" y="2571840"/>
            <a:ext cx="8072280" cy="35002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Entity Control in the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nd execute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0" name="Picture 6" descr=""/>
          <p:cNvPicPr/>
          <p:nvPr/>
        </p:nvPicPr>
        <p:blipFill>
          <a:blip r:embed="rId1"/>
          <a:stretch/>
        </p:blipFill>
        <p:spPr>
          <a:xfrm>
            <a:off x="642960" y="1714680"/>
            <a:ext cx="4286160" cy="368604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7" descr=""/>
          <p:cNvPicPr/>
          <p:nvPr/>
        </p:nvPicPr>
        <p:blipFill>
          <a:blip r:embed="rId2"/>
          <a:stretch/>
        </p:blipFill>
        <p:spPr>
          <a:xfrm>
            <a:off x="4000680" y="2928960"/>
            <a:ext cx="428616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Topics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Entity control in the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mple python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4" name="Picture 6" descr=""/>
          <p:cNvPicPr/>
          <p:nvPr/>
        </p:nvPicPr>
        <p:blipFill>
          <a:blip r:embed="rId1"/>
          <a:stretch/>
        </p:blipFill>
        <p:spPr>
          <a:xfrm>
            <a:off x="1928880" y="1643040"/>
            <a:ext cx="6010200" cy="4905360"/>
          </a:xfrm>
          <a:prstGeom prst="rect">
            <a:avLst/>
          </a:prstGeom>
          <a:ln w="0">
            <a:noFill/>
          </a:ln>
        </p:spPr>
      </p:pic>
      <p:sp>
        <p:nvSpPr>
          <p:cNvPr id="455" name="아래쪽 화살표 5"/>
          <p:cNvSpPr/>
          <p:nvPr/>
        </p:nvSpPr>
        <p:spPr>
          <a:xfrm rot="16200000">
            <a:off x="1321560" y="246456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mple python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8" name="TextBox 3"/>
          <p:cNvSpPr/>
          <p:nvPr/>
        </p:nvSpPr>
        <p:spPr>
          <a:xfrm>
            <a:off x="1704960" y="2143080"/>
            <a:ext cx="55483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from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ateti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mpor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ateti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mpor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ti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ef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ApplyForce()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AddNewEntity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ent1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/Position:0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.1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'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\n'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AddBoxShap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/Dimensions:0.2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.2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.2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/Mass:0.1'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plengine1.ExecuteScriptText(s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whil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True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md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ent1.Force(0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20.0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)'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plengine1.ExecuteScriptText(cmd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time.sleep(1.0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entity_control.py'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s “&lt;MSRDS Root Dir&gt;/UserData/entity_control.py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Entity Control in the Python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Entity Control in the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dd basic script for the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4" name="Picture 5" descr=""/>
          <p:cNvPicPr/>
          <p:nvPr/>
        </p:nvPicPr>
        <p:blipFill>
          <a:blip r:embed="rId1"/>
          <a:stretch/>
        </p:blipFill>
        <p:spPr>
          <a:xfrm>
            <a:off x="2319480" y="2838600"/>
            <a:ext cx="4505040" cy="118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dd “SPLEngine” command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6" name="Picture 9" descr=""/>
          <p:cNvPicPr/>
          <p:nvPr/>
        </p:nvPicPr>
        <p:blipFill>
          <a:blip r:embed="rId1"/>
          <a:stretch/>
        </p:blipFill>
        <p:spPr>
          <a:xfrm>
            <a:off x="566640" y="1981080"/>
            <a:ext cx="8010720" cy="3591000"/>
          </a:xfrm>
          <a:prstGeom prst="rect">
            <a:avLst/>
          </a:prstGeom>
          <a:ln w="0">
            <a:noFill/>
          </a:ln>
        </p:spPr>
      </p:pic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Entity Control in the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8" name="자유형 5"/>
          <p:cNvSpPr/>
          <p:nvPr/>
        </p:nvSpPr>
        <p:spPr>
          <a:xfrm flipV="1">
            <a:off x="1857240" y="3714120"/>
            <a:ext cx="3143520" cy="928440"/>
          </a:xfrm>
          <a:custGeom>
            <a:avLst/>
            <a:gdLst/>
            <a:ahLst/>
            <a:rect l="l" t="t" r="r" b="b"/>
            <a:pathLst>
              <a:path w="1810328" h="403321">
                <a:moveTo>
                  <a:pt x="0" y="6158"/>
                </a:moveTo>
                <a:cubicBezTo>
                  <a:pt x="265545" y="3079"/>
                  <a:pt x="531091" y="0"/>
                  <a:pt x="748146" y="24630"/>
                </a:cubicBezTo>
                <a:cubicBezTo>
                  <a:pt x="965201" y="49260"/>
                  <a:pt x="1125298" y="90825"/>
                  <a:pt x="1302328" y="153940"/>
                </a:cubicBezTo>
                <a:cubicBezTo>
                  <a:pt x="1479358" y="217055"/>
                  <a:pt x="1644843" y="310188"/>
                  <a:pt x="1810328" y="403321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sys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9" name="TextBox 6"/>
          <p:cNvSpPr/>
          <p:nvPr/>
        </p:nvSpPr>
        <p:spPr>
          <a:xfrm>
            <a:off x="-19800" y="3929040"/>
            <a:ext cx="78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맑은 고딕"/>
              </a:rPr>
              <a:t>Doubl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맑은 고딕"/>
              </a:rPr>
              <a:t>cli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아래쪽 화살표 7"/>
          <p:cNvSpPr/>
          <p:nvPr/>
        </p:nvSpPr>
        <p:spPr>
          <a:xfrm rot="16200000">
            <a:off x="378720" y="4321440"/>
            <a:ext cx="285480" cy="642960"/>
          </a:xfrm>
          <a:prstGeom prst="downArrow">
            <a:avLst>
              <a:gd name="adj1" fmla="val 50000"/>
              <a:gd name="adj2" fmla="val 50049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아래쪽 화살표 8"/>
          <p:cNvSpPr/>
          <p:nvPr/>
        </p:nvSpPr>
        <p:spPr>
          <a:xfrm rot="1502400">
            <a:off x="3050640" y="224460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01:18:26Z</dcterms:created>
  <dc:creator>yjoonkim</dc:creator>
  <dc:description/>
  <dc:language>en-US</dc:language>
  <cp:lastModifiedBy>yjoonkim</cp:lastModifiedBy>
  <dcterms:modified xsi:type="dcterms:W3CDTF">2010-03-30T05:18:26Z</dcterms:modified>
  <cp:revision>986</cp:revision>
  <dc:subject/>
  <dc:title>슬라이드 1</dc:title>
</cp:coreProperties>
</file>