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2CBD2-24FC-4C40-8553-11D6AEB7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6942A-A8C5-4C50-8E7F-2BCD0B3D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FD919-E047-4BF1-913A-04615BF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760A7-ED4F-49C7-881E-C771C4B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D5FB-69AE-418A-94AC-BC146D5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1449D-5EC0-4C72-859F-2BCCF2C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9F36D-BA03-47E6-88F4-5F276AFF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2EEF-6942-43F7-955C-288A6B3D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C4B90-6208-4EC2-9BAA-2EF87373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44F7C-480B-4D51-8A1E-FBF85B9F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EEECA-707C-411D-8B16-FA940A4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4C5C-B18F-4970-867F-4426A0B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14CC-13E4-4AA0-8896-36E3A82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2B68-0BC4-407F-ACF2-0BA2384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62AE-224D-4738-8361-4EB74C81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17642-EE4B-4F6B-9067-B6D62487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4684-611C-4DA2-8C52-93DE033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B8CF-F427-4ACD-BE45-BFE43350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502E-9C02-4F47-9E0A-4BDBB32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27DCF-C3CB-467B-A599-B30EB1F3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822FB-62C3-4A01-A5B0-8CCDAF39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3D69B-279C-4E5E-9D3B-3A38BEBC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6E8F-F2A4-429E-897F-6A6C9160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F808C-6182-44C4-BCE2-2EE76313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DFC8D-63C1-4F4D-8733-92780408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140A0-5BF5-4565-A28F-272D195C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79B4D-3130-469C-836F-EC2332E0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C7D5D-4DB5-4ADB-A150-E95E7D4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E9D52-8588-42DC-B519-CAD226BE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E3F01-E1CB-4612-BCA2-119B794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407A7-C743-4B79-9BBB-5CA47C06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B4418-6A1C-4A0E-8555-445951B2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CF128-8676-411F-B65F-FA144EB8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7B8-A579-4726-9FCD-A5E7645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A0A-DEF3-4820-B436-72C55A7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B6F-B376-4FED-B65D-C52177A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E92-BD98-4896-82ED-192A2CAD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3F1-9DCE-40DE-B00D-ABD846D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EC4-3A1A-4075-89A0-EC06E4F4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38C-AE0F-4B05-B3FC-6D903EE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46A-4B33-44A4-A3BE-0509928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EAF-C6C1-47A7-9A1A-3C802B5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1F5-7C11-4ACB-BE59-C675702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C8D-56F4-4967-A4D9-059B034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2F3-6B61-49D5-B537-8325426E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B832-582A-4045-A923-39188C85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7CCA-24B7-46D1-B45E-7F4E8262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0C34-7FA3-4DA0-AC23-B0C35A6E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48B5-253D-408C-9220-D669E8C4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F3F2-AFD0-4B03-A6F2-667316F1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1614-2D22-49A0-9822-D68A8F0F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7B28-7CAF-4195-9FF0-E986A6EA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9ABD-91BA-4900-B49A-08091B6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4AFD-3FC0-49D7-AB71-E63AA1E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9FF-DDEE-4F03-A762-1AF9BAF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122D-E92C-4F0E-B2B6-F8C58B2B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9F4B-31F4-4BC4-BCBE-0716CB7F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A6E8-6434-4C47-8D08-CE5A78F6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C318-602B-47D5-950B-1F03F370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8E1B-403A-4790-BB30-940F3DC7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6BC4-596D-4264-A2F0-DCFB6212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3CF6-0502-4CA8-AB15-80F25FDB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AFDA-F4A3-44B9-8699-7DA576FA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A7A2-E40D-4390-BEA5-9E7E05B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5C7A-BDC6-4026-8154-536B0E7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DFE9-BA2F-4E46-BDCD-FB7699D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CFDE-FE77-4CD2-B121-68B3504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BC3A-3FF0-4737-BE7C-1464E471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9DF9-1019-406F-834E-1A031721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3C8D-3AB3-46B6-A2D5-6D62E850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D287-7393-4ED5-8162-2CEC7F8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B833-51CD-40BE-9CE9-DF8A04AD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A28F-2B0E-412C-8393-8E22EEC1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64C6-8097-4C9F-9DE0-70875AF5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D68B-DE26-4B19-A74C-E00A554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0786-4B7B-418F-9559-D796A53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BA90-BD79-4F44-9BFC-2C07B781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82E1-C218-4BB1-9F5B-1785DD9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C94F-7EC4-4FDE-9725-49F9F405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FA4C-2706-447C-8BFF-44608D9E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5854-848C-4BA4-A8ED-D6C0AB05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B598-B890-49B4-BA4C-4E4389ED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C272-D14D-48CA-8103-CB64540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75C8-3C2B-4913-B3A5-1F00378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C73B2-B3E1-4B26-AA97-93817B14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971A-A198-4A0E-93A4-D0C5EE28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209B-A19D-4595-80F6-4FED758E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404F-9BC5-4DC0-BA49-F50FEB4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7338-CD9F-4063-8FD4-642A76B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E9DA-25C5-4EE3-9F8E-2C5706E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98FC-D11E-49F5-A956-0E2584CF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A6DD-955B-4154-9F7E-C6FEC85A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074A-130E-4605-AA95-0FFBF7F4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0902-E2EC-43A0-8FE3-9E825445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4A4F-1966-4060-B4B2-6E61D986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11BEB-7F50-4976-B260-D6188F03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8CA2-2DED-4FBE-8983-59A6D82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FD3A1-338E-4B64-9BA8-9B356F5F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5EF1-5EEB-4EF9-AD8A-B573169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F17F6-5816-41B5-AF4A-33B9CFD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69ED-AE7D-4CEF-8866-94872B6E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567D-056D-4628-BDFE-EB43A9F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5DDB-CF7C-4684-A73A-33EF5FD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B276-782E-482D-821F-80C0C5E8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A9827-96CA-47A4-92E8-DC607441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0D27-E664-4734-8E30-494C98A8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5270-22BB-4FDD-9982-CF3E80C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B265-6C8F-4B93-9C60-90969EC2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B9A-9DC6-426A-9779-EE403ACF577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823A-3724-4375-8B75-3E14880D3B3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611-9E10-483D-9F3A-C1EB779789BA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639-D3B6-4964-AE93-DD7818CC1CD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D3B-5E39-409A-97F1-966816C40DE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9EF-04F0-4137-AC28-B48AE834ACC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C7A-8926-4A9B-8A9D-1E73E805012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73BB-7300-4B4E-B94A-D0AFCB8642F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B34-EAA6-4D0A-BBBD-4B23FC2337D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00E3-6889-4468-9168-A2F0AFC048D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352760" cy="51433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19645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4622760" y="1143000"/>
            <a:ext cx="3740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모서리가 둥근 직사각형 4"/>
          <p:cNvSpPr/>
          <p:nvPr/>
        </p:nvSpPr>
        <p:spPr>
          <a:xfrm>
            <a:off x="2857680" y="1928880"/>
            <a:ext cx="607212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713120" y="1071720"/>
            <a:ext cx="3787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94" name="모서리가 둥근 직사각형 4"/>
          <p:cNvSpPr/>
          <p:nvPr/>
        </p:nvSpPr>
        <p:spPr>
          <a:xfrm>
            <a:off x="2857680" y="3429000"/>
            <a:ext cx="6072120" cy="25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28920" y="21002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2750400" y="18925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6"/>
          <p:cNvSpPr/>
          <p:nvPr/>
        </p:nvSpPr>
        <p:spPr>
          <a:xfrm rot="16200000">
            <a:off x="2750400" y="3250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227320" y="1803240"/>
            <a:ext cx="5325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Presse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HardwareIdentifi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Na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 ' / ' + p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Reaction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Pressed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HardwareIdentifi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Front bumper was 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-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ea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a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bumper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bumper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Add “/Procedure_SensorNotify:proc2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2228760" y="2205000"/>
            <a:ext cx="4486320" cy="415296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764360" y="5883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아래쪽 화살표 6"/>
          <p:cNvSpPr/>
          <p:nvPr/>
        </p:nvSpPr>
        <p:spPr>
          <a:xfrm rot="5400000">
            <a:off x="5979240" y="4955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2352600" y="1833480"/>
            <a:ext cx="4438800" cy="466740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29:34Z</dcterms:modified>
  <cp:revision>966</cp:revision>
  <dc:subject/>
  <dc:title>슬라이드 1</dc:title>
</cp:coreProperties>
</file>