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59B23-FE07-4925-AFE8-3C2A586E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C57FD-987E-404A-BEBD-5C3F2744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FFDF7-712D-4708-9149-F3CFF25A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89AC8-8196-4258-98DD-9695E963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CB61A-6A49-4195-AB0F-A91B8BDF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DF289-062D-4217-86CE-B233F196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F8218-61DD-43D9-B7C2-EE38F6C6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7BB84-C37A-4020-B5D7-BC1F69760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A04F0-868B-4A96-A551-CF567C79F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3C997-DE94-4D93-BE07-5DFE3F750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133F5-CE21-4D95-8E4C-799B4EA0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BA2A6-0DE3-4330-AFD9-7EF2F518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807EB-5A2D-4020-B85D-2AF90F13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ED370-BE9B-4D83-A00B-D14008F8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D1A18-4620-4B28-99AD-4EC8D921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FA930-6258-415D-9CCE-95496AFB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F3BE3-89D6-4354-AFAA-8BD019A6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12828-E110-4D27-B5CC-0BF6D48A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6816D-2A6E-4DAF-B3B5-AE55936A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8AC41-BD4F-4A1B-85A8-CF2502461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5C095-7A39-4497-8239-60B836B30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5C2AFA-E742-4ABC-9027-F80B5FC42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AFA484-656F-4719-BEEC-426CBF2B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DAF1AB-17C2-4D88-9A38-CBE154D2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06A1F-BE00-4CE8-8E14-D5F13A9B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1ED423-F676-420C-A67B-80EE6FF4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47247D-D4DC-48D4-99BE-9EF34910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719FB7-D629-4E6C-B2BF-6AC5BEA1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9C8EB4-EADD-42F7-A59C-FCC7BEE8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4E17BE-9AA2-452A-AF59-C2098CC5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7CCA54-9060-4B3D-9D40-3CE7CB41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C456D8-05F9-49B0-A7A7-D1F3B306F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83DC4A-04B7-4D58-929D-303B1CB54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7B53-30B0-4E5F-8FBB-559483A66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6449-9FAE-4864-B0D9-51C7C484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E151-8F74-436B-AEAF-CDDAE4ED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B499-3DFF-4C4C-BE31-FF1F43AD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38C3-487B-4E92-A2C4-F885D2AC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B4B6-B20A-49B7-BB17-9FD385B7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7234-304E-40DC-B0F5-8A111111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DAF6-04D4-49BE-84BE-921C4E58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4F41-9D4B-4B39-9391-21E6DA65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E872-0508-4E1C-BCC8-28C874CC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E584-99AA-494F-8FD5-D8AC640CD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48BF-3961-49B8-864F-8D3EC7A2A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AF83-0A7E-4F33-A8CA-962BFB751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A0D8-BBE1-4E3B-B49E-F926B5E2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BB5E6-D571-4650-B5AD-9D0C9BEF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A2FF-654F-4E71-BE1E-B5B05298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EF87-48FC-411B-82E1-1AE44B3F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CB61-2707-407D-A6EF-A398A61E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AB64-ABF9-4700-B901-D76148BA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FB9A5-6B33-481A-8C20-88C2B9FD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0443-2FAA-48FC-8B87-71EAFDF1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60C86-973F-4BFD-9D18-426B8F79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92C41-3165-4594-8D84-09391DA03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51D4-A0F7-4195-8F48-699166976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FB7DF-358C-413E-A998-48DFC3BA4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B4DEC-63E2-4FF4-8EF3-DECF19F5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D2C89-CECD-4A83-9D43-80D349E3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0DFC7-1192-46C7-A38A-8F707C41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22C85-DB7B-43A3-BBA7-FFB6ECA1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D282E-57D9-4687-A02C-DD1F234B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BB315-5506-4929-B92B-DCF2F5DF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4D4E2-E576-4BCE-8D89-0A626258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162CA-CF4D-4D2C-A930-34118B37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86561-3A2F-467E-8550-BAD1F648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B0331-D188-4A91-AC3C-299AFD71A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80C5D-5598-4C89-A7A8-25979F083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4FC67-F5E7-4CF3-8E5C-B77A65BFD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D572E-6158-4993-B3B5-45EC35A9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B048B-1F4E-4C06-A8F0-95DA5CFF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23699-8C6F-433B-BC30-DF1A3501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5B7E8-4E6E-4265-A42B-47BDFFA9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8878D-8E61-4A4C-89D6-CAE94D19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A2789-BA67-4A58-9470-618102C2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C1596-87CF-42F8-B890-C2FEEB5C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CD526-1E95-4CAD-8D30-E1968791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B8CF6-7604-4850-BB5E-59B9BF6B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325E0-AFA3-433F-AF10-4D51A215E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D8A91-71F8-4EC2-AFFF-6964B4721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E9BEE-ABE1-46A3-B72D-4D55ACF77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E6805-1A95-4CA6-9557-5CF3FB61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EB99D-2C2B-4475-8D0B-DFA36B2F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0B714-9EC7-49B5-97AE-66BB0519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C53BA-A7A7-4BB0-ACFA-8E477052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D681F-E221-40CC-BC05-1762E5FF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8705F-6E62-4215-B479-560449EF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9375C-54D5-492B-9507-B9D0B1FD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612E9-9E35-49A7-8D5E-15E1D75A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5AD25-1E88-40BC-B105-1AE9DCBB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1D33A-D169-4AFA-B4E1-2821527AC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F4EA8-ECC1-4C8E-B8FA-BBAF08D6A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16985-A72C-4F46-9914-8CF79A4F9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ED75E-7A6B-4B3A-B299-FD228065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46632-E6D7-4C9B-BD17-377ABFC2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43211-7851-49A1-B373-A7823476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63749-904F-4383-AFE4-C69C6306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11010-0212-4B39-866B-CBFA8897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0C48B-31AD-437C-8D3D-0FD22DBA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6115A-24A2-41D9-BF12-A78BA961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F87C2-0CFB-42D9-AFF0-8F2336F5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67D55-FAD5-44DD-BDFA-5CE309F4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AEB90-7DF3-47B2-AF6E-11781A81F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E0854-C083-4E71-AE5C-C978C97DA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8BD79-FFC7-4157-9B9F-210993FB3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F561A-763E-45C5-8FFC-AE462DA3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1A731-CBD0-460F-9F37-5CC526DC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6DB2-CA95-47B6-BAB9-8BFDAF221571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C962-960C-4F5A-B1B9-66352F7B08AA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3"/>
          <p:cNvSpPr/>
          <p:nvPr/>
        </p:nvSpPr>
        <p:spPr>
          <a:xfrm>
            <a:off x="3436920" y="6605640"/>
            <a:ext cx="213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57FC-C2FC-43EA-A438-32D5CB2AD9B0}" type="slidenum">
              <a:rPr b="0" lang="de-DE" sz="1200" spc="-1" strike="noStrike">
                <a:solidFill>
                  <a:srgbClr val="000000"/>
                </a:solidFill>
                <a:latin typeface="Segoe Semi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960F-6F92-4B3C-8E5C-30A1A762B7A1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5481-6ED0-4682-96D8-9BBD64220A89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AD85-E8AB-4425-BDF9-9D77BEE479B4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7CA8-5202-4204-86B1-84231D410A70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C646-7BB0-43F8-8B32-B42B48CE1885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20A9-60AC-490D-BF37-08E532824636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3543-855B-445B-8BC7-FAA63937BA02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8760" y="2349360"/>
            <a:ext cx="8286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Drive Robot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071800" y="5248080"/>
            <a:ext cx="6400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Young Joon Ki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http://www.helloapps.co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4394160" y="3814920"/>
            <a:ext cx="41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ython Interface Program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rive Robo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ssign the instance of “base1” into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2" name="Picture 4" descr=""/>
          <p:cNvPicPr/>
          <p:nvPr/>
        </p:nvPicPr>
        <p:blipFill>
          <a:blip r:embed="rId1"/>
          <a:stretch/>
        </p:blipFill>
        <p:spPr>
          <a:xfrm>
            <a:off x="633240" y="1981080"/>
            <a:ext cx="7877520" cy="4305600"/>
          </a:xfrm>
          <a:prstGeom prst="rect">
            <a:avLst/>
          </a:prstGeom>
          <a:ln w="0">
            <a:noFill/>
          </a:ln>
        </p:spPr>
      </p:pic>
      <p:sp>
        <p:nvSpPr>
          <p:cNvPr id="473" name="자유형 4"/>
          <p:cNvSpPr/>
          <p:nvPr/>
        </p:nvSpPr>
        <p:spPr>
          <a:xfrm flipV="1">
            <a:off x="3786120" y="5714280"/>
            <a:ext cx="1500120" cy="14292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아래쪽 화살표 6"/>
          <p:cNvSpPr/>
          <p:nvPr/>
        </p:nvSpPr>
        <p:spPr>
          <a:xfrm rot="16200000">
            <a:off x="821520" y="55364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아래쪽 화살표 7"/>
          <p:cNvSpPr/>
          <p:nvPr/>
        </p:nvSpPr>
        <p:spPr>
          <a:xfrm rot="1502400">
            <a:off x="3050640" y="245916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rive Robo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8" name="Picture 4" descr=""/>
          <p:cNvPicPr/>
          <p:nvPr/>
        </p:nvPicPr>
        <p:blipFill>
          <a:blip r:embed="rId1"/>
          <a:stretch/>
        </p:blipFill>
        <p:spPr>
          <a:xfrm>
            <a:off x="628560" y="1714680"/>
            <a:ext cx="7886880" cy="4324320"/>
          </a:xfrm>
          <a:prstGeom prst="rect">
            <a:avLst/>
          </a:prstGeom>
          <a:ln w="0">
            <a:noFill/>
          </a:ln>
        </p:spPr>
      </p:pic>
      <p:sp>
        <p:nvSpPr>
          <p:cNvPr id="479" name="자유형 4"/>
          <p:cNvSpPr/>
          <p:nvPr/>
        </p:nvSpPr>
        <p:spPr>
          <a:xfrm>
            <a:off x="3857760" y="5038560"/>
            <a:ext cx="500040" cy="57168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아래쪽 화살표 5"/>
          <p:cNvSpPr/>
          <p:nvPr/>
        </p:nvSpPr>
        <p:spPr>
          <a:xfrm rot="16200000">
            <a:off x="749880" y="4788720"/>
            <a:ext cx="285840" cy="6426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rive Robo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RobotDrive(left, right) module in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3" name="Picture 4" descr=""/>
          <p:cNvPicPr/>
          <p:nvPr/>
        </p:nvPicPr>
        <p:blipFill>
          <a:blip r:embed="rId1"/>
          <a:stretch/>
        </p:blipFill>
        <p:spPr>
          <a:xfrm>
            <a:off x="2928960" y="1857240"/>
            <a:ext cx="4081320" cy="4624560"/>
          </a:xfrm>
          <a:prstGeom prst="rect">
            <a:avLst/>
          </a:prstGeom>
          <a:ln w="0">
            <a:noFill/>
          </a:ln>
        </p:spPr>
      </p:pic>
      <p:sp>
        <p:nvSpPr>
          <p:cNvPr id="484" name="모서리가 둥근 직사각형 4"/>
          <p:cNvSpPr/>
          <p:nvPr/>
        </p:nvSpPr>
        <p:spPr>
          <a:xfrm>
            <a:off x="2571840" y="4143240"/>
            <a:ext cx="5000400" cy="785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rive Robo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7" name="Picture 4" descr=""/>
          <p:cNvPicPr/>
          <p:nvPr/>
        </p:nvPicPr>
        <p:blipFill>
          <a:blip r:embed="rId1"/>
          <a:stretch/>
        </p:blipFill>
        <p:spPr>
          <a:xfrm>
            <a:off x="2571840" y="2071800"/>
            <a:ext cx="428616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Drive Robot with Patter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rive Robot with Patter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RobotDrivePattern” modu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1" name="Picture 2" descr=""/>
          <p:cNvPicPr/>
          <p:nvPr/>
        </p:nvPicPr>
        <p:blipFill>
          <a:blip r:embed="rId1"/>
          <a:stretch/>
        </p:blipFill>
        <p:spPr>
          <a:xfrm>
            <a:off x="2376360" y="1900080"/>
            <a:ext cx="439128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rive Robot with Patter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RobotDrivePattern() module in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4" name="Picture 4" descr=""/>
          <p:cNvPicPr/>
          <p:nvPr/>
        </p:nvPicPr>
        <p:blipFill>
          <a:blip r:embed="rId1"/>
          <a:stretch/>
        </p:blipFill>
        <p:spPr>
          <a:xfrm>
            <a:off x="2928960" y="1857240"/>
            <a:ext cx="4081320" cy="4624560"/>
          </a:xfrm>
          <a:prstGeom prst="rect">
            <a:avLst/>
          </a:prstGeom>
          <a:ln w="0">
            <a:noFill/>
          </a:ln>
        </p:spPr>
      </p:pic>
      <p:sp>
        <p:nvSpPr>
          <p:cNvPr id="495" name="모서리가 둥근 직사각형 4"/>
          <p:cNvSpPr/>
          <p:nvPr/>
        </p:nvSpPr>
        <p:spPr>
          <a:xfrm>
            <a:off x="2571840" y="4929120"/>
            <a:ext cx="5000400" cy="1143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rive Robot with Patter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8" name="Picture 2" descr=""/>
          <p:cNvPicPr/>
          <p:nvPr/>
        </p:nvPicPr>
        <p:blipFill>
          <a:blip r:embed="rId1"/>
          <a:stretch/>
        </p:blipFill>
        <p:spPr>
          <a:xfrm>
            <a:off x="4572000" y="2143080"/>
            <a:ext cx="4286160" cy="36864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3" descr=""/>
          <p:cNvPicPr/>
          <p:nvPr/>
        </p:nvPicPr>
        <p:blipFill>
          <a:blip r:embed="rId2"/>
          <a:stretch/>
        </p:blipFill>
        <p:spPr>
          <a:xfrm>
            <a:off x="214200" y="2143080"/>
            <a:ext cx="428652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Read Robot Positi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Read Robot Posi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RobotPosition” modu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2419200" y="1857240"/>
            <a:ext cx="4305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Topics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Drive Robo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Drive Robot with Patter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Read Robot Posit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Read Robot Posi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RobotPosition() module in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06" name="Picture 4" descr=""/>
          <p:cNvPicPr/>
          <p:nvPr/>
        </p:nvPicPr>
        <p:blipFill>
          <a:blip r:embed="rId1"/>
          <a:stretch/>
        </p:blipFill>
        <p:spPr>
          <a:xfrm>
            <a:off x="2928960" y="1857240"/>
            <a:ext cx="4081320" cy="4624560"/>
          </a:xfrm>
          <a:prstGeom prst="rect">
            <a:avLst/>
          </a:prstGeom>
          <a:ln w="0">
            <a:noFill/>
          </a:ln>
        </p:spPr>
      </p:pic>
      <p:sp>
        <p:nvSpPr>
          <p:cNvPr id="507" name="모서리가 둥근 직사각형 4"/>
          <p:cNvSpPr/>
          <p:nvPr/>
        </p:nvSpPr>
        <p:spPr>
          <a:xfrm>
            <a:off x="2571840" y="2643120"/>
            <a:ext cx="5000400" cy="1500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Read Robot Posi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PL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10" name="Picture 2" descr=""/>
          <p:cNvPicPr/>
          <p:nvPr/>
        </p:nvPicPr>
        <p:blipFill>
          <a:blip r:embed="rId1"/>
          <a:stretch/>
        </p:blipFill>
        <p:spPr>
          <a:xfrm>
            <a:off x="785880" y="1857240"/>
            <a:ext cx="6448320" cy="419112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3" descr=""/>
          <p:cNvPicPr/>
          <p:nvPr/>
        </p:nvPicPr>
        <p:blipFill>
          <a:blip r:embed="rId2"/>
          <a:stretch/>
        </p:blipFill>
        <p:spPr>
          <a:xfrm>
            <a:off x="4429080" y="2786040"/>
            <a:ext cx="428616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4" name="Picture 5" descr=""/>
          <p:cNvPicPr/>
          <p:nvPr/>
        </p:nvPicPr>
        <p:blipFill>
          <a:blip r:embed="rId1"/>
          <a:stretch/>
        </p:blipFill>
        <p:spPr>
          <a:xfrm>
            <a:off x="3643200" y="1000080"/>
            <a:ext cx="4991040" cy="5657760"/>
          </a:xfrm>
          <a:prstGeom prst="rect">
            <a:avLst/>
          </a:prstGeom>
          <a:ln w="0">
            <a:noFill/>
          </a:ln>
        </p:spPr>
      </p:pic>
      <p:sp>
        <p:nvSpPr>
          <p:cNvPr id="455" name="아래쪽 화살표 4"/>
          <p:cNvSpPr/>
          <p:nvPr/>
        </p:nvSpPr>
        <p:spPr>
          <a:xfrm rot="16200000">
            <a:off x="3035880" y="1821600"/>
            <a:ext cx="285840" cy="6426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아래쪽 화살표 5"/>
          <p:cNvSpPr/>
          <p:nvPr/>
        </p:nvSpPr>
        <p:spPr>
          <a:xfrm rot="16200000">
            <a:off x="3036240" y="3678840"/>
            <a:ext cx="285480" cy="64260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아래쪽 화살표 6"/>
          <p:cNvSpPr/>
          <p:nvPr/>
        </p:nvSpPr>
        <p:spPr>
          <a:xfrm rot="16200000">
            <a:off x="3035880" y="4679280"/>
            <a:ext cx="285840" cy="6426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0" name="TextBox 3"/>
          <p:cNvSpPr/>
          <p:nvPr/>
        </p:nvSpPr>
        <p:spPr>
          <a:xfrm>
            <a:off x="2359080" y="1928880"/>
            <a:ext cx="487512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rom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obotPosition(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RobotPosition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alled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whil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rue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x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tr(base1.Position.X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z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tr(base1.Position.Z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Position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X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and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Z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&gt;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x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z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.sleep(0.5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obotDrive(left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ight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RobotDriv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alled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Go(left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ight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obotDrivePattern(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RobotDrivePattern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alled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whil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rue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GoTo(1.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3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Turn(9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2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Robot_Drive.py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eady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s “&lt;MSRDS Root Dir&gt;/UserData/robot_drive.py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Drive</a:t>
            </a: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Robot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rive Robo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basic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6" name="Picture 5" descr=""/>
          <p:cNvPicPr/>
          <p:nvPr/>
        </p:nvPicPr>
        <p:blipFill>
          <a:blip r:embed="rId1"/>
          <a:stretch/>
        </p:blipFill>
        <p:spPr>
          <a:xfrm>
            <a:off x="2386080" y="2852640"/>
            <a:ext cx="43718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rive Robo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simulation environment and robo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9" name="Picture 4" descr=""/>
          <p:cNvPicPr/>
          <p:nvPr/>
        </p:nvPicPr>
        <p:blipFill>
          <a:blip r:embed="rId1"/>
          <a:stretch/>
        </p:blipFill>
        <p:spPr>
          <a:xfrm>
            <a:off x="2371680" y="2100240"/>
            <a:ext cx="440064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1:18:26Z</dcterms:created>
  <dc:creator>yjoonkim</dc:creator>
  <dc:description/>
  <dc:language>en-US</dc:language>
  <cp:lastModifiedBy>yjoonkim</cp:lastModifiedBy>
  <dcterms:modified xsi:type="dcterms:W3CDTF">2010-03-29T11:16:23Z</dcterms:modified>
  <cp:revision>928</cp:revision>
  <dc:subject/>
  <dc:title>슬라이드 1</dc:title>
</cp:coreProperties>
</file>