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BD01E-E4CB-4530-BCD4-898F827F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550CA-39E0-4DEE-B765-05097501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A418-B13F-4CA0-A21F-57CA2EB4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49088-1F5C-4EF3-BE39-FA2A87B3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418C9-A0E9-44B3-A851-E297AA15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0021A-324E-4FE9-B4CE-F758C1DC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913FC-1D0D-4626-A63A-370165E5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82254-C292-4975-AD3E-5620BACE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54E41-6784-4B95-925C-D35BED75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C06FC-EA55-47E4-8A00-2CB64D09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1C873-C6BC-44A6-9190-557DD0FC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C4F09-1E40-4F43-83E3-D6AEBB90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647E0-7F13-47CB-A387-3040707B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B7948-9D94-4B3B-8906-0DF4FB5C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F9E55-A02B-4B15-B72C-16453D25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3BC81-0C85-45DD-AD5F-2CF45E92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FA5A-2E11-4B11-8CEA-77E1C66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9235B-AEBB-47A6-B8FC-95C429AC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1D146-0B74-41C4-AF5D-1A9D4F56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AB02F-8AD4-41BE-AF2F-7D998842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1A46D-E980-4806-89E2-E54CAFC9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434F3-07A5-407A-9562-08DF6308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AD2DF-F0CF-4106-BFDC-BBB683F3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6B568-424E-4A4D-ACC5-9B19DC42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CF623-B2FD-4677-9B03-05CBEBF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7E655-1687-4E27-8DBF-0F28C264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7C865-F949-4C20-8423-A497B73E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CF69C-2BDE-46CD-8FA5-4AE0EC8C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BB4B1-6229-4019-BC9B-B70263DE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264D2-2E27-40D8-8CD1-E8F5E283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24F12-D4B3-43C4-9C29-58ABC332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F98E8-547D-4843-B01E-5DE6EDB0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A1ADF-55A4-4A2B-89AC-1A06C5B5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3A1-5666-49CD-9B9C-2D59DD7E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6BA-D8C8-4D9C-B7C9-A351E54F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4B0-FBCD-497A-9321-4A98384E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956-5135-46A1-8AFB-C1D87D5E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845-E4E0-4C79-B288-0C7E19E2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145-9C0D-4D3A-B722-FA1263F2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F55-4908-486F-AA1B-B4BDF3AC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7D8-D02E-4930-BBF1-7CD1720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6D9-8125-410C-B445-B46E57ED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E50-4982-4B74-8502-FE8A2B25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D68-B06B-46B8-9C70-F512D9EF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1B0-C84A-4CDC-BB52-BEA9FDD0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162D-43F5-4686-8DC4-AA448F1D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B4A1-5245-4F03-8CF3-D67C2F1D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C5FA-925B-432E-8086-1137528D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03B1-A52F-4C68-9A0C-0B622F50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C765-81D9-4C2C-A737-0DF3905A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6157-48A7-4D04-85EA-E4460CFB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408A-4D8D-49FD-9FD5-5EB1170F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7E6A-9ED5-4C75-91E3-836169CD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8271-A263-4748-BD3F-A64C279B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00FC-26FF-4FC6-A748-54C8AEA1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83EB-9AB5-40F7-9BD4-30A4C600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B28C-F745-4566-9679-E1660E64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784E-9EFE-4E34-88F3-E9120F42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C606-6D0F-4602-B96D-56473CD6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5ECC-3362-4DE2-BEB1-28C52F80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98A7-74DB-49F3-82E3-B2307BE7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F44A-D50D-4A1E-B11A-2508CD3C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06E8C-BFC8-427D-A73C-DCE7FFED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41C67-299D-4BF8-BC1D-7E7D3A70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CA18-356E-4D85-A37A-C6109E10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20F8-E67E-4C51-ABC5-659A082C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C7A95-BB8F-48F4-B62B-3C220FD8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4AF3-39C9-4424-9312-260A9B5A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EF88-1266-4D16-9C40-3426168F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A0B52-4B54-4D26-B473-2B3A9EB1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5A834-E953-4AF0-93B7-4F7E70C7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EFD35-D977-49A5-894A-A2CBDA9B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C0FB8-4BE0-4911-AA73-92323E63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35987-0402-4C90-A041-A74FFE3D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90D6E-05ED-4CBB-8653-3BFF87D4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17685-9965-4E0B-B8D2-4734A6C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18315-6964-42B1-8944-5D98356B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568C-2249-41A4-831C-DD1BDF4B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FF287-9EB1-4E7B-B78B-75C0962B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FED6D-ECFA-4038-A301-EF635B08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8706-B2ED-40C4-8670-177F8041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94314-E6D4-4380-AEC3-B15DBAE3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28CAB-F793-45BE-BE04-E4595D3C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ECAF-C1E2-402C-BBC2-AE2D504B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E92DB-0050-4FA9-B49A-2F7644F7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BF85-E0F3-4B5A-81D4-E224D489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FFE7-201F-47BF-B753-2C566F7C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0E29D-2F13-4CBA-B4C8-E61ED985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E3C31-D196-4CB0-B113-144DF684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3407-7B69-49A1-8240-050C3495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48598-489D-4A71-85AF-899AA9A0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C59E4-AFD8-4172-83EF-44069012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72DE7-A03C-46EE-9594-04A879F0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9AB75-78D8-4CF2-BBFB-FF1451D3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FD820-187A-4B56-897F-4948DC04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82B1B-0D81-4CD9-870F-89B7D4DA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0B96B-C80E-4340-87C8-517AB3F3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ECAE6-7236-4F3D-9B56-C5354340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ACD0A-8718-40C7-B956-F21B69E4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049AD-73AE-4B4B-B3FA-A1118B5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8226-69EA-4E25-9B2D-B5CEC39C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91A55-10AD-4C9D-A076-A21E7433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EDDDB-FB1F-4AF0-BD8F-48115476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840C5-BE4C-4440-A34F-56DE2358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51DF4-851A-45C9-B641-66F33B2A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7BE2F-D168-4416-9694-FEB270DD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725B7-25BB-487D-9020-E2E76959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5FE2D-24BA-4E62-81E5-9B47213A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8E5-8A2B-4BF8-95EC-EEB5F877562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1AC2-C629-4286-8338-2C93FDB9A89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AD8C-8734-4321-9152-835FB4D42305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F0EF-C306-4ACC-B422-8677282AF47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AB5F-0C1F-47C4-84A3-765F67324F7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8E69-7724-4F5E-911B-E739A8CA4A8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880B-B06B-4640-A033-CCFE6BAFBCB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238C-429F-4BCC-A217-DD1D5457BF9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14B6-0703-4069-AD0D-C462A6E74C5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AE91-3A65-41EE-894A-4AD27AB228B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the instance of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633240" y="1981080"/>
            <a:ext cx="7877520" cy="4305600"/>
          </a:xfrm>
          <a:prstGeom prst="rect">
            <a:avLst/>
          </a:prstGeom>
          <a:ln w="0">
            <a:noFill/>
          </a:ln>
        </p:spPr>
      </p:pic>
      <p:sp>
        <p:nvSpPr>
          <p:cNvPr id="473" name="자유형 4"/>
          <p:cNvSpPr/>
          <p:nvPr/>
        </p:nvSpPr>
        <p:spPr>
          <a:xfrm flipV="1">
            <a:off x="3786120" y="5714280"/>
            <a:ext cx="1500120" cy="142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아래쪽 화살표 6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아래쪽 화살표 7"/>
          <p:cNvSpPr/>
          <p:nvPr/>
        </p:nvSpPr>
        <p:spPr>
          <a:xfrm rot="1502400">
            <a:off x="3050640" y="24591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628560" y="1714680"/>
            <a:ext cx="7886880" cy="4324320"/>
          </a:xfrm>
          <a:prstGeom prst="rect">
            <a:avLst/>
          </a:prstGeom>
          <a:ln w="0">
            <a:noFill/>
          </a:ln>
        </p:spPr>
      </p:pic>
      <p:sp>
        <p:nvSpPr>
          <p:cNvPr id="479" name="자유형 4"/>
          <p:cNvSpPr/>
          <p:nvPr/>
        </p:nvSpPr>
        <p:spPr>
          <a:xfrm>
            <a:off x="3857760" y="5038560"/>
            <a:ext cx="500040" cy="5716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아래쪽 화살표 5"/>
          <p:cNvSpPr/>
          <p:nvPr/>
        </p:nvSpPr>
        <p:spPr>
          <a:xfrm rot="16200000">
            <a:off x="749880" y="4788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(left, right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2571840" y="4143240"/>
            <a:ext cx="500040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2571840" y="207180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DrivePatter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2376360" y="1900080"/>
            <a:ext cx="43912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Patter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95" name="모서리가 둥근 직사각형 4"/>
          <p:cNvSpPr/>
          <p:nvPr/>
        </p:nvSpPr>
        <p:spPr>
          <a:xfrm>
            <a:off x="2571840" y="4929120"/>
            <a:ext cx="50004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572000" y="214308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214200" y="214308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Positio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419200" y="1857240"/>
            <a:ext cx="4305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Positio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507" name="모서리가 둥근 직사각형 4"/>
          <p:cNvSpPr/>
          <p:nvPr/>
        </p:nvSpPr>
        <p:spPr>
          <a:xfrm>
            <a:off x="2571840" y="2643120"/>
            <a:ext cx="500040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442908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643200" y="1000080"/>
            <a:ext cx="4991040" cy="56577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035880" y="18216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3036240" y="367884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아래쪽 화살표 6"/>
          <p:cNvSpPr/>
          <p:nvPr/>
        </p:nvSpPr>
        <p:spPr>
          <a:xfrm rot="16200000">
            <a:off x="3035880" y="467928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2359080" y="1928880"/>
            <a:ext cx="4875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Positio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Z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Patter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Patter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1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Driv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driv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1"/>
          <a:stretch/>
        </p:blipFill>
        <p:spPr>
          <a:xfrm>
            <a:off x="2386080" y="2852640"/>
            <a:ext cx="4371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imulation environment and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2371680" y="2100240"/>
            <a:ext cx="4400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23Z</dcterms:modified>
  <cp:revision>928</cp:revision>
  <dc:subject/>
  <dc:title>슬라이드 1</dc:title>
</cp:coreProperties>
</file>