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3FD0B-3985-4911-B342-26C92FF2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C59FB-0582-42B0-B6DF-BD22FC9B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CCE7C-9A37-4C0E-8322-EADFE31A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751DA-8D15-4099-B149-13F1056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6DA05-21A5-4427-8A9A-E64B04F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C8118-3876-4813-BEB3-C79D99A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B19A-30D6-4491-896C-3274FC18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AFB51-CAEC-4BC7-9AE6-973C70BE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68CA8-98A8-4B23-B9D3-B77D2E91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7ACA8-79E6-48C0-96B2-4AE0ECEE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3DD34-1BA7-4D2F-A626-F11C9D72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0A2D2-944E-46B2-A135-08AC77D6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6B754-4EB9-49E5-90D9-3FA24AEB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9143A-8EE0-4B39-AB0C-4C8032D8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11E71-A0BB-425E-9B73-4D194E1F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EA09F-99E0-4D4B-AD41-411100B2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092E3-3F67-400A-9137-B546756F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9C0B-4FB7-4171-BF22-AB0D923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6C71B-01C9-455E-BD3E-2B4C65D5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054F7-E5A3-42B1-AAE7-A154C5B1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14862-5785-45AB-BF58-7955A7C4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1793C-8825-489F-A86D-CAC2E1C0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36639-3DB9-4063-AE2E-38061423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32803-E112-4311-952E-C5F24755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E6797-8B08-42F8-B623-2F4B14E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461E3-C021-417B-84E0-DF0B1196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EA5A0-EEA0-45B4-86BF-BB19612B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06E4B-C548-475B-AC29-15E97097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F1ECE-2FAB-4A39-92B1-09B7739B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486A4-B6BC-44CD-ABCE-9175923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13886-25E3-472B-85F8-D6970062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901A1-BC43-43A4-95BD-D8B97081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62CCB-7A54-4484-BC28-0721D288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84C-2796-47DE-BC3A-259ABAFA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AB0-C4D0-4AB4-8FEE-C0326CD2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DA9-691D-40DC-A487-367AD1F6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848-FF73-47DE-9A3E-3517F5A5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278-3D98-4F74-8230-3F84EE51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8B1-1535-403A-A275-496FDB51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8F0-32AD-4D8F-8A78-227AAE7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1DF-4CF5-4323-8386-6E34219B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561-2766-4FA8-B35C-FC435E2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085-0812-4129-B572-9687AC41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583-D613-4F91-A3BD-77C0B18D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AC4-63C0-4CB5-B2A7-51402844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A0B0-71BD-4ECE-BD5A-1CD2630E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7F72-E67B-4530-B411-CC085680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4A14-3953-4E57-921F-4F75E11B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E4D4-45D1-434F-9A27-BF3EA56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1F18-297D-4148-98C8-F0F16AC0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768F-30A9-4C84-A2C2-10136C6D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0EFD-47D4-4295-B017-7E4DB69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4F59-C9D0-4E1E-B6BA-EB88FEA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8D65-9B4D-4C16-AF4E-295932C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A7E7-75EC-4E98-87FB-361D94C5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E9DB-CF98-4B33-8873-9404631E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B0CA-9ADB-4B2C-9B8E-CE8FD08C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FEE2B-AAD3-4978-9636-D585680C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97250-602A-4D7D-82E6-F5B3211A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36D8-A572-43A3-8A51-B819FFF7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1BA3-B462-4E8C-A49B-7DBBFA1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91BE-D987-4DD0-9F43-6F55F59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8724-9717-40B4-B16E-9473F91C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4C29-94AA-4B03-A4A5-EFAD31D1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80269-2DFF-4747-8DC4-14AC46D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6C99-75DD-4BC8-8809-E7295D5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9072-7D37-4689-9C92-2A38E862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0AD9-72BC-4885-8B6B-C8BEF2BA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D785-F3D9-4AEA-94A1-804F9922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5112-1959-44A1-86CC-B4A8ABCD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734E-A37A-4B44-878A-A01CC27C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6EBF-428D-4756-A469-4A8288C2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D9C1-F9F6-4A56-AC74-96ED0C76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1959-24CA-4A22-A0BE-5C118395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C0708-5EFC-4AB2-A2D1-5E37C376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53300-71AF-40FA-9091-07C9434D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0222-091A-45D1-A674-5194CBB9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D5AA-DF7C-4E14-9643-17E659A6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4635-886A-498C-AC0C-A6DF73FA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15B8-4C7F-4F44-B94D-32DE6D2F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CFF8-8DFE-472B-98B7-8C37731F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C3F9C-FD06-4916-ACF5-CDD971D9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89055-A5B1-4647-A994-030FB550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DBD1-04EB-4B2C-B17D-CF253DB1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3568B-9E71-4960-A9B2-EA29B1D4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A6E9B-DEB7-4029-A669-864097EF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4C8BC-2833-4EAC-B2D3-6C4DDC6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0AE1A-6E52-418A-A8E1-93131EB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5339-7921-464D-99FD-75FEBF0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EAD2B-A321-4A2B-9EEA-0D90ED17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4AC50-6541-4E27-BAD6-502A3C5A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EC57E-0ABB-4054-BA64-56F12DD5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77F4-AD95-4D4A-92BA-EC2ECCD1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2FABD-FC1D-401B-81E0-16B64932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9C2B7-658E-4A92-BF08-983F5430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DDFEC-9EEB-4107-9926-0F85FEA2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94E5B-D5C9-4D78-A7F8-18D620AF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22C7-21E4-41CA-AB26-9729EB62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9C536-73C6-46A7-A5DE-376667FF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C46FA-0C1D-495A-92B2-29D435F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64EE6-BF0D-46CC-AE6F-1426203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199B-ED46-45CA-977E-0613994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3BAA4-4D0B-438B-BDE4-9C424DE0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91291-8BF1-4252-B851-5810B8F9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8025A-2DF6-46CF-B5B5-C6D3F2AC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26D65-D438-4919-A350-1D96CF4D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96AAC-1179-4B4B-A20C-68F7F35D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A81AA-0F6A-488B-9E33-9B31E1C6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7B59-D41F-4A5D-AB72-A184C4BB75F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AA87-1E60-498E-A4DC-1D2852682B5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3C7-4237-4925-9E2C-CC4A154173B9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5FEB-5C7B-4EBB-BBEF-1C951F7755E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8AE3-A5BA-4896-9E1C-3B2E253372E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26D5-954A-475B-A891-84D0C338B11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467F-771B-456F-BEA3-90AE8B7F526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DCDD-7C95-4C9C-8AB3-840B3046F65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E08B-7898-4FE7-B385-E4F004EE1B5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05E-70AA-4772-9A8E-8D84412083A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2247840" y="2376360"/>
            <a:ext cx="46483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642960" y="1933560"/>
            <a:ext cx="8096400" cy="4067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자유형 5"/>
          <p:cNvSpPr/>
          <p:nvPr/>
        </p:nvSpPr>
        <p:spPr>
          <a:xfrm>
            <a:off x="2571840" y="3857760"/>
            <a:ext cx="1714320" cy="1285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53568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ApplyForc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3714840" y="1643040"/>
            <a:ext cx="4562280" cy="483876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10752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571840"/>
            <a:ext cx="80722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4000680" y="29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132156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1704960" y="2143080"/>
            <a:ext cx="55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pplyForce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m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1.Forc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cm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ontrol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ontrol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319480" y="2838600"/>
            <a:ext cx="450504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9" descr=""/>
          <p:cNvPicPr/>
          <p:nvPr/>
        </p:nvPicPr>
        <p:blipFill>
          <a:blip r:embed="rId1"/>
          <a:stretch/>
        </p:blipFill>
        <p:spPr>
          <a:xfrm>
            <a:off x="566640" y="1981080"/>
            <a:ext cx="8010720" cy="3591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자유형 5"/>
          <p:cNvSpPr/>
          <p:nvPr/>
        </p:nvSpPr>
        <p:spPr>
          <a:xfrm flipV="1">
            <a:off x="1857240" y="3714120"/>
            <a:ext cx="3143520" cy="9284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39290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50640" y="224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18:26Z</dcterms:modified>
  <cp:revision>986</cp:revision>
  <dc:subject/>
  <dc:title>슬라이드 1</dc:title>
</cp:coreProperties>
</file>