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B5F3C-D66A-4B6D-96E5-6711D738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080E4-7FD8-41A1-A088-1FEBA47D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9CA06-06DB-4F3F-B6A7-EE0F1F3D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30BC6-9460-4A1F-88D6-EFD47F96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05A9C-84CC-429A-85FD-D4841E98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712C7-BDB2-4568-8D5D-F7866178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AE16A-9D28-4404-A236-18749C4F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9924C-4D2E-43F9-8EB2-1DC5D71B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56AB5-E44A-4219-BE64-9A8995D7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86649-7FDC-4514-A550-F89EEDBF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A62AE-773C-4AEE-A110-90ABDEEF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763C8-02AA-4983-B329-93499893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C997E-84E3-4BA9-B623-474ED347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2295E-9CBC-4382-9629-F6501C6E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ADAF8-77C7-4B67-94F0-13CAF985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B67DD-F62C-42DE-B54B-22270CC0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67F30-F4D0-4B87-B93A-D6835052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3040C-D747-49BA-83D6-1D512B36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B62ED-7200-411D-B03E-53D4D26B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30254-A423-403E-A9C0-C8C69050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B3F75-007B-4CDE-8B80-C51605B1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DC37D-63C9-4D1A-BB13-6FB098A6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4ED9A-D1CC-4911-8078-9D966CC5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58911-FFDA-4064-9F42-A1204D92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63FE4-DABE-4C41-B281-EB1B21EE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C1DDC-1CD8-437C-98F4-F5C64536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47CCC-3A46-4B8D-B2B3-034CE3C8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F84E7-0D1C-477F-89AB-87851A16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E8470-4D0E-4220-A85D-E5B36B6E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FE41F-9EBB-4004-A5FE-9747E540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1BF7D-03D7-482D-BA41-13515BD0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6AE2C-8BE4-4B69-BA59-6C844626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4F221-308A-4E4F-BE9D-07A71C82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126-9A27-4DB5-A688-97CC7D80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E38F-71A8-42B7-9D07-31545BCA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44E6-11A0-41BC-A452-052B8247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9B6B-9419-4588-BDE7-120DCB53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1B0A-C308-411C-BF28-9E5A8190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6424-C89D-49C6-99FC-74DEF1BC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0545-6013-4F94-A7AA-56A7A97D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648F-C1DB-4528-9CD9-A5D24560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490-ADAF-4607-851B-AAFFAAEC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B70B-EF75-46DA-8F2A-2A8A8033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413-D82D-4CFC-BF7A-3C5605CD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D4F-71C9-436C-B6A2-F29BC5A3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E756-762D-43B2-9570-C8B3EC0C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3203-2685-484D-B1BE-164E2F22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75E4-FB01-4389-8E1B-87A66CDC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CEE4-5EEF-4F72-9517-A0C44DEF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1F4F-56E8-4D63-9660-3315AA8A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06E9-C2D9-4EF5-A2AA-3659A7F2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9C83-E27D-4C06-9C8E-7C1D91A0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5D6B-B563-461F-8141-058A75AB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ABF6-AF3B-4422-905A-F7D5BCAA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7745-F164-47CD-A21C-3619B175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CB0F-60DD-4E5D-BEF1-40FBE1DD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D9FC-1F75-4603-B830-6CE29F91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488D7-1DC1-4C1C-9D78-580BFF01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DE65B-22BC-4CD4-B58A-4F917397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DFD3F-B4D1-46F1-9124-E060D69A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DE885-3CF1-40E7-8247-9122B403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68D44-59F9-4F15-BB66-0C0B22D5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0412E-D559-4950-AAC8-58284E2C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A18DE-9518-403E-A6E9-49F1CDBB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A5526-B5FC-4E79-9A08-B205454C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9AF2D-447D-4D48-B7EE-052E7F1E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5354A-2A6D-492D-97FB-0B9CBA48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D1B8E-2369-4B0C-9889-8AAE771E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F0F40-873C-43AB-8BE7-154C24FF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62C21-1880-461A-8D83-54EAEC50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8DF6E-976B-45AC-B63E-7FC6F315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E439B-B9F5-44FC-A761-633912D5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3BFD5-5FE0-468E-8D5F-4F9DFCFD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F2527-7917-4BCD-9A1A-54D70050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7D4C5-5732-467F-A950-612D7BBC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BCFE7-AA1A-4F2B-B1FC-EEAE603E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2FEA0-D63F-4C48-83C0-08D40C8D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6F935-028F-4A96-BD20-C8B876A3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3DCA8-59E8-43D3-BAD1-BD89F8F4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69081-599B-40CE-9853-B0ED532D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E553A-F8BD-4036-AF64-3A339075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AC8D3-2B44-472F-A480-D40E05A4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F4E4B-630E-4EF4-9903-D6F864A7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A1197-ABCC-4791-9310-6CBADB16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D051C-0549-492F-8731-91CB7064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675F6-9D80-409E-8C23-3BFCF17A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F3BE3-1DD8-4CD8-9AFD-08D029A6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D91E2-0206-4A4B-9AD8-9FAD2D5B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579F6-A4E8-487C-B958-007984EE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4D7D1-6871-4F02-BC30-0965A366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94333-A9CC-4CBA-A269-65D2A70B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DCD9B-241B-4D3E-8834-BA117487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118AF-0878-474E-A806-1C33A05F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0DB4E-8EEA-4953-B548-850F15D2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B2E5B-4DA4-4D22-9883-DBA6F94A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D168F-7B56-4640-BE74-6B139715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C0156-8AB4-4205-9B68-7911D784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7E8CA-1C10-48FB-8A11-AA44AF6C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C1FEF-DF98-4E09-B39C-6156533D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AF95C-37C7-4B95-89ED-69312DB8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6FDA6-A5F9-4257-80AE-91607B6A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4FFC9-1C5F-43EC-96DC-AAE83567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2FE90-6563-4F1B-8966-29CBE008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64336-21B2-4B74-80A4-F21D1DF9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7A72A-C03D-4E45-9E39-951B5C5A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1CB26-E599-4CF7-BE35-7E2AD9B2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4A057-0D95-4191-8B14-151F5EA2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7464F-11DD-4ACD-A156-35002509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559F-EFD1-4472-9CD7-8615EB62FD4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CDAC-9DC6-4F7D-B249-6E4EBAC7DB2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EE57-02C4-446B-A819-097CFD814C61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4411-35FC-4375-9FC0-749E65C1DBE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D6E7-1C52-47F2-A8F4-3C544FD2FF7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E62A-2E09-41EC-9E43-7DEB68869E4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DD77-7366-4C9D-8DCC-9C518F9BC31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3661-C26D-4819-A57F-A67485A9249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209C-A14C-43F1-8AD1-4B3A6C44905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819A-6D63-4C61-9F12-2D4992EC752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im environment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dumy entity to check whether sim engine is starte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2247840" y="2376360"/>
            <a:ext cx="46483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WaitForEntityCreation” and “WaitForServiceCrea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6" name="Picture 7" descr=""/>
          <p:cNvPicPr/>
          <p:nvPr/>
        </p:nvPicPr>
        <p:blipFill>
          <a:blip r:embed="rId1"/>
          <a:stretch/>
        </p:blipFill>
        <p:spPr>
          <a:xfrm>
            <a:off x="642960" y="1933560"/>
            <a:ext cx="8096400" cy="40672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8" name="자유형 5"/>
          <p:cNvSpPr/>
          <p:nvPr/>
        </p:nvSpPr>
        <p:spPr>
          <a:xfrm>
            <a:off x="2571840" y="3857760"/>
            <a:ext cx="1714320" cy="12859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아래쪽 화살표 6"/>
          <p:cNvSpPr/>
          <p:nvPr/>
        </p:nvSpPr>
        <p:spPr>
          <a:xfrm rot="16200000">
            <a:off x="535680" y="3607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splengin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ApplyForce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2" name="Picture 6" descr=""/>
          <p:cNvPicPr/>
          <p:nvPr/>
        </p:nvPicPr>
        <p:blipFill>
          <a:blip r:embed="rId1"/>
          <a:stretch/>
        </p:blipFill>
        <p:spPr>
          <a:xfrm>
            <a:off x="3714840" y="1643040"/>
            <a:ext cx="4562280" cy="4838760"/>
          </a:xfrm>
          <a:prstGeom prst="rect">
            <a:avLst/>
          </a:prstGeom>
          <a:ln w="0">
            <a:noFill/>
          </a:ln>
        </p:spPr>
      </p:pic>
      <p:sp>
        <p:nvSpPr>
          <p:cNvPr id="483" name="아래쪽 화살표 4"/>
          <p:cNvSpPr/>
          <p:nvPr/>
        </p:nvSpPr>
        <p:spPr>
          <a:xfrm rot="16200000">
            <a:off x="3107520" y="5607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reateEntity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6" name="Picture 6" descr=""/>
          <p:cNvPicPr/>
          <p:nvPr/>
        </p:nvPicPr>
        <p:blipFill>
          <a:blip r:embed="rId1"/>
          <a:stretch/>
        </p:blipFill>
        <p:spPr>
          <a:xfrm>
            <a:off x="1928880" y="1643040"/>
            <a:ext cx="6010200" cy="4905360"/>
          </a:xfrm>
          <a:prstGeom prst="rect">
            <a:avLst/>
          </a:prstGeom>
          <a:ln w="0">
            <a:noFill/>
          </a:ln>
        </p:spPr>
      </p:pic>
      <p:sp>
        <p:nvSpPr>
          <p:cNvPr id="487" name="모서리가 둥근 직사각형 4"/>
          <p:cNvSpPr/>
          <p:nvPr/>
        </p:nvSpPr>
        <p:spPr>
          <a:xfrm>
            <a:off x="642960" y="2571840"/>
            <a:ext cx="8072280" cy="3500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0" name="Picture 6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4286160" cy="36860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2"/>
          <a:stretch/>
        </p:blipFill>
        <p:spPr>
          <a:xfrm>
            <a:off x="4000680" y="292896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6" descr=""/>
          <p:cNvPicPr/>
          <p:nvPr/>
        </p:nvPicPr>
        <p:blipFill>
          <a:blip r:embed="rId1"/>
          <a:stretch/>
        </p:blipFill>
        <p:spPr>
          <a:xfrm>
            <a:off x="1928880" y="1643040"/>
            <a:ext cx="6010200" cy="490536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5"/>
          <p:cNvSpPr/>
          <p:nvPr/>
        </p:nvSpPr>
        <p:spPr>
          <a:xfrm rot="16200000">
            <a:off x="1321560" y="2464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1704960" y="2143080"/>
            <a:ext cx="5548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pplyForce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AddNewEntit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Position: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\n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AddBoxShap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Dimensions: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Mass:0.1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plengine1.ExecuteScriptText(s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m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ent1.Force(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.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)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plengine1.ExecuteScriptText(cmd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entity_control.p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entity_control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cript for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4" name="Picture 5" descr=""/>
          <p:cNvPicPr/>
          <p:nvPr/>
        </p:nvPicPr>
        <p:blipFill>
          <a:blip r:embed="rId1"/>
          <a:stretch/>
        </p:blipFill>
        <p:spPr>
          <a:xfrm>
            <a:off x="2319480" y="2838600"/>
            <a:ext cx="450504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SPLEngine” comman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6" name="Picture 9" descr=""/>
          <p:cNvPicPr/>
          <p:nvPr/>
        </p:nvPicPr>
        <p:blipFill>
          <a:blip r:embed="rId1"/>
          <a:stretch/>
        </p:blipFill>
        <p:spPr>
          <a:xfrm>
            <a:off x="566640" y="1981080"/>
            <a:ext cx="8010720" cy="359100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자유형 5"/>
          <p:cNvSpPr/>
          <p:nvPr/>
        </p:nvSpPr>
        <p:spPr>
          <a:xfrm flipV="1">
            <a:off x="1857240" y="3714120"/>
            <a:ext cx="3143520" cy="92844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-19800" y="392904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아래쪽 화살표 7"/>
          <p:cNvSpPr/>
          <p:nvPr/>
        </p:nvSpPr>
        <p:spPr>
          <a:xfrm rot="16200000">
            <a:off x="378720" y="43214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아래쪽 화살표 8"/>
          <p:cNvSpPr/>
          <p:nvPr/>
        </p:nvSpPr>
        <p:spPr>
          <a:xfrm rot="1502400">
            <a:off x="3050640" y="22446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30T05:18:26Z</dcterms:modified>
  <cp:revision>986</cp:revision>
  <dc:subject/>
  <dc:title>슬라이드 1</dc:title>
</cp:coreProperties>
</file>