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8.png" ContentType="image/png"/>
  <Override PartName="/ppt/media/image7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7411DD-8EE5-43D1-8DA5-EAE95FDD3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B996D5-0890-4725-A835-F2E4F815C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6A4D3A-CF02-4338-A01B-310006DA9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1BBB4B-F020-4A47-9F46-BA0DEA55E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D850F6-2DAE-4206-9A40-C032CD56A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75EC4B-A9F4-44C2-A661-FD04D2E57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BA5428-8870-44EC-B04D-1A82BC138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5D7A90-35E6-4327-91F3-F061700C0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2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3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B164F3-62A6-41CF-BBE1-C0689D3FD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8C7473-FD16-43F3-808F-9EC9FD743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4E8BF9-E419-4C55-B886-35FEBF779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884AF6-41F9-48BD-9791-8BA6B3171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5293BB-E000-46BA-939B-5C5E1D3BD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959FF2-21D4-408A-AB6F-A1C0F806B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0783CD-676B-40E9-9804-C1800777F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96C285-61AD-42F2-B5BD-FA7202406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A70137-F4B8-4DAD-B481-3FD7F6676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01A1BE-1251-46C4-95B0-D91AC20FA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E06719-C823-4DCF-81F4-4C00AB72B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9906B5-AA52-4824-909B-6337A100C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4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00E48D-A7EC-4E4F-9AC9-B962DA6E2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664081-6216-424C-80E1-8AA86069A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5BDE7A-1FAF-4AF4-8D6C-3638F8C3D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EF79AF-5789-47DB-ACFB-EC6CEF25F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46F877-AF80-4E82-87CB-A3AA9B198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BB40AD-AF73-47B6-9BA6-6480343BC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6E6EE8-8072-4719-A0A9-601947217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8F5026-7DE1-4169-8A5D-182BD9AD9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4375AB-CAE3-46AC-9984-2DFCFE93D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8DBBE7-3236-41ED-9774-2A5E04BB8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9C590A-4E57-48A5-8F8E-0FC3CA4D2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3AF07F-FF82-4220-A708-42D23B9FB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4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5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BE765B-ED9C-4EA8-8E99-1307091D4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6FD33-53A4-47D7-B734-6FACC9254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6E11F-676B-4CD4-8338-3EF0C601D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DCC1A-1E58-4345-8D2A-04B92FD86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55B33-784D-413D-BB96-24CBB1AFA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0A883-D7E9-4B7B-977C-D10042F3A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1DA8A-9CE5-47C4-81DC-335B5CFC2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716FD-C770-48C3-B614-CED36AB79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D9939-C987-42D4-A126-1B5D56667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29FC8-73AD-4A03-A9A0-6EDDD0F42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D4F85-3454-4841-9B9E-B50915E93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065EF-DF23-4F14-A102-205DA736C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00965-4C8F-4F19-A14E-593110892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18AE9-74F8-4222-84AB-FFCF96918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09CCD-F4A5-4582-BEDA-FB4F2A517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BFABA-34AB-48E4-BC83-B81F7F551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8872F-2FD2-4367-9844-197111C16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E3F83-8BD8-4A2D-BEFE-FD3C06958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0B3F9-22C9-4A7F-A711-71684771F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970B1-0180-4D4D-B87D-DACE10D3C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9D80D-67DD-4ACE-9B85-C0047E85F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FECA5-DB7F-424B-AFC2-0D41947E8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B5C22-F8B2-489E-B309-E5101DF95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F7186-1B8D-4E68-BE42-8EA447277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E323C-CD2B-429A-8C53-DA97D6A4F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CF88CE-C009-4ABC-A9AA-27E0D6860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C63F49-0951-46BF-9B08-AB630856A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E2A547-9917-4A42-A54A-6AB6EB8F5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18670A-2044-4BA7-844F-8E3C9EFF1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B827B6-657C-43D5-A0A1-842057AFF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A11735-2A5E-4A8A-A0BE-7B90EC93D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1EFD09-003E-4370-AF02-DA40E3D3A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2D8BF9-FFFA-4A85-B266-6A7066E39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D2075E-FE7F-47BD-B49E-64856F753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4EB48B-DF3F-4868-B536-343AA915C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C9B178-BCED-4816-BF26-0F139E6F4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DBAE3E-FC6D-41C3-9029-3DC1C4D19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5964E1-C94D-456C-948F-3CD223B11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E5636C-D07A-4BEE-9A06-289B9F31C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408FF0-2148-4DDF-8086-475CEC607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928B2E-5630-4797-ABB5-41EDC4CE1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5BF1C2-ED85-46C5-811C-A3491013D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708D04-FF2E-4485-85CF-F3B05A725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3BEFA8-FF8C-423F-B85D-7A50BB433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F4391D-FE35-4548-89D7-2CA4916D8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147C0F-5CA4-4F44-8F5F-A2375DFB1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3327B2-DE7A-4F00-8F90-402F114E3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97A329-81C9-4D47-BB10-8E9AC0C09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FF6C7F-C1EC-4C2B-8039-61270A1F3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F32200-4BF9-498C-92B9-1EBB18F2B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665200-59F5-4C25-8843-AFCF4DFB5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24C49A-3959-4BB5-A75A-5287BC95C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B344C9-BD12-447C-97E2-8953A44AB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4294D7-8547-42DF-92E4-7A718832C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BA9EDE-C79B-44CE-8476-202F0C81B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BFAD98-32A3-484F-8C0B-E561EA439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7D9F9B-4EC6-4236-8543-91F3A7590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0C40CB-3426-47FA-A0F1-A2D3E8CDA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B3C106-527F-4190-8F4F-99C1CE99E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19DB9C-7195-459A-B3A7-C951A998F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97C34F-0356-46D4-B64C-9D4D53A8F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8BF624-1020-4C56-B7BB-452A8232B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66DF13-7202-41AF-8408-D4584347D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DDEDBA-1C16-46A1-A675-6F977D192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50A9B1-EA49-48A7-9E9B-7319EA45D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C02559-60EB-4C18-A9CB-E90802987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E26B0A-243C-4523-83A2-07F376B31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3D0614-9C3F-4BC2-B22B-6CC7A8D3F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B5435E-3C69-45C4-AD23-158182A36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887480-C979-4733-AE11-E1D142183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B6A8ED-ACCC-4DE2-BD41-74A369668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CFE3D5-FD18-433D-89D0-8EB21CED7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A8B395-88D0-4E8A-AA62-3E3460BC4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DA3AEC-33B8-48FC-9DA5-C71B07D68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D29433-5E8D-4261-BF56-F2002DFDF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EDB4E6-96BE-4DDE-B924-D707431F8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 type="sldNum" idx="24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04559-A397-4FA0-B631-C67B8E83C847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 type="sldNum" idx="27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2D021-42C7-47BC-AE98-50A266C2F564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13"/>
          <p:cNvSpPr/>
          <p:nvPr/>
        </p:nvSpPr>
        <p:spPr>
          <a:xfrm>
            <a:off x="3436920" y="6605640"/>
            <a:ext cx="2135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34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F200E-5251-4AB6-9BC7-986BADB74FC9}" type="slidenum">
              <a:rPr b="0" lang="de-DE" sz="1200" spc="-1" strike="noStrike">
                <a:solidFill>
                  <a:srgbClr val="000000"/>
                </a:solidFill>
                <a:latin typeface="Segoe Semibold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sldNum" idx="3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58D16-8587-401B-BD71-C5B6D7DD276B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 type="sldNum" idx="6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EEDDC-8E9F-4ED1-8C28-EAC5A4E2C51F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 type="sldNum" idx="9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C4A68-B7EA-488C-8AA3-71C1A0184E5A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 type="sldNum" idx="12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DA080-8C33-4D7A-A4B6-58635459437C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 type="sldNum" idx="15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269B8-BD83-4F84-97B2-1E0B99506DEB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 type="sldNum" idx="18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4E35B-5E1C-41BF-A4BE-27A4B868FC30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 type="sldNum" idx="21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BF4AF-13C8-46EB-A890-D74287803867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28760" y="2349360"/>
            <a:ext cx="828648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맑은 고딕"/>
              </a:rPr>
              <a:t>LRF Sensor Reaction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2071800" y="5248080"/>
            <a:ext cx="6400800" cy="125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맑은 고딕"/>
              </a:rPr>
              <a:t>Young Joon Kim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http://www.helloapps.com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8" name="TextBox 3"/>
          <p:cNvSpPr/>
          <p:nvPr/>
        </p:nvSpPr>
        <p:spPr>
          <a:xfrm>
            <a:off x="4394160" y="3814920"/>
            <a:ext cx="416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ython Interface Programming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LRF Sensor Reaction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Make a robot move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73" name="Picture 2" descr=""/>
          <p:cNvPicPr/>
          <p:nvPr/>
        </p:nvPicPr>
        <p:blipFill>
          <a:blip r:embed="rId1"/>
          <a:stretch/>
        </p:blipFill>
        <p:spPr>
          <a:xfrm>
            <a:off x="2428920" y="1738440"/>
            <a:ext cx="4271760" cy="4905360"/>
          </a:xfrm>
          <a:prstGeom prst="rect">
            <a:avLst/>
          </a:prstGeom>
          <a:ln w="0">
            <a:noFill/>
          </a:ln>
        </p:spPr>
      </p:pic>
      <p:sp>
        <p:nvSpPr>
          <p:cNvPr id="474" name="아래쪽 화살표 4"/>
          <p:cNvSpPr/>
          <p:nvPr/>
        </p:nvSpPr>
        <p:spPr>
          <a:xfrm rot="16200000">
            <a:off x="1750320" y="6179400"/>
            <a:ext cx="285840" cy="642960"/>
          </a:xfrm>
          <a:prstGeom prst="downArrow">
            <a:avLst>
              <a:gd name="adj1" fmla="val 50000"/>
              <a:gd name="adj2" fmla="val 49986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LRF Sensor Reaction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76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Add “Procedure”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Invoke “LRFEventReaction”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77" name="Picture 2" descr=""/>
          <p:cNvPicPr/>
          <p:nvPr/>
        </p:nvPicPr>
        <p:blipFill>
          <a:blip r:embed="rId1"/>
          <a:stretch/>
        </p:blipFill>
        <p:spPr>
          <a:xfrm>
            <a:off x="4714920" y="1143000"/>
            <a:ext cx="369720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LRF Sensor Reaction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79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LRFEventReaction(lrf)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80" name="Picture 5" descr=""/>
          <p:cNvPicPr/>
          <p:nvPr/>
        </p:nvPicPr>
        <p:blipFill>
          <a:blip r:embed="rId1"/>
          <a:stretch/>
        </p:blipFill>
        <p:spPr>
          <a:xfrm>
            <a:off x="3929040" y="1000080"/>
            <a:ext cx="4210200" cy="5695920"/>
          </a:xfrm>
          <a:prstGeom prst="rect">
            <a:avLst/>
          </a:prstGeom>
          <a:ln w="0">
            <a:noFill/>
          </a:ln>
        </p:spPr>
      </p:pic>
      <p:sp>
        <p:nvSpPr>
          <p:cNvPr id="481" name="모서리가 둥근 직사각형 4"/>
          <p:cNvSpPr/>
          <p:nvPr/>
        </p:nvSpPr>
        <p:spPr>
          <a:xfrm>
            <a:off x="2714760" y="1928880"/>
            <a:ext cx="6072120" cy="41432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LRF Sensor Reaction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ave and execute scrip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84" name="Picture 6" descr=""/>
          <p:cNvPicPr/>
          <p:nvPr/>
        </p:nvPicPr>
        <p:blipFill>
          <a:blip r:embed="rId1"/>
          <a:stretch/>
        </p:blipFill>
        <p:spPr>
          <a:xfrm>
            <a:off x="2428920" y="1957320"/>
            <a:ext cx="4286160" cy="36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LRF Sensor Reaction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86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Execution resul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87" name="Picture 2" descr=""/>
          <p:cNvPicPr/>
          <p:nvPr/>
        </p:nvPicPr>
        <p:blipFill>
          <a:blip r:embed="rId1"/>
          <a:stretch/>
        </p:blipFill>
        <p:spPr>
          <a:xfrm>
            <a:off x="2357280" y="1857240"/>
            <a:ext cx="4286520" cy="36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LRF Sensor Reaction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Execution resul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90" name="Picture 2" descr=""/>
          <p:cNvPicPr/>
          <p:nvPr/>
        </p:nvPicPr>
        <p:blipFill>
          <a:blip r:embed="rId1"/>
          <a:stretch/>
        </p:blipFill>
        <p:spPr>
          <a:xfrm>
            <a:off x="2357280" y="1814400"/>
            <a:ext cx="4286520" cy="36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Topics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Prepare Python Sample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LRF Sensor Reaction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 txBox="1"/>
          <p:nvPr/>
        </p:nvSpPr>
        <p:spPr>
          <a:xfrm>
            <a:off x="0" y="2214360"/>
            <a:ext cx="9144000" cy="257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맑은 고딕"/>
              </a:rPr>
              <a:t>Prepare Python Sample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Prepare Python Sample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ample python scrip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54" name="Picture 5" descr=""/>
          <p:cNvPicPr/>
          <p:nvPr/>
        </p:nvPicPr>
        <p:blipFill>
          <a:blip r:embed="rId1"/>
          <a:stretch/>
        </p:blipFill>
        <p:spPr>
          <a:xfrm>
            <a:off x="3929040" y="1000080"/>
            <a:ext cx="4210200" cy="5695920"/>
          </a:xfrm>
          <a:prstGeom prst="rect">
            <a:avLst/>
          </a:prstGeom>
          <a:ln w="0">
            <a:noFill/>
          </a:ln>
        </p:spPr>
      </p:pic>
      <p:sp>
        <p:nvSpPr>
          <p:cNvPr id="455" name="아래쪽 화살표 4"/>
          <p:cNvSpPr/>
          <p:nvPr/>
        </p:nvSpPr>
        <p:spPr>
          <a:xfrm rot="16200000">
            <a:off x="3393360" y="2321640"/>
            <a:ext cx="285840" cy="642960"/>
          </a:xfrm>
          <a:prstGeom prst="downArrow">
            <a:avLst>
              <a:gd name="adj1" fmla="val 50000"/>
              <a:gd name="adj2" fmla="val 49986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Prepare Python Sample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ample python scrip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8" name="TextBox 3"/>
          <p:cNvSpPr/>
          <p:nvPr/>
        </p:nvSpPr>
        <p:spPr>
          <a:xfrm>
            <a:off x="2238480" y="1803240"/>
            <a:ext cx="4752720" cy="42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from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datetime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import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datetime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import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time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IsTurning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=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Fals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def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LRFEventReaction(lrf):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global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IsTurning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d1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=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lrf.DistanceMeasurements[180]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if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(d1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&lt;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1000) and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(IsTurning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==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False):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IsTurning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=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base1.Turn(90,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0.3)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base1.Go(0.3,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0.3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IsTurning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=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Fals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print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'robot_lrf_reaction.py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Ready'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Prepare Python Sample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ave as “&lt;MSRDS Root Dir&gt;/UserData/robot_lrf_reaction.py”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"/>
          <p:cNvSpPr txBox="1"/>
          <p:nvPr/>
        </p:nvSpPr>
        <p:spPr>
          <a:xfrm>
            <a:off x="0" y="2214360"/>
            <a:ext cx="9144000" cy="257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맑은 고딕"/>
              </a:rPr>
              <a:t>LRF Sensor Reaction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LRF Sensor Reaction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3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Prepare basic python script and robot environmen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64" name="Picture 6" descr=""/>
          <p:cNvPicPr/>
          <p:nvPr/>
        </p:nvPicPr>
        <p:blipFill>
          <a:blip r:embed="rId1"/>
          <a:stretch/>
        </p:blipFill>
        <p:spPr>
          <a:xfrm>
            <a:off x="2428920" y="1714680"/>
            <a:ext cx="4638600" cy="4390920"/>
          </a:xfrm>
          <a:prstGeom prst="rect">
            <a:avLst/>
          </a:prstGeom>
          <a:ln w="0">
            <a:noFill/>
          </a:ln>
        </p:spPr>
      </p:pic>
      <p:sp>
        <p:nvSpPr>
          <p:cNvPr id="465" name="아래쪽 화살표 5"/>
          <p:cNvSpPr/>
          <p:nvPr/>
        </p:nvSpPr>
        <p:spPr>
          <a:xfrm rot="16200000">
            <a:off x="1892880" y="5607720"/>
            <a:ext cx="285840" cy="642600"/>
          </a:xfrm>
          <a:prstGeom prst="downArrow">
            <a:avLst>
              <a:gd name="adj1" fmla="val 50000"/>
              <a:gd name="adj2" fmla="val 49958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6" name="아래쪽 화살표 6"/>
          <p:cNvSpPr/>
          <p:nvPr/>
        </p:nvSpPr>
        <p:spPr>
          <a:xfrm rot="5400000">
            <a:off x="6036480" y="4679280"/>
            <a:ext cx="285840" cy="642960"/>
          </a:xfrm>
          <a:prstGeom prst="downArrow">
            <a:avLst>
              <a:gd name="adj1" fmla="val 50000"/>
              <a:gd name="adj2" fmla="val 49986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LRF Sensor Reaction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8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Assign “base1” into Python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69" name="Picture 8" descr=""/>
          <p:cNvPicPr/>
          <p:nvPr/>
        </p:nvPicPr>
        <p:blipFill>
          <a:blip r:embed="rId1"/>
          <a:stretch/>
        </p:blipFill>
        <p:spPr>
          <a:xfrm>
            <a:off x="2286000" y="1643040"/>
            <a:ext cx="4714920" cy="4905360"/>
          </a:xfrm>
          <a:prstGeom prst="rect">
            <a:avLst/>
          </a:prstGeom>
          <a:ln w="0">
            <a:noFill/>
          </a:ln>
        </p:spPr>
      </p:pic>
      <p:sp>
        <p:nvSpPr>
          <p:cNvPr id="470" name="아래쪽 화살표 8"/>
          <p:cNvSpPr/>
          <p:nvPr/>
        </p:nvSpPr>
        <p:spPr>
          <a:xfrm rot="16200000">
            <a:off x="1678680" y="6036480"/>
            <a:ext cx="285840" cy="642960"/>
          </a:xfrm>
          <a:prstGeom prst="downArrow">
            <a:avLst>
              <a:gd name="adj1" fmla="val 50000"/>
              <a:gd name="adj2" fmla="val 49986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2T01:18:26Z</dcterms:created>
  <dc:creator>yjoonkim</dc:creator>
  <dc:description/>
  <dc:language>en-US</dc:language>
  <cp:lastModifiedBy>yjoonkim</cp:lastModifiedBy>
  <dcterms:modified xsi:type="dcterms:W3CDTF">2010-03-29T11:17:14Z</dcterms:modified>
  <cp:revision>953</cp:revision>
  <dc:subject/>
  <dc:title>슬라이드 1</dc:title>
</cp:coreProperties>
</file>