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48E17-8506-49C8-9FFB-278CC353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BBBCA-227A-447A-BD63-C54F1AD8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6D476-563A-42E0-AACE-4D7A2E27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92371-4D28-4BAD-9EEA-16573C62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61B1E-1492-4018-BB66-16EFA2C2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7F71B-521D-4274-9221-65187A90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F3FB7-5240-4523-89BD-2B18C613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296F4-BB33-4093-A12D-B1DA5B99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16319-C0D9-42A4-BFB0-BEBC44FA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C8957-2071-4B9D-9E89-9EFAEA55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7900F-DE4B-4CA6-85B8-29F2FA5F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4CE32-E19F-4413-83C4-30ABEA3D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AF40A-78EF-4101-95C6-25261194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518DB-A8A3-4D4D-9CA2-4F2F91EA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53BE7-70A7-4D3A-829F-6FD34ACA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8B57B-C1AE-4EBF-BE05-7DB9E817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0B238-F903-420A-BAAB-350F802B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90475-753A-40EB-B0E2-2A9C945F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76588-408D-41D5-ACA6-54FC9CE8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95CC0-CC5F-4EB7-80D8-AF4C9F10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F7BC6-5095-4906-8384-254FDA8E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DE611-28CD-4C3F-B1DC-07D072EB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49E1E-A17E-41B8-8E31-A1BD6A57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49FE2-D3CF-429C-9CF5-B416DB50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E3B75-1816-407A-9F4F-072E5CCC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87F98-02DE-46EE-87DF-28CA276F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DFC1F-763D-4F6D-91AF-7772CF15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A1F90-587F-42E6-9888-65112126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DC8D1-E9D2-4C47-85DF-54DFE8B3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5C956-2837-43A6-8A7C-90080813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683D2-9C90-4C12-A4F1-6E1313F9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6468F-A90C-4A30-A554-4F3896B6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1D2EE-F921-4E71-BD25-B774CF39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751-183A-4FED-B28A-5AF47A63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A7D-49A2-43E3-B374-658F9213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443-AA1B-4508-8572-483BD19D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EA0E-4A83-4C23-BD04-EDC8C211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DE6-5F94-4BA5-BECF-49EE1601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88B-B4B5-461B-9AF3-7EA3BDE4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D1D-93E6-4416-937E-CE76317D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4B2-C9BE-4E48-9C7C-D2FD24FD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238-5308-4C97-9CD2-6E4BB6BF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0DD-C6F7-41C6-AD03-CB664361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D9B-E4D9-48F9-A259-CEE7507C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8CA-5529-44FB-82BE-3D84D37A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1713-F21C-476C-A9B4-64B68ED6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65AD-6C55-4444-B094-BB512FB9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597F-B2A0-4C70-95CE-DFF63A97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3CCD-936A-4C80-B478-4253D0A6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36D2-723B-4D5E-BE3D-20693D54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964B-58AF-4A28-8CD5-9A2B80CF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9BB7-4774-49BD-A458-153C59CE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4E22-59D6-43AB-BDC0-ECB84DF1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97F0-65DF-4EA1-AD39-8355C893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0BBC-D6C4-421E-B06F-6DD993BE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329B-5F92-47E9-A964-02DD5365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4473-38EE-440D-8C8C-63701897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899AC-0EDB-464F-A574-3E37EC3F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DFF9-D168-4E88-AFA9-D7CDA189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F9D1-5C48-46BA-9032-7C721C33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347D1-FA94-484C-B962-256DA676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062A7-5FBD-4ECF-934D-FD075141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1CB29-7EEE-4EC4-918B-77428C88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7A4F8-DC48-4A13-B9B4-C3759407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A814-94EC-491C-9C89-EA94A7D2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9C81-5E65-4A61-B1B1-3FF9451F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821FC-0B38-4A65-BDE5-6A5DA63E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7669A-F753-4F1F-854A-ECC6FD3A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B446B-FC8E-4E05-BE1D-81343EFA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3878-0999-4CAA-8F82-2B47B478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799A7-3B0E-4141-806A-0D5504E8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CDFDB-7FC3-411A-BEA7-25DEF97D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B956A-EB2C-4FD1-920F-5C0154EF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22599-8AA7-4B33-AE07-B90583CE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A50F6-76CF-4012-BBFD-108B8E69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887ED-0529-4E6D-A83D-A09B1FB8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1B7DC-84D7-425A-96A7-F3B72C8A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DA03C-C65C-4661-BBC7-6B63B0D2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2F0F4-414B-45FA-8E19-4386B6E7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0828E-51B5-4486-A90E-247CAF0B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B5DE8-F9AB-4252-A66D-93B1E207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EAFCB-0F60-44CF-B9FA-F2745593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9AA9D-FD02-4684-8DB7-1BE561CC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C78AD-23FD-47B8-B48E-DEE78A37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9B292-393F-431A-B569-9438F1D7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22E57-3A7E-4F2E-9271-D2298923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F46B5-5472-4331-A6EA-1B854110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E53A2-11DB-47C4-AEEA-9D2FA0EF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F21A0-1422-4234-812A-09310421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F25B8-98B4-4051-9F55-9126C144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20BEB-D924-4ABF-8E3A-489D128F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24C79-5CD2-46D6-AE24-E8C0CF85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0C66B-7275-494E-A680-D799816F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1FF52-D82A-4FFE-AF76-BBCC1570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97257-7E6F-4AB5-8439-EECB21F8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D8BAD-5873-4BAD-AB31-1E7B2FE2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C9C16-A9A0-4A0D-926E-47E4090B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D3D5A-DB9D-4451-BBD5-45625CC8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30A1E-6181-4040-AAF4-0A40AF5E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0AD4B-E326-4F67-A543-72DC9F56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62B2D-8AF8-4681-8DBF-78D9CC61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7ADCF-8F2E-4F7A-85D3-3337E5D9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DDBD4-FB1A-416A-AD75-EC802404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A98D4-A51E-4BD6-951A-DCF73804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47B08-4665-4AD7-9613-C0143078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35146-B707-478A-BBDD-D79B7F4F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1E9CC-4E6A-43BC-A8AF-F1DCB049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336A0-C233-44CB-ADEA-0F801456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9C08-B3AA-4926-A400-BD7EB1FAA94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5AD0-27FB-4D22-97B0-0FDB16E310A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166D-3E20-4CD9-BBE8-08CD0AE49B7D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9902-BEBA-409A-B58F-A1075F8140C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B229-5DFE-4FC8-B5C7-2E9B102C2AE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993F-D6FB-4A59-AEC0-987E323053D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0911-A16E-472F-8A26-B859D26325E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B28A-32F8-4BD7-AB93-6E12137B670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AF66-F114-4DEE-8BA9-7938AACC44A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1DD8-BB76-4455-890A-DEFB97C3840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ython Interface Programming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add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efine Python variab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243080" y="1928880"/>
            <a:ext cx="6657840" cy="3571920"/>
          </a:xfrm>
          <a:prstGeom prst="rect">
            <a:avLst/>
          </a:prstGeom>
          <a:ln w="0">
            <a:noFill/>
          </a:ln>
        </p:spPr>
      </p:pic>
      <p:sp>
        <p:nvSpPr>
          <p:cNvPr id="482" name="자유형 4"/>
          <p:cNvSpPr/>
          <p:nvPr/>
        </p:nvSpPr>
        <p:spPr>
          <a:xfrm flipV="1">
            <a:off x="2286000" y="2642760"/>
            <a:ext cx="3643200" cy="22860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423360" y="421488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아래쪽 화살표 6"/>
          <p:cNvSpPr/>
          <p:nvPr/>
        </p:nvSpPr>
        <p:spPr>
          <a:xfrm rot="16200000">
            <a:off x="1035720" y="4607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아래쪽 화살표 7"/>
          <p:cNvSpPr/>
          <p:nvPr/>
        </p:nvSpPr>
        <p:spPr>
          <a:xfrm rot="1502400">
            <a:off x="4265280" y="21733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LoadFile” method to load py fi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676440" y="1900080"/>
            <a:ext cx="7791120" cy="4743720"/>
          </a:xfrm>
          <a:prstGeom prst="rect">
            <a:avLst/>
          </a:prstGeom>
          <a:ln w="0">
            <a:noFill/>
          </a:ln>
        </p:spPr>
      </p:pic>
      <p:sp>
        <p:nvSpPr>
          <p:cNvPr id="489" name="자유형 4"/>
          <p:cNvSpPr/>
          <p:nvPr/>
        </p:nvSpPr>
        <p:spPr>
          <a:xfrm flipV="1">
            <a:off x="3071880" y="3286080"/>
            <a:ext cx="2500200" cy="19288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아래쪽 화살표 6"/>
          <p:cNvSpPr/>
          <p:nvPr/>
        </p:nvSpPr>
        <p:spPr>
          <a:xfrm rot="16200000">
            <a:off x="678600" y="4821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Execute” method to execute py fi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690480" y="1809720"/>
            <a:ext cx="7763040" cy="4762440"/>
          </a:xfrm>
          <a:prstGeom prst="rect">
            <a:avLst/>
          </a:prstGeom>
          <a:ln w="0">
            <a:noFill/>
          </a:ln>
        </p:spPr>
      </p:pic>
      <p:sp>
        <p:nvSpPr>
          <p:cNvPr id="494" name="자유형 4"/>
          <p:cNvSpPr/>
          <p:nvPr/>
        </p:nvSpPr>
        <p:spPr>
          <a:xfrm flipV="1">
            <a:off x="2347920" y="3429000"/>
            <a:ext cx="3081240" cy="18763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아래쪽 화살표 5"/>
          <p:cNvSpPr/>
          <p:nvPr/>
        </p:nvSpPr>
        <p:spPr>
          <a:xfrm rot="16200000">
            <a:off x="821520" y="4964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347840" y="195264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499" name="아래쪽 화살표 4"/>
          <p:cNvSpPr/>
          <p:nvPr/>
        </p:nvSpPr>
        <p:spPr>
          <a:xfrm rot="16200000">
            <a:off x="821520" y="5464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Invoke” method with procedure name as follow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681120" y="2038320"/>
            <a:ext cx="7781760" cy="3533760"/>
          </a:xfrm>
          <a:prstGeom prst="rect">
            <a:avLst/>
          </a:prstGeom>
          <a:ln w="0">
            <a:noFill/>
          </a:ln>
        </p:spPr>
      </p:pic>
      <p:sp>
        <p:nvSpPr>
          <p:cNvPr id="504" name="자유형 4"/>
          <p:cNvSpPr/>
          <p:nvPr/>
        </p:nvSpPr>
        <p:spPr>
          <a:xfrm flipV="1">
            <a:off x="2786040" y="4143240"/>
            <a:ext cx="2928960" cy="5191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아래쪽 화살표 5"/>
          <p:cNvSpPr/>
          <p:nvPr/>
        </p:nvSpPr>
        <p:spPr>
          <a:xfrm rot="16200000">
            <a:off x="892800" y="4321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yProc1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모서리가 둥근 직사각형 4"/>
          <p:cNvSpPr/>
          <p:nvPr/>
        </p:nvSpPr>
        <p:spPr>
          <a:xfrm>
            <a:off x="2071800" y="3286080"/>
            <a:ext cx="4500360" cy="50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1347840" y="195264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13" name="아래쪽 화살표 4"/>
          <p:cNvSpPr/>
          <p:nvPr/>
        </p:nvSpPr>
        <p:spPr>
          <a:xfrm rot="16200000">
            <a:off x="82152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Invoke(name, p1, p2)” method to call “Add” fun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700200" y="1952640"/>
            <a:ext cx="7743600" cy="3619440"/>
          </a:xfrm>
          <a:prstGeom prst="rect">
            <a:avLst/>
          </a:prstGeom>
          <a:ln w="0">
            <a:noFill/>
          </a:ln>
        </p:spPr>
      </p:pic>
      <p:sp>
        <p:nvSpPr>
          <p:cNvPr id="518" name="자유형 4"/>
          <p:cNvSpPr/>
          <p:nvPr/>
        </p:nvSpPr>
        <p:spPr>
          <a:xfrm flipV="1">
            <a:off x="4071960" y="4071960"/>
            <a:ext cx="857160" cy="876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아래쪽 화살표 5"/>
          <p:cNvSpPr/>
          <p:nvPr/>
        </p:nvSpPr>
        <p:spPr>
          <a:xfrm rot="16200000">
            <a:off x="821520" y="4679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(a,b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3" name="모서리가 둥근 직사각형 4"/>
          <p:cNvSpPr/>
          <p:nvPr/>
        </p:nvSpPr>
        <p:spPr>
          <a:xfrm>
            <a:off x="2071800" y="2357280"/>
            <a:ext cx="4500360" cy="928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  <p:sp>
        <p:nvSpPr>
          <p:cNvPr id="527" name="아래쪽 화살표 4"/>
          <p:cNvSpPr/>
          <p:nvPr/>
        </p:nvSpPr>
        <p:spPr>
          <a:xfrm rot="16200000">
            <a:off x="821520" y="4893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GetVariable(name)” metho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738360" y="1962000"/>
            <a:ext cx="7667280" cy="3610080"/>
          </a:xfrm>
          <a:prstGeom prst="rect">
            <a:avLst/>
          </a:prstGeom>
          <a:ln w="0">
            <a:noFill/>
          </a:ln>
        </p:spPr>
      </p:pic>
      <p:sp>
        <p:nvSpPr>
          <p:cNvPr id="532" name="자유형 4"/>
          <p:cNvSpPr/>
          <p:nvPr/>
        </p:nvSpPr>
        <p:spPr>
          <a:xfrm flipV="1">
            <a:off x="3214800" y="3929040"/>
            <a:ext cx="1857240" cy="5904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아래쪽 화살표 5"/>
          <p:cNvSpPr/>
          <p:nvPr/>
        </p:nvSpPr>
        <p:spPr>
          <a:xfrm rot="16200000">
            <a:off x="892800" y="4107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Variab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7" name="모서리가 둥근 직사각형 4"/>
          <p:cNvSpPr/>
          <p:nvPr/>
        </p:nvSpPr>
        <p:spPr>
          <a:xfrm>
            <a:off x="2071800" y="5929200"/>
            <a:ext cx="4500360" cy="71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41" name="아래쪽 화살표 4"/>
          <p:cNvSpPr/>
          <p:nvPr/>
        </p:nvSpPr>
        <p:spPr>
          <a:xfrm rot="16200000">
            <a:off x="821520" y="5250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Setvariable(name, value)” method to bind variab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685800" y="186696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546" name="자유형 4"/>
          <p:cNvSpPr/>
          <p:nvPr/>
        </p:nvSpPr>
        <p:spPr>
          <a:xfrm flipV="1">
            <a:off x="3857760" y="4857840"/>
            <a:ext cx="1071360" cy="5904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아래쪽 화살표 5"/>
          <p:cNvSpPr/>
          <p:nvPr/>
        </p:nvSpPr>
        <p:spPr>
          <a:xfrm rot="16200000">
            <a:off x="821520" y="5107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yProc2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1" name="모서리가 둥근 직사각형 4"/>
          <p:cNvSpPr/>
          <p:nvPr/>
        </p:nvSpPr>
        <p:spPr>
          <a:xfrm>
            <a:off x="2071800" y="3786120"/>
            <a:ext cx="4500360" cy="928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55" name="아래쪽 화살표 4"/>
          <p:cNvSpPr/>
          <p:nvPr/>
        </p:nvSpPr>
        <p:spPr>
          <a:xfrm rot="16200000">
            <a:off x="892800" y="5107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MessagePort” instance 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8286480" cy="4057920"/>
          </a:xfrm>
          <a:prstGeom prst="rect">
            <a:avLst/>
          </a:prstGeom>
          <a:ln w="0">
            <a:noFill/>
          </a:ln>
        </p:spPr>
      </p:pic>
      <p:sp>
        <p:nvSpPr>
          <p:cNvPr id="560" name="자유형 4"/>
          <p:cNvSpPr/>
          <p:nvPr/>
        </p:nvSpPr>
        <p:spPr>
          <a:xfrm flipV="1">
            <a:off x="1928880" y="4357440"/>
            <a:ext cx="5929200" cy="15192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아래쪽 화살표 5"/>
          <p:cNvSpPr/>
          <p:nvPr/>
        </p:nvSpPr>
        <p:spPr>
          <a:xfrm rot="16200000">
            <a:off x="32148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NotufyEventToSPL” procedur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428760" y="1924200"/>
            <a:ext cx="8286480" cy="4076640"/>
          </a:xfrm>
          <a:prstGeom prst="rect">
            <a:avLst/>
          </a:prstGeom>
          <a:ln w="0">
            <a:noFill/>
          </a:ln>
        </p:spPr>
      </p:pic>
      <p:sp>
        <p:nvSpPr>
          <p:cNvPr id="565" name="자유형 4"/>
          <p:cNvSpPr/>
          <p:nvPr/>
        </p:nvSpPr>
        <p:spPr>
          <a:xfrm flipV="1">
            <a:off x="2571840" y="4500720"/>
            <a:ext cx="2286000" cy="2332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아래쪽 화살표 5"/>
          <p:cNvSpPr/>
          <p:nvPr/>
        </p:nvSpPr>
        <p:spPr>
          <a:xfrm rot="16200000">
            <a:off x="535680" y="4393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NotifyEventToSPL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0" name="모서리가 둥근 직사각형 4"/>
          <p:cNvSpPr/>
          <p:nvPr/>
        </p:nvSpPr>
        <p:spPr>
          <a:xfrm>
            <a:off x="2071800" y="4714920"/>
            <a:ext cx="5286240" cy="1214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procedure template for the MessagePortHandl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447840" y="1862280"/>
            <a:ext cx="8248320" cy="4066920"/>
          </a:xfrm>
          <a:prstGeom prst="rect">
            <a:avLst/>
          </a:prstGeom>
          <a:ln w="0">
            <a:noFill/>
          </a:ln>
        </p:spPr>
      </p:pic>
      <p:sp>
        <p:nvSpPr>
          <p:cNvPr id="574" name="자유형 4"/>
          <p:cNvSpPr/>
          <p:nvPr/>
        </p:nvSpPr>
        <p:spPr>
          <a:xfrm flipV="1">
            <a:off x="2286000" y="5000760"/>
            <a:ext cx="2714760" cy="876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아래쪽 화살표 5"/>
          <p:cNvSpPr/>
          <p:nvPr/>
        </p:nvSpPr>
        <p:spPr>
          <a:xfrm rot="16200000">
            <a:off x="32148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ython Command under “Expression” tab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3" name="Picture 7" descr=""/>
          <p:cNvPicPr/>
          <p:nvPr/>
        </p:nvPicPr>
        <p:blipFill>
          <a:blip r:embed="rId1"/>
          <a:stretch/>
        </p:blipFill>
        <p:spPr>
          <a:xfrm>
            <a:off x="2214720" y="1928880"/>
            <a:ext cx="4695840" cy="4095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5" name="아래쪽 화살표 4"/>
          <p:cNvSpPr/>
          <p:nvPr/>
        </p:nvSpPr>
        <p:spPr>
          <a:xfrm rot="8464800">
            <a:off x="5456160" y="23760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1964520" y="3607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tart SPL.exe and typ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6078600" cy="4786200"/>
          </a:xfrm>
          <a:prstGeom prst="rect">
            <a:avLst/>
          </a:prstGeom>
          <a:ln w="0">
            <a:noFill/>
          </a:ln>
        </p:spPr>
      </p:pic>
      <p:sp>
        <p:nvSpPr>
          <p:cNvPr id="461" name="아래쪽 화살표 4"/>
          <p:cNvSpPr/>
          <p:nvPr/>
        </p:nvSpPr>
        <p:spPr>
          <a:xfrm rot="5400000">
            <a:off x="582228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아래쪽 화살표 5"/>
          <p:cNvSpPr/>
          <p:nvPr/>
        </p:nvSpPr>
        <p:spPr>
          <a:xfrm rot="5400000">
            <a:off x="6822360" y="3321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아래쪽 화살표 6"/>
          <p:cNvSpPr/>
          <p:nvPr/>
        </p:nvSpPr>
        <p:spPr>
          <a:xfrm rot="5400000">
            <a:off x="6965280" y="3893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아래쪽 화살표 7"/>
          <p:cNvSpPr/>
          <p:nvPr/>
        </p:nvSpPr>
        <p:spPr>
          <a:xfrm rot="5400000">
            <a:off x="5964840" y="4607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7" name="TextBox 4"/>
          <p:cNvSpPr/>
          <p:nvPr/>
        </p:nvSpPr>
        <p:spPr>
          <a:xfrm>
            <a:off x="1896120" y="1785960"/>
            <a:ext cx="54504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dd(a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dd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unction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return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yProc1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amp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rocedure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without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arameter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yProc2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amp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rocedure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using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global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variables"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1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NotifyEventToSPL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'NotifyEventToSPL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essagePort.Post("Cou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sg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ython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tr(cnt)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HelloApps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in the SPL Edito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ss “F5” key or click “Run” ic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1285920" y="1947960"/>
            <a:ext cx="6324480" cy="369576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4"/>
          <p:cNvSpPr/>
          <p:nvPr/>
        </p:nvSpPr>
        <p:spPr>
          <a:xfrm rot="2628000">
            <a:off x="3039840" y="163332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in the SPL Edito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475" name="아래쪽 화살표 4"/>
          <p:cNvSpPr/>
          <p:nvPr/>
        </p:nvSpPr>
        <p:spPr>
          <a:xfrm rot="16200000">
            <a:off x="821520" y="53935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5:55Z</dcterms:modified>
  <cp:revision>915</cp:revision>
  <dc:subject/>
  <dc:title>슬라이드 1</dc:title>
</cp:coreProperties>
</file>