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2362-856C-4BDD-ADBD-21F52325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B107-82B6-412B-8D73-67A7AE15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2D9F2-F3CB-42D7-992A-23B20403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9478-84C4-457C-A063-15CB934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E8525-3FB6-4DE0-9280-F8B9A9A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18DA-52BA-4519-9507-749C749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C9CA0-1C26-4E4E-BC94-A15D3824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862F-EAC6-44CC-9623-D270532A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EF50-0AE7-4D72-96BD-317A6E4D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8BD57-C730-43C3-8196-FE3AAFB7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7482F-2EA7-4903-84F9-F8F721E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AC63-6817-4DCF-9E55-0D5607B0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184D-70FB-4EA3-9493-D9D248B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C4F2-D4AF-4B55-89EA-A663F209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13574-1D72-4CE8-B962-93FD5D90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F238-3348-4F3E-998E-DB10A13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96AC-BFF4-4592-89C6-77553CA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8B5A7-3410-4E90-8EBF-3CF2EAE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8A9E0-41B8-41F5-B5F0-9403DBCE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1307-9853-427F-921E-BA6978DB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D882-22DC-4780-9BEA-CED9FE14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D0129-C1E5-4304-9402-CD0C7B64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A974D-A36F-46F0-974F-969B5C1E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56E43-660E-4766-9B6B-14176082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BC224-0536-4D61-B866-D34E30E1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96FA5-0E60-4CB7-91EF-E1AA5E2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29458-7F91-4F2A-AB0B-A51597E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594F5-FBF0-4D99-9611-C626BB0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B6D87-FE16-487D-9447-9BE3A4FF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ADDA5-5EA6-4A55-B274-599C7A9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0A7A4-C6CC-40CD-89A9-0799BAD6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51E6-9BA4-447A-9933-E5A39D92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541FE-6337-404B-95E9-209514BD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0D2-8E85-41B6-B749-8B098F09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036-62AF-44D0-8529-6F39C4E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95D-B145-41E6-9FE3-F137A2C8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02D-B1B3-43CA-A3EA-36A23C3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147-63AE-4F71-B0A0-DDB7098C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4A3-C64A-46A5-99DC-E2F4F5D7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159-2DD4-4B3E-B16C-637E1400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489-DD58-4E51-92A3-D282F5F1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51B-2E01-42CD-BC22-7857CB1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E70-C613-4C49-8C81-987C97F7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3D0-7BE2-46E4-B1F7-7723A17C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A52-65BE-466F-A8D7-505F03B4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CBB9-8267-4C6B-A2D0-67D6A58E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F6BA-59A8-4AA8-BA5E-5B457B35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1D11-5776-456F-9769-3FECB31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DF1D-5517-494B-9700-9E36D90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45BA-3332-430E-B593-437F625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8AB8-AB47-4C72-BFC0-7845AE5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8ED5-F30E-4407-8B1A-273A0B4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4649-CCF8-42A5-BE75-244CB63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2117-04B2-427B-B62A-21A2EAF0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B2C3-6922-4206-A077-920C96B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AB70-5C82-43EE-A3C2-E063890F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50DE-AFDD-4B4C-B505-C47D8A19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7D68-38DF-4453-B12D-DF306FC6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8A4F-668B-4D59-AF61-1BE0D79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AAEE-D421-40DA-BEB9-F0F72BD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546B-96FD-460A-9718-B73F76A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67AA-0BBA-46DE-BAAA-F24206C5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1C79-8D3B-4114-BE02-760C7F1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3EBD-13C6-45D1-8DC7-9855EB4F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B371-4FCF-45E1-B964-E0A728F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8E3F-F34B-40A7-B5F2-C030070D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0F55-64EA-407A-BC67-072FF0F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B461-DBD2-4A91-8DEC-03A3267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7D36-D1C6-47D4-8DC2-9231C880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24DE-EC8F-4CC5-9119-94F3DE59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CAC6-D20C-4B2F-B8E3-4910D09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5706-8398-4DA9-91A9-671B511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EF0C-0F25-42CB-ABBE-F6D74CE6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82D4-3591-4CB7-AEE4-31544D9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7647-38D1-4258-BCA3-3C184E1F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E079-ABE5-4F6B-9942-81D372E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1B48-0A44-424B-9CE6-4F69A1F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5313-DD82-44BA-9767-B908073A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064B-A468-4F0C-B1D9-A263A33B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1157-4C36-43A5-AE75-A500B86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07BD-C28F-4E3D-86EE-35893B19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522FD-3499-4B07-ABB3-CCEDDBEA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3A33-5A5E-4358-A5AF-B68FF445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A1F98-C9BB-45C6-924E-5EF1813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39FB-8370-4BED-A80F-C180961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E73F-BBB3-4511-A268-10216F20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BBFF-E3E5-4FF5-9674-76C5CFAD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614F0-CDCE-44C9-A8DE-7EC632D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69A4B-1F1D-4D10-BC8B-B3166D8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6124-AC1B-40CB-88E5-0A80321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BC96-EE13-4EA2-ADD0-A2B8D90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9924-5EEE-4C48-BF26-F04B4808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3A4A6-1839-42AE-B29E-28A512C9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94CD7-E797-4D54-B3AD-7D202A43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E83CF-9549-41CB-9795-945D3D7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D8BD-75E1-4D79-8917-1A4BFBA0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DEF0D-8479-4E44-8809-9B2F7B50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42B7-2EBD-4B57-88EE-88FB47D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2C09-AB56-466D-99DC-BB527A39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46F7-1B82-4729-ABB6-C2EEFC6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7432-4950-4C63-9D6A-E0E2AA5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394EB-0D83-42AA-9A64-5EE2CC9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F2B4-DCF4-4688-883B-582A9E0A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B234-EF5B-415A-8565-39CB87C6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E380-2685-4CCC-82D3-FE0E8D27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8DD5-DAD9-4F26-9985-BE36CA37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3F2B-5193-4BC9-A397-2D61839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AD56-5726-4D54-A097-31FABB9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AD82-29CF-451D-AB80-19F5F1FE6EA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23F-263C-4E7F-8CE2-E6FBF52C482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50A1-9359-46DD-895C-BA503524A671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E5D-82E6-41BF-BCCF-50890D8A575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E287-973D-4D98-9D2F-8DC5EABCF95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23D-1282-4B12-89D0-8817B72E721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F05A-2AAF-4A40-8831-0B56DD77DD4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763-612A-4FC1-93C9-B8F215E2291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C9C-EF42-4010-BB3E-1699ACCEE99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84B9-B2C9-45F6-9982-49DF0E7D4D3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9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343080" y="2000160"/>
            <a:ext cx="8458200" cy="3772080"/>
          </a:xfrm>
          <a:prstGeom prst="rect">
            <a:avLst/>
          </a:prstGeom>
          <a:ln w="0">
            <a:noFill/>
          </a:ln>
        </p:spPr>
      </p:pic>
      <p:sp>
        <p:nvSpPr>
          <p:cNvPr id="478" name="자유형 5"/>
          <p:cNvSpPr/>
          <p:nvPr/>
        </p:nvSpPr>
        <p:spPr>
          <a:xfrm>
            <a:off x="2143080" y="4214880"/>
            <a:ext cx="1857600" cy="1071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17856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reateEntit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4000680" y="1571760"/>
            <a:ext cx="4809960" cy="484812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46464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714760"/>
            <a:ext cx="807228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42861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92760" y="2678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28640" y="2143080"/>
            <a:ext cx="6384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reateEntity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ange(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i) 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.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reation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rea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181240" y="2862360"/>
            <a:ext cx="4781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8172360" cy="3781440"/>
          </a:xfrm>
          <a:prstGeom prst="rect">
            <a:avLst/>
          </a:prstGeom>
          <a:ln w="0">
            <a:noFill/>
          </a:ln>
        </p:spPr>
      </p:pic>
      <p:sp>
        <p:nvSpPr>
          <p:cNvPr id="468" name="자유형 5"/>
          <p:cNvSpPr/>
          <p:nvPr/>
        </p:nvSpPr>
        <p:spPr>
          <a:xfrm flipV="1">
            <a:off x="1928880" y="3785400"/>
            <a:ext cx="3286080" cy="10717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40719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36600" y="281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00:48Z</dcterms:modified>
  <cp:revision>983</cp:revision>
  <dc:subject/>
  <dc:title>슬라이드 1</dc:title>
</cp:coreProperties>
</file>