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0DA0A-52A4-49FE-AD46-AF9D5FD1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E3912-4A21-48ED-80E1-F98C43A8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87E91-F14D-4FD6-8D32-C5EFB06E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96F22-D8F4-408A-907A-7FB25DE5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C0C49-0201-4ECF-B035-A4514B40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D67D0-B98E-4B72-9938-6AD8A9C4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B4BAD-9A2D-43B4-AE2C-1FE62AB7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E9E9D-7FE9-4E8B-BFFD-0B1B2FF0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9EB9F-F282-40DA-AEDE-94053023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1B3B2-B2BA-4D4D-B65F-F7205F85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614D0-1A83-4DD2-A365-D81C9CB2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CC88D-D908-47AA-85E6-FBCD2ACF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7013A-B79F-47D6-8B6A-96431F39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182A1-95FF-4B39-B709-6266981E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9DF7D-1E44-4DA0-BDF3-84C24960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CD0F5-7350-43B7-BCEB-76EF0857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0FC57-F7DF-428D-9961-4D0C2202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198E2-2D24-4A0E-AF6F-2B0D59BD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1C242-6C74-48E9-AAF9-489D73AB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20529-8B42-4E78-9D05-D1BA95EA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06378-7C5F-4128-A5C5-D1C55BD6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BEC6D-D896-4915-910A-98BA7C03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B658B-1DA4-4A54-B37C-E320EFB8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3D51E-EBD0-42B2-80B4-CD392FC0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829D7-F3B0-440D-822E-563C057F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3ABF9-5C57-4BA3-8C7D-F0EF1759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9919C-98C6-44D5-9836-2E940E83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CB428-3BFD-4363-A9FB-9FC0BD6E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0F025-8B92-4BFD-A483-BAFBAD9A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60AFE-AEDF-49A5-BC77-BAC998D3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33353-2134-478A-AD57-253BEE54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EC557-8582-4990-8548-8408F7D4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2B488-230E-4C33-AC19-88EB8EE8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7DD4-B08B-4E83-8A15-20979BEF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CAAB-D378-435F-8F51-49574475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B03D-3AD0-4103-B9FB-F23CF4B6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CF6F-E8C3-4006-99C6-6BF6C131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16DE-9704-49F1-80F8-9BF515E3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872C-5479-4E02-B91E-51D54521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4B91-E1DC-48E6-A440-A8672DF5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3963-74BE-41CB-B37D-E06D8E17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231D-5327-40EF-9E20-18101A57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E687-97A1-4405-B557-5E10E053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1154-52B6-46B7-92AE-FF0611E5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CAAE-2B09-4258-AC96-611E6825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ACEF-0329-4217-BAA0-E08BEEF6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E8BC-CA65-4A72-B8F2-B9C2E4B2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47BB-E1E7-4B50-9E02-D9E1132B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0B27-662C-462F-B8F5-3B18E60D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534D-837E-47B6-896E-0F1E5BA7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2DEE-C92D-4085-ACC7-68051DA4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E9CE-2946-493A-A6DA-200CAFAD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C4E1-270D-443D-AACA-14417FC0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162D-7996-457B-BAE9-0D6BD3B0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C416-882A-486E-A172-F2DE5B17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21FA-6B0B-4BAC-8CA9-A8CF6541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9E10-40F7-4320-B44E-BAFF8E0A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2A0F4-9794-4D19-84AF-8295B93C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73FD8-BF2A-4B34-8FC5-E21C169D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A0122-7367-445D-8E45-4D529A0B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98A2F-B1AC-4120-982C-B59EE08C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46882-6331-4B3D-9623-EBC1E075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92CA2-5573-4303-8223-BE3AC224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F736E-F6BC-48AA-9763-A6662875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8106B-18BF-4770-A0E7-572B557B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85423-7027-4EE6-BB0A-057CC73F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3CA76-74A7-419F-9D6B-EAC7A975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D2209-BD89-4C0A-8B98-65C01F68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8724E-14D9-4E07-8B5C-6E3FF9D3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9DC34-027E-489F-99BC-4EF8735F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15E70-DDFE-40BB-AB45-BAABFA7C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2FA66-AE49-407E-A1C2-2241E7F1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00892-F0F0-40F6-9AEC-91A1C2BB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D6FF9-61F1-4524-98A5-5581FFF6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0E0B0-31B6-41FA-9984-F54E3740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4AA75-AA84-4740-A609-98E6CE91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43CAA-06FF-4381-A8F9-86A28CCF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0B870-CC46-4BC1-9EBA-86D317FF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A007F-71B3-4630-B8B3-AE938564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8EC4A-D93C-4649-9160-10B9FF11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A07C3-D2C5-46EF-95D5-D0ED8AD0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7E176-446A-4105-B490-682CB402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ADA1F-05A6-477E-87F6-4C018B7C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5D388-8C26-422A-B62C-437631B6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6C7F7-EC36-4B1C-B4B2-75061FA8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6765E-7F23-4237-8C55-2C7FCC91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E2DEC-988A-4A7D-A103-B960D8D7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28660-76C6-45A8-BAEB-BE698BBA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5D551-B4D8-4283-A039-EA5B43D5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F4226-90F5-4786-B87C-FD097AC4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5DE3C-DBD5-47A7-ACAB-A22A8B4A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4AC7E-4862-49B7-8C58-05436C6D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9E7AD-0A69-463C-8598-B8B6EF1A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758A8-3DE5-48CA-89D2-9A11F199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66B82-3091-402B-9DA9-8A79305A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DC478-01D5-469A-9979-5707B264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7579D-5D61-4B37-855D-7B6D4FC8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4E203-5168-460B-9C85-9E1BF9D0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33D8A-2206-47E1-8A01-FD0FB32D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E21A3-8541-428C-B956-05D6A64B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276A6-02D9-409C-81E6-797A50BF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34A12-EC60-47E3-82C0-47E04A9C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C92A7-CCF2-4556-83D9-BCED3BAB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0DE1D-2A9B-46BC-9798-F7713824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004BA-4473-478E-A8CB-0126445F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24260-1429-4A8B-A58A-986FBC28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F578F-A7F7-430C-A1BD-60D61120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6B368-08CD-42C4-83EB-220A5C89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006C-FA60-49A7-A800-5575087E4236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E110-78AF-41EF-BE8C-DA210A9193E6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BD2A-856D-413A-A36B-C5C1C3C25200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5932-A090-42C3-9977-9501CD51DA4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4B29-4232-456C-B623-DBF1F5C5BF3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57D4-0877-46FA-BA0A-ACF790CD7F26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0B32-94C7-440A-843E-1A7A79B21FB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4655-64B6-4B18-A3D5-0908D5FB9588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F91D-1ADD-4F4B-8B6B-23D370D7301A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8076-93C3-4901-8D2A-42D9A401239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ent2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JointControl1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4786200" y="1500120"/>
            <a:ext cx="3714840" cy="4880160"/>
          </a:xfrm>
          <a:prstGeom prst="rect">
            <a:avLst/>
          </a:prstGeom>
          <a:ln w="0">
            <a:noFill/>
          </a:ln>
        </p:spPr>
      </p:pic>
      <p:sp>
        <p:nvSpPr>
          <p:cNvPr id="471" name="아래쪽 화살표 4"/>
          <p:cNvSpPr/>
          <p:nvPr/>
        </p:nvSpPr>
        <p:spPr>
          <a:xfrm rot="16200000">
            <a:off x="4107600" y="596448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ointControl1(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4" name="Picture 7" descr=""/>
          <p:cNvPicPr/>
          <p:nvPr/>
        </p:nvPicPr>
        <p:blipFill>
          <a:blip r:embed="rId1"/>
          <a:stretch/>
        </p:blipFill>
        <p:spPr>
          <a:xfrm>
            <a:off x="4286160" y="1214280"/>
            <a:ext cx="3838680" cy="5220000"/>
          </a:xfrm>
          <a:prstGeom prst="rect">
            <a:avLst/>
          </a:prstGeom>
          <a:ln w="0">
            <a:noFill/>
          </a:ln>
        </p:spPr>
      </p:pic>
      <p:sp>
        <p:nvSpPr>
          <p:cNvPr id="475" name="모서리가 둥근 직사각형 4"/>
          <p:cNvSpPr/>
          <p:nvPr/>
        </p:nvSpPr>
        <p:spPr>
          <a:xfrm>
            <a:off x="3714840" y="2071800"/>
            <a:ext cx="5214960" cy="3714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8" name="Picture 6" descr=""/>
          <p:cNvPicPr/>
          <p:nvPr/>
        </p:nvPicPr>
        <p:blipFill>
          <a:blip r:embed="rId1"/>
          <a:stretch/>
        </p:blipFill>
        <p:spPr>
          <a:xfrm>
            <a:off x="785880" y="1785960"/>
            <a:ext cx="4286160" cy="36860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7" descr=""/>
          <p:cNvPicPr/>
          <p:nvPr/>
        </p:nvPicPr>
        <p:blipFill>
          <a:blip r:embed="rId2"/>
          <a:stretch/>
        </p:blipFill>
        <p:spPr>
          <a:xfrm>
            <a:off x="4214880" y="271476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4" name="아래쪽 화살표 5"/>
          <p:cNvSpPr/>
          <p:nvPr/>
        </p:nvSpPr>
        <p:spPr>
          <a:xfrm rot="16200000">
            <a:off x="3464640" y="2107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5" name="Picture 7" descr=""/>
          <p:cNvPicPr/>
          <p:nvPr/>
        </p:nvPicPr>
        <p:blipFill>
          <a:blip r:embed="rId1"/>
          <a:stretch/>
        </p:blipFill>
        <p:spPr>
          <a:xfrm>
            <a:off x="4286160" y="1214280"/>
            <a:ext cx="383868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2293200" y="1803240"/>
            <a:ext cx="375588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JointControl1(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rue: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nt2.JointAngle(9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nt2.JointAngle(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nt2.JointAngle(-9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joint_simple.p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joint_simple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basic script for the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2514600" y="2990880"/>
            <a:ext cx="411480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script for the joint sample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2490840" y="1747800"/>
            <a:ext cx="41623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30T04:39:32Z</dcterms:modified>
  <cp:revision>972</cp:revision>
  <dc:subject/>
  <dc:title>슬라이드 1</dc:title>
</cp:coreProperties>
</file>