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52CCF-F043-497C-98BD-AA3B9FD8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8E74E-1817-4E70-9316-30A4C453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31493-5329-41AE-A162-E0E8FA28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FDD04-3769-42B7-B1C6-11C15CA7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5DB99-9BBC-4519-9575-81B05A5C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D4896-2CF7-4C74-A122-67805F5E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B90BC-305D-4CE4-9D40-437D3994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6CBEF-51C5-499F-8D5A-9B5D4ADB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019C8-96EC-4B6F-82B0-4325A148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1C607-17B4-4C66-ABED-2D682A87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F1EB2-0809-4F4F-9F21-D7B023ED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21048-E1D6-4B41-B8DA-ADD3F780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5232F-DFD0-496D-8A27-1772D274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C1F88-D081-4BD0-901C-5D989A1F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DE8A4-DFC1-4E91-A03A-90355381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2FC37-2DA9-49BE-BB00-A7FB16F0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A3F38-1793-4B87-B65D-70EB7276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D7B60-5F6B-47A3-BA94-C8EBFFC8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9F1C6-4141-4E0A-AB3A-E77F130A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87558-FB38-4916-9E6B-5A2FA812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DCC91-BC27-4A24-8830-D0E11D85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6DB98-9D29-49E0-BEF0-AB12F5F7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0FFDD-E41A-414F-A3BC-D34C858A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491F1-F7A8-4CC8-B390-5333DBD1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86DC5-3B96-4D35-A241-B7E4A48E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D8E9E-9BC0-4E42-B1B6-F3242E07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E13FC-B5B3-4A1F-AAF4-3F0D5D5E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9E28D-3A5D-4805-8B76-32BD3D8C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57D4E-1577-427F-9553-64021CF5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BD8BF-5096-4BA9-BD0F-256B51F5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78C4D-A323-4874-9BD4-1B8B12BC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832E9-3222-4A4B-957B-A3ECB5A4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8E7B8-BD6D-47F9-BA0E-83006E02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280E-D042-41C2-AF95-14470759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44C9-2A37-4E78-B65E-E6D7A0DE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EB7D-ACB7-46DC-A0D8-6F195EE0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C793-F015-42B9-8FAD-45BE5A93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83C4-D373-4A96-A3D5-F95FE297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6F02-D09A-4549-9598-02AED699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C3B6-5B30-48A0-BE30-DB55DE17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6B42-B351-46DA-9C86-350C2F17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35C7-2993-4994-BD26-6D6B37B9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7489-CA61-4BFA-805F-08084FA4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45C-A929-43D4-B0E7-B1F02351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C610-5158-4E20-A866-328B7424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7C67-0EB4-433A-AAF9-694C28A2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09A1-4B89-4CC1-B075-5F0988A6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925B-4B52-4E15-B8E4-3A3BD0C9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5C19-EA73-4915-8EEB-7F62ED0F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23B2-DD96-49F0-8D17-A33065CC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E50A-1FD7-4E44-A02B-91EA33E9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DDD1-B787-4E27-8C0D-7250CBE2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1345-6D0B-45DB-ADB8-302755B0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C020-DE92-4724-845E-56F8AD26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FAFD-A3B6-413F-BC9F-8EBF1033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DB1D-A5F7-4831-9411-EEA1A313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F7D2-DEF0-4A0E-9E2D-62B7AA0E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51EB2-1A9C-422B-8A87-8D67D579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4C26A-0F49-4E92-9E94-58CC754E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A3430-D087-4E88-83C6-06A9D5F4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48CE4-D4AD-44C0-A5F7-E48AADFF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6B74C-F4C6-4F8D-A17E-A75F1E8B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741C3-26D9-4588-98F6-5A72ED02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4EB58-1E94-4E1A-BF40-BC57EAB1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034E7-A4AF-4321-86D6-0067EBC0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2FD43-9ACF-4F0A-B807-C620B8C2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A1636-CDCF-4BBE-9A37-A48801E0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AA274-1E33-4683-BC21-91CC697B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79507-3D2E-48BF-B5D5-0E2D3053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44D3C-D114-42CA-A634-09141C32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22B0C-5C8E-4B12-BB89-BBC146E2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002FF-EFEE-486F-BFF9-BEE1CB23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9AD7B-70BB-418B-A4FE-62101EA5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14FC8-E77B-4601-9A0F-5532DCC5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CD71D-9799-4751-8FA7-79505EA3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09759-917C-4054-AD6F-06B9D0B2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84713-3928-48E4-9985-8F7D8191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3DFF7-760C-4AB6-A966-07970672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B99DE-7BC0-403E-B645-D848A2D0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9B568-0902-4455-A247-28CD01BE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C208C-9996-4E38-8528-44D08CC1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42923-FBA8-466D-84FC-DE979B0F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B6768-7DF9-479B-ACA7-233296CC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4EE61-38A1-4EF3-AB5B-CD462E89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7AF3E-27D7-47EA-BB83-EF6650B3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79142-82BE-4F58-B02E-78E75A60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0BAFD-34F7-4EED-BE4E-80D9F9AA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B981D-7E9F-41D9-B255-564AB236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003B6-5431-4959-B21F-1B107CDC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8D527-8BF8-4C7C-B24F-00A94BF8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EAE1F-3C0D-46F0-AC66-91CCB79B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768BE-C562-4FEF-9145-16A6C6FD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DF2EF-1C3B-4B60-BB1C-7241696C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BD563-2FB4-4E06-BC59-4B498AA4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CE235-7A77-44E5-B6CF-61482543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4105E-391A-407B-A5BA-E2207CE1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2C6FC-2917-4096-865A-B948C5B3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19DDB-8DA1-4DCD-87CB-DEC5E29E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D26EF-6785-42F1-947A-664663DE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75241-C96B-4149-B040-868CF031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CD058-3B3E-4114-A935-ADED9D94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65C1E-64BF-4286-BC00-54DFE2B2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D00DB-AA16-42C6-8E4B-81A6038C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62D4C-9716-4F03-ABAA-F78179B4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BD685-7F8C-454E-9362-4EDCF4EB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67EE0-367C-4D45-B1DC-287269AB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170A5-F484-4657-9EA7-ED2A096D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70240-F851-4C8C-A911-FE89ECA6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5E31-9D19-4BBD-948E-E6070BF3900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077C-E806-4841-ACAF-D6B69B550059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F2A1-4AC8-43F5-9ED0-5A2EF852BC05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02E8-DF7B-46B7-B58D-5B5355C4F71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0B54-50FE-4C3B-AE4F-2F107059AA7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68B6-D26B-40C1-B3B1-86279CEA049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1A99-FBD0-4174-A440-7AFED502C8C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76B6-2AA1-457F-B273-2A6CADA53CB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7BE7-3E83-48BA-9513-53B55667E62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0A1B-EEBF-46E1-A01B-B9503454A2A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Maze Explorer with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3" name="Picture 7" descr=""/>
          <p:cNvPicPr/>
          <p:nvPr/>
        </p:nvPicPr>
        <p:blipFill>
          <a:blip r:embed="rId1"/>
          <a:stretch/>
        </p:blipFill>
        <p:spPr>
          <a:xfrm>
            <a:off x="2714760" y="1571760"/>
            <a:ext cx="4514760" cy="4971960"/>
          </a:xfrm>
          <a:prstGeom prst="rect">
            <a:avLst/>
          </a:prstGeom>
          <a:ln w="0">
            <a:noFill/>
          </a:ln>
        </p:spPr>
      </p:pic>
      <p:sp>
        <p:nvSpPr>
          <p:cNvPr id="504" name="아래쪽 화살표 5"/>
          <p:cNvSpPr/>
          <p:nvPr/>
        </p:nvSpPr>
        <p:spPr>
          <a:xfrm rot="16200000">
            <a:off x="2107440" y="2464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7" name="TextBox 3"/>
          <p:cNvSpPr/>
          <p:nvPr/>
        </p:nvSpPr>
        <p:spPr>
          <a:xfrm>
            <a:off x="2281320" y="1928880"/>
            <a:ext cx="4374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MazeExplorer(lrf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.DistanceMeasurements[355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.DistanceMeasurements[270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.DistanceMeasurements[180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) o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d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00) o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d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000) 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Turn(-3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ls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g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500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Turn(3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To(0.1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maze.p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maze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 and robot environm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3" name="Picture 8" descr=""/>
          <p:cNvPicPr/>
          <p:nvPr/>
        </p:nvPicPr>
        <p:blipFill>
          <a:blip r:embed="rId1"/>
          <a:stretch/>
        </p:blipFill>
        <p:spPr>
          <a:xfrm>
            <a:off x="2496960" y="1857240"/>
            <a:ext cx="3646800" cy="4719600"/>
          </a:xfrm>
          <a:prstGeom prst="rect">
            <a:avLst/>
          </a:prstGeom>
          <a:ln w="0">
            <a:noFill/>
          </a:ln>
        </p:spPr>
      </p:pic>
      <p:sp>
        <p:nvSpPr>
          <p:cNvPr id="514" name="아래쪽 화살표 5"/>
          <p:cNvSpPr/>
          <p:nvPr/>
        </p:nvSpPr>
        <p:spPr>
          <a:xfrm rot="16200000">
            <a:off x="1893240" y="5464800"/>
            <a:ext cx="285480" cy="6426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아래쪽 화살표 6"/>
          <p:cNvSpPr/>
          <p:nvPr/>
        </p:nvSpPr>
        <p:spPr>
          <a:xfrm rot="5400000">
            <a:off x="5822280" y="482184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아래쪽 화살표 8"/>
          <p:cNvSpPr/>
          <p:nvPr/>
        </p:nvSpPr>
        <p:spPr>
          <a:xfrm rot="5400000">
            <a:off x="6107760" y="2107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MazeExplorer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4714920" y="928800"/>
            <a:ext cx="3071880" cy="5786280"/>
          </a:xfrm>
          <a:prstGeom prst="rect">
            <a:avLst/>
          </a:prstGeom>
          <a:ln w="0">
            <a:noFill/>
          </a:ln>
        </p:spPr>
      </p:pic>
      <p:sp>
        <p:nvSpPr>
          <p:cNvPr id="520" name="아래쪽 화살표 8"/>
          <p:cNvSpPr/>
          <p:nvPr/>
        </p:nvSpPr>
        <p:spPr>
          <a:xfrm rot="16200000">
            <a:off x="4464720" y="5893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zeExplorer() modu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3" name="Picture 7" descr=""/>
          <p:cNvPicPr/>
          <p:nvPr/>
        </p:nvPicPr>
        <p:blipFill>
          <a:blip r:embed="rId1"/>
          <a:stretch/>
        </p:blipFill>
        <p:spPr>
          <a:xfrm>
            <a:off x="2714760" y="1571760"/>
            <a:ext cx="4514760" cy="4971960"/>
          </a:xfrm>
          <a:prstGeom prst="rect">
            <a:avLst/>
          </a:prstGeom>
          <a:ln w="0">
            <a:noFill/>
          </a:ln>
        </p:spPr>
      </p:pic>
      <p:sp>
        <p:nvSpPr>
          <p:cNvPr id="524" name="모서리가 둥근 직사각형 4"/>
          <p:cNvSpPr/>
          <p:nvPr/>
        </p:nvSpPr>
        <p:spPr>
          <a:xfrm>
            <a:off x="1857240" y="2428920"/>
            <a:ext cx="6072480" cy="3500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7" name="Picture 6" descr=""/>
          <p:cNvPicPr/>
          <p:nvPr/>
        </p:nvPicPr>
        <p:blipFill>
          <a:blip r:embed="rId1"/>
          <a:stretch/>
        </p:blipFill>
        <p:spPr>
          <a:xfrm>
            <a:off x="2500200" y="2071800"/>
            <a:ext cx="42865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428920" y="1957320"/>
            <a:ext cx="42861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2857680" y="2238480"/>
            <a:ext cx="31431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2357280" y="2028960"/>
            <a:ext cx="42865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General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solution for the Maze Miss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Go along the left wall or right wal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4" name="직사각형 3"/>
          <p:cNvSpPr/>
          <p:nvPr/>
        </p:nvSpPr>
        <p:spPr>
          <a:xfrm>
            <a:off x="2786040" y="2500200"/>
            <a:ext cx="3571920" cy="31435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직선 연결선 5"/>
          <p:cNvSpPr/>
          <p:nvPr/>
        </p:nvSpPr>
        <p:spPr>
          <a:xfrm>
            <a:off x="2786040" y="3929040"/>
            <a:ext cx="100008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직선 연결선 6"/>
          <p:cNvSpPr/>
          <p:nvPr/>
        </p:nvSpPr>
        <p:spPr>
          <a:xfrm>
            <a:off x="5000760" y="2500200"/>
            <a:ext cx="0" cy="7146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직선 연결선 10"/>
          <p:cNvSpPr/>
          <p:nvPr/>
        </p:nvSpPr>
        <p:spPr>
          <a:xfrm flipH="1">
            <a:off x="5643720" y="4429080"/>
            <a:ext cx="71424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직선 연결선 13"/>
          <p:cNvSpPr/>
          <p:nvPr/>
        </p:nvSpPr>
        <p:spPr>
          <a:xfrm flipV="1">
            <a:off x="4500720" y="5143680"/>
            <a:ext cx="0" cy="4903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직선 연결선 16"/>
          <p:cNvSpPr/>
          <p:nvPr/>
        </p:nvSpPr>
        <p:spPr>
          <a:xfrm>
            <a:off x="3071880" y="4286160"/>
            <a:ext cx="0" cy="71460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직선 연결선 17"/>
          <p:cNvSpPr/>
          <p:nvPr/>
        </p:nvSpPr>
        <p:spPr>
          <a:xfrm>
            <a:off x="3071880" y="2786040"/>
            <a:ext cx="0" cy="71424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직선 연결선 18"/>
          <p:cNvSpPr/>
          <p:nvPr/>
        </p:nvSpPr>
        <p:spPr>
          <a:xfrm flipH="1">
            <a:off x="3214800" y="4071960"/>
            <a:ext cx="490320" cy="9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직선 연결선 20"/>
          <p:cNvSpPr/>
          <p:nvPr/>
        </p:nvSpPr>
        <p:spPr>
          <a:xfrm flipH="1">
            <a:off x="3642840" y="2642400"/>
            <a:ext cx="490680" cy="9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직선 연결선 21"/>
          <p:cNvSpPr/>
          <p:nvPr/>
        </p:nvSpPr>
        <p:spPr>
          <a:xfrm flipH="1">
            <a:off x="3223800" y="3704400"/>
            <a:ext cx="490680" cy="9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직선 연결선 22"/>
          <p:cNvSpPr/>
          <p:nvPr/>
        </p:nvSpPr>
        <p:spPr>
          <a:xfrm flipH="1">
            <a:off x="3928680" y="3786120"/>
            <a:ext cx="9720" cy="2761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직선 연결선 24"/>
          <p:cNvSpPr/>
          <p:nvPr/>
        </p:nvSpPr>
        <p:spPr>
          <a:xfrm>
            <a:off x="4786200" y="2643120"/>
            <a:ext cx="0" cy="71460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직선 연결선 25"/>
          <p:cNvSpPr/>
          <p:nvPr/>
        </p:nvSpPr>
        <p:spPr>
          <a:xfrm>
            <a:off x="5214960" y="2643120"/>
            <a:ext cx="0" cy="71460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직선 연결선 26"/>
          <p:cNvSpPr/>
          <p:nvPr/>
        </p:nvSpPr>
        <p:spPr>
          <a:xfrm flipH="1" flipV="1">
            <a:off x="4929120" y="3490920"/>
            <a:ext cx="214560" cy="9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eck distances against for the left side wall and front wal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0" name="직사각형 3"/>
          <p:cNvSpPr/>
          <p:nvPr/>
        </p:nvSpPr>
        <p:spPr>
          <a:xfrm>
            <a:off x="2571840" y="2643120"/>
            <a:ext cx="142920" cy="292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직사각형 4"/>
          <p:cNvSpPr/>
          <p:nvPr/>
        </p:nvSpPr>
        <p:spPr>
          <a:xfrm>
            <a:off x="2786040" y="2357280"/>
            <a:ext cx="3276720" cy="204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모서리가 둥근 직사각형 5"/>
          <p:cNvSpPr/>
          <p:nvPr/>
        </p:nvSpPr>
        <p:spPr>
          <a:xfrm>
            <a:off x="4429080" y="4165560"/>
            <a:ext cx="714600" cy="1143000"/>
          </a:xfrm>
          <a:custGeom>
            <a:avLst/>
            <a:gdLst>
              <a:gd name="textAreaLeft" fmla="*/ 34560 w 714600"/>
              <a:gd name="textAreaRight" fmla="*/ 680040 w 714600"/>
              <a:gd name="textAreaTop" fmla="*/ 34560 h 1143000"/>
              <a:gd name="textAreaBottom" fmla="*/ 1108440 h 1143000"/>
            </a:gdLst>
            <a:ahLst/>
            <a:rect l="textAreaLeft" t="textAreaTop" r="textAreaRight" b="textAreaBottom"/>
            <a:pathLst>
              <a:path w="21600" h="34543">
                <a:moveTo>
                  <a:pt x="3600" y="0"/>
                </a:moveTo>
                <a:arcTo wR="3600" hR="3600" stAng="16200000" swAng="-5400000"/>
                <a:lnTo>
                  <a:pt x="0" y="30943"/>
                </a:lnTo>
                <a:arcTo wR="3600" hR="3600" stAng="10800000" swAng="-5400000"/>
                <a:lnTo>
                  <a:pt x="18000" y="34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73" name="직선 화살표 연결선 9"/>
          <p:cNvCxnSpPr/>
          <p:nvPr/>
        </p:nvCxnSpPr>
        <p:spPr>
          <a:xfrm flipH="1" flipV="1">
            <a:off x="4071600" y="4451040"/>
            <a:ext cx="357840" cy="216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cxnSp>
        <p:nvCxnSpPr>
          <p:cNvPr id="474" name="직선 화살표 연결선 10"/>
          <p:cNvCxnSpPr/>
          <p:nvPr/>
        </p:nvCxnSpPr>
        <p:spPr>
          <a:xfrm flipH="1" flipV="1">
            <a:off x="4785480" y="3521880"/>
            <a:ext cx="10440" cy="65484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cxnSp>
        <p:nvCxnSpPr>
          <p:cNvPr id="475" name="직선 화살표 연결선 12"/>
          <p:cNvCxnSpPr/>
          <p:nvPr/>
        </p:nvCxnSpPr>
        <p:spPr>
          <a:xfrm flipH="1" flipV="1">
            <a:off x="4123800" y="3858840"/>
            <a:ext cx="377280" cy="37872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476" name="TextBox 15"/>
          <p:cNvSpPr/>
          <p:nvPr/>
        </p:nvSpPr>
        <p:spPr>
          <a:xfrm>
            <a:off x="1922040" y="385776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4136760" y="185724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TextBox 17"/>
          <p:cNvSpPr/>
          <p:nvPr/>
        </p:nvSpPr>
        <p:spPr>
          <a:xfrm>
            <a:off x="4860000" y="3000240"/>
            <a:ext cx="189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18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TextBox 18"/>
          <p:cNvSpPr/>
          <p:nvPr/>
        </p:nvSpPr>
        <p:spPr>
          <a:xfrm>
            <a:off x="3143160" y="3427560"/>
            <a:ext cx="157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27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TextBox 19"/>
          <p:cNvSpPr/>
          <p:nvPr/>
        </p:nvSpPr>
        <p:spPr>
          <a:xfrm>
            <a:off x="3214800" y="4308480"/>
            <a:ext cx="121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35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자유형 20"/>
          <p:cNvSpPr/>
          <p:nvPr/>
        </p:nvSpPr>
        <p:spPr>
          <a:xfrm rot="17992800">
            <a:off x="5831280" y="4331520"/>
            <a:ext cx="1052640" cy="54936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c0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TextBox 21"/>
          <p:cNvSpPr/>
          <p:nvPr/>
        </p:nvSpPr>
        <p:spPr>
          <a:xfrm>
            <a:off x="6252840" y="457200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Turn right 30 degre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urn right slightly (about 30 degrees) for the left and front wall detection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f 18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s less than 1000 millimeter, turn right 30 degrees (-30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f 27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s less than 500 millimeter, turn right 30 degrees (-30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f 35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s less than 200 millimeter, turn right 30 degrees (-30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eck open space on the left sid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7" name="직사각형 3"/>
          <p:cNvSpPr/>
          <p:nvPr/>
        </p:nvSpPr>
        <p:spPr>
          <a:xfrm>
            <a:off x="3071880" y="2428920"/>
            <a:ext cx="214200" cy="3000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직사각형 4"/>
          <p:cNvSpPr/>
          <p:nvPr/>
        </p:nvSpPr>
        <p:spPr>
          <a:xfrm>
            <a:off x="3286080" y="3786120"/>
            <a:ext cx="135720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모서리가 둥근 직사각형 5"/>
          <p:cNvSpPr/>
          <p:nvPr/>
        </p:nvSpPr>
        <p:spPr>
          <a:xfrm>
            <a:off x="4214880" y="4286160"/>
            <a:ext cx="1357200" cy="7146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90" name="직선 화살표 연결선 9"/>
          <p:cNvCxnSpPr/>
          <p:nvPr/>
        </p:nvCxnSpPr>
        <p:spPr>
          <a:xfrm flipV="1">
            <a:off x="5285160" y="3357360"/>
            <a:ext cx="2520" cy="93096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491" name="TextBox 15"/>
          <p:cNvSpPr/>
          <p:nvPr/>
        </p:nvSpPr>
        <p:spPr>
          <a:xfrm>
            <a:off x="2257200" y="371484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TextBox 19"/>
          <p:cNvSpPr/>
          <p:nvPr/>
        </p:nvSpPr>
        <p:spPr>
          <a:xfrm>
            <a:off x="5429160" y="3191040"/>
            <a:ext cx="121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35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자유형 20"/>
          <p:cNvSpPr/>
          <p:nvPr/>
        </p:nvSpPr>
        <p:spPr>
          <a:xfrm flipV="1" rot="14829000">
            <a:off x="5729040" y="2601720"/>
            <a:ext cx="801720" cy="40824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c0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TextBox 21"/>
          <p:cNvSpPr/>
          <p:nvPr/>
        </p:nvSpPr>
        <p:spPr>
          <a:xfrm>
            <a:off x="6157800" y="20001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Turn left 30 degre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eck open space on the left sid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f 35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s greater than 1500 millimeter, turn left 30 degrees (30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seudo code for Maze Miss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9" name="Picture 5" descr=""/>
          <p:cNvPicPr/>
          <p:nvPr/>
        </p:nvPicPr>
        <p:blipFill>
          <a:blip r:embed="rId1"/>
          <a:stretch/>
        </p:blipFill>
        <p:spPr>
          <a:xfrm>
            <a:off x="2781360" y="1928880"/>
            <a:ext cx="3581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41:59Z</dcterms:modified>
  <cp:revision>976</cp:revision>
  <dc:subject/>
  <dc:title>슬라이드 1</dc:title>
</cp:coreProperties>
</file>