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B994-713D-43A7-BE5C-EFFE7F9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53B5-BF28-4BDF-94A7-59C7B4E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CD917-1564-4FC5-9BA8-17452D40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0AAD7-F9D9-4720-BB48-143E3C0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CD93-3B4D-4748-AED4-DEBE579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3BC8-A7B8-4EDB-BC04-86B1A82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878E-B169-46DA-8B97-DB4282B7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36D8-F0CD-4A43-9359-AEB056F7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9B3B-CDA3-4E03-9300-1340FB54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4AF5-F389-41CD-A731-88C2784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9D34-AB9C-4398-89D7-6420ADD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55409-B8AE-4D63-8E38-48B7323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C3DA-608F-47FA-B3F5-B5EDAA1A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11D6A-9D32-4A6D-B290-533E29CC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ED190-EC30-4592-96A5-C484626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0B5A-963A-4422-9E18-60C4317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B05B-FA80-48FB-BE40-B6247B3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B5190-F806-4067-A70D-303E7C5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549C-6B03-4F4C-8014-333B661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EFCDC-5156-4C4E-853C-F38E3F82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0D66-0838-4018-BB8E-60EE53F2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FDB9D-69A1-4EB2-9358-BFD1515E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3F54B-115D-4784-B187-07C0020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6638B-F5B5-478F-8432-193224C7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24635-7065-4FCA-9D82-F042CFC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F5F4-6347-46E4-8AC3-25CCDF9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2AE60-0E03-463F-8013-97A371C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F74C1-FF67-4995-BC9C-3095A8CE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ADA21-CDA2-4C99-B57B-D31658E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23221-1D12-485D-8655-8EFD12E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225A3-A1C5-46F4-92F7-67A4CB87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AC78D-508B-4BAD-85A8-FA03CE77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CE6FE-0138-4778-9762-C9B30340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364-A6BA-4786-BBD4-2F88891D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990-3EE2-41F0-B019-C68D0E86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6F9-A985-41AC-83FF-48BDC0D1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6AF-E533-465B-BBB8-9DD5B40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046-3443-48AE-87FD-C4B0B7D2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C13-570D-4E0E-B8FB-28AD232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DDE-39D5-4C96-8766-09AA2756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F36-125D-43B1-BE4C-8090D6D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DEF-8C8E-48BC-9179-4DD7A0F3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17F-3DC9-48BB-9252-2878698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308-4CB2-43FD-BDE8-33FF2786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DE3-BDA4-4E86-8140-AA315B80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04F-3964-4F7E-AA5A-D7A53534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BD16-5066-4659-81E5-3DD36C6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60FA-C8B8-4A9B-8FB1-7A490C62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4393-F389-457D-B74E-29ABEA5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AA7-AE46-43AD-BE07-75A4BE0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2BEA-B5AC-45F1-9516-A56B997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854E-0026-4E82-B90E-77B3691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1890-BAA2-4680-816D-066B1F0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18C3-AE0B-45E1-9D93-3594FC6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076A-5288-46FE-B7AB-025FC44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1EB7-C524-4000-97F5-BD8460EA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BDAA-4782-48CD-B332-ACFCEE87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6816-20F2-4D6B-9D30-56A76A4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8283-82F3-412E-964C-700C9A4C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5DC8-D55D-4F31-A4D0-AB4A400E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AB2A-92B5-4BB3-AFE0-089F81E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B6EE-D13C-4DB7-87F4-26BE633F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E32B-83CF-4F8C-8165-140D4DE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88AD-1877-4CD1-BF7D-CC653B4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ED9E-9E9A-45AA-ADF3-89A9A53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24E6-EDCE-4EA1-94AA-57F07C6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166B-AEA5-4BCF-BB2E-CC169816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9D1E-B6DE-4EBB-934F-40530D86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B954-7855-4FF7-92BF-9E2DC216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A15B-45D7-4939-8A04-8C08E12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BBA9-2921-4B19-807A-04F39F8C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ECE3-51D5-47F3-9E46-B260E0C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0304-62DB-4AC9-8A8A-63F2388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80268-22C2-4222-97C6-393BAA1F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67BEF-DD6C-4F0E-B211-B95EAA84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B003-F970-49A0-A07D-31534408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AFD6-EE05-4A37-9E44-D797DEEA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107E-05E5-4E53-93F3-348FEFF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573F-84DA-4A9D-B7DA-6E9CB434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9CE8-9159-462D-932C-9F53C2A9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D59B-6EE5-4F46-9572-1C229C9C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1A37-EAFB-45B6-90C1-6643B07C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C4AB-A178-433C-8993-42FDA322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8E9C-1C3C-4506-AC5F-10070EC4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0BC9-EE5B-484D-A448-000A411C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0047-39EB-4896-8B77-70860802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9379-077F-48EE-86A1-6390EC6D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12CB-44BE-41D1-8359-1B0E5308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8C684-08E0-43F0-AD6A-6091990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D745-B26C-4BB9-8DF7-F0B1AE36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CE63-B1E3-4A8B-B245-CA6D5E43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6898-04A7-4ACF-A178-B6175828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E5FA-BD09-4557-B144-B8ECB884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4D17-48BA-4A8C-80BB-FEC26D5D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1CCB-2818-47E8-A09B-129E483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13BE-0CDB-4D56-9B01-82C2C6F3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1217-5A12-4617-BD70-F7107036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8106-B667-4473-ABEA-6D2235E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BDD4-7E00-44B0-94B0-8FC36D9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E791-030B-4AF3-919C-C145F01C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F6FF-571C-46CE-8EAE-618DA2E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4AFA-565C-4D8F-801A-CE9539C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FD2C-66AD-4328-B726-63971F23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8386D-0233-44B0-86A4-40727B8A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C5ED-8AF4-4CD2-94EA-2DC4F72E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95381-FDCE-4663-8DEE-E37528BF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48563-2D22-4D3E-9C08-49834F30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0820-9320-41D9-B5B9-793D2D7C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B13-D035-4148-BE7B-8D021D931CB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F57-8B4A-46BC-9734-F64E42BF581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F01-844B-4346-BAC6-58A8FEE20CC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CA11-C16F-40C9-AB7E-D7FAC827CC6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1E49-438B-4A2D-B2FD-0EFFC58AA7B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DFB-13FD-4335-B988-75814704F4B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C84-8331-413C-951D-4CB93B8202C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1E8F-165D-4DB4-8FC5-3B2D2300BE5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AF5-55BA-4C80-B98E-718EEA0BFBE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2311-DEB8-4091-924F-7696E05AB94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9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343080" y="2000160"/>
            <a:ext cx="8458200" cy="3772080"/>
          </a:xfrm>
          <a:prstGeom prst="rect">
            <a:avLst/>
          </a:prstGeom>
          <a:ln w="0">
            <a:noFill/>
          </a:ln>
        </p:spPr>
      </p:pic>
      <p:sp>
        <p:nvSpPr>
          <p:cNvPr id="478" name="자유형 5"/>
          <p:cNvSpPr/>
          <p:nvPr/>
        </p:nvSpPr>
        <p:spPr>
          <a:xfrm>
            <a:off x="2143080" y="4214880"/>
            <a:ext cx="1857600" cy="1071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17856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reateEntit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4000680" y="1571760"/>
            <a:ext cx="4809960" cy="484812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46464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714760"/>
            <a:ext cx="807228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42861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92760" y="2678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28640" y="2143080"/>
            <a:ext cx="6384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reateEntity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ange(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i) 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.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reation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rea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181240" y="2862360"/>
            <a:ext cx="4781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8172360" cy="3781440"/>
          </a:xfrm>
          <a:prstGeom prst="rect">
            <a:avLst/>
          </a:prstGeom>
          <a:ln w="0">
            <a:noFill/>
          </a:ln>
        </p:spPr>
      </p:pic>
      <p:sp>
        <p:nvSpPr>
          <p:cNvPr id="468" name="자유형 5"/>
          <p:cNvSpPr/>
          <p:nvPr/>
        </p:nvSpPr>
        <p:spPr>
          <a:xfrm flipV="1">
            <a:off x="1928880" y="3785400"/>
            <a:ext cx="3286080" cy="10717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40719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36600" y="281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00:48Z</dcterms:modified>
  <cp:revision>983</cp:revision>
  <dc:subject/>
  <dc:title>슬라이드 1</dc:title>
</cp:coreProperties>
</file>