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8.png" ContentType="image/png"/>
  <Override PartName="/ppt/media/image7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0F18F2-9C33-46C6-A430-568A89A19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DAF144-5E77-4302-9CA3-61F73EB06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FB5FBC-1122-483B-88F1-17FD29C81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64AD0E-1E82-415C-B19C-DA8FE2CB6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70DA7D-D5B5-4AD6-9B21-8B56F3139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E3EFCA-CC0D-40DB-8267-EEB3B832A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CABD1D-482A-4F15-921F-4252A79C2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0DD7CF-0D8D-49D4-931A-D0C36C2A2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2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3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CE98C9-A0C3-46EB-BF4D-57255E73F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F51769-57CA-4B39-B58D-F4BB81E36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4587B0-A794-4BCF-BD45-68A2ADC32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A40F2F-F62D-4314-B02D-38521BB07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A85D50-9ACC-47B9-8962-EB39FAD88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2C38A6-FE06-4761-B723-AB460923B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B127FD-3C35-4C71-9E56-EB2BA23A5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1383D8-ECBD-4655-A1EC-5A30D0782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36BCEB-F778-41C2-A4C8-714153CAB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B866BC-9DCF-4D7C-87E2-6179603C2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8E7330-6A28-47F6-B7D6-B20754563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3856C5-F1C3-466C-8DE8-3FF026DEA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4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3ADF6B-CF12-4BAA-956B-92AC75F17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75BB9C-2012-48B9-BF86-D47BDD122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77B3EC-7A14-48FB-A663-F9E77529B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C89DF5-5980-46AD-AD6B-894ED6AD5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6C4635-D156-468C-A80E-84EDD9BDF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8C82DF-8B0F-46AB-8F1B-40E1E7D75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D12931-09C0-4136-ACC5-10791CBE2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5EDCA0-FC65-4DF8-A490-ACC5F73AD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6A7123-15E0-4D12-BA86-AE530D3B0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C83FD5-323B-4FA3-A7EE-CB2FD9CCB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3193B5-EE80-4A99-AD3A-0017F31DF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F3B15B-7A2F-4216-B6B2-B4A0C611D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4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5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7D53CC-7A81-4891-A918-48BDBB9DA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1255A-5F72-4C58-BB46-CF7769133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AF457-6386-4579-9100-60D2F3318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3AECF-5151-4B4D-BBE8-59A23A44B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31B3E-9C16-411E-9B2D-1A637DDAD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0B840-2A9E-4681-89E7-141A85E05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67406-6F8E-4998-9422-519B8DB1B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251DA-5C6F-4C78-B437-60FE7E30E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870F9-A6B4-4124-B6F8-7045E25B8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A3EC5-87FE-49D6-964D-203B9501C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A9E1F-5AAC-498F-8E66-40698ACD7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C5E80-45A2-450D-9FE9-87252A97C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05E23-C1A3-4E0A-98F4-82DD6C21F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CB3C8-B98F-4253-B993-B0B7469E0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64DF1-EFFE-421A-844F-8679E5F63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25912-0A31-4386-A651-54351452D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37F51-A514-4EE5-A68A-2342C8205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45C52-A5E6-4EA1-8515-00CFDE123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254C6-5D9A-4720-8524-36D7821FA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8A2E1-F66E-4517-9F11-A84AA7CB7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26F45-30B0-42A6-9440-6B48E9C28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A385E-9694-4C31-9A54-D746C895F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48531-14B1-4E39-9B3D-C4DAFE42D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979F8-FD31-4791-9719-A1FCC9BA9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A6EA9-8D1E-47EE-A53F-1F7B99406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73D1F7-E241-48FC-B6CC-0646A5C16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E843F6-8B1A-44D0-8C03-13ADC6FB3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2AC85B-37B6-45FF-9D13-B1884AA5C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DBFEC3-295E-4112-AF93-75C7218CE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101B21-55A2-47D2-AF0D-5FA1F9C42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6A1A47-E90E-4A38-BC42-10BE85F21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A71B4C-10F6-42AB-A0C9-D399F69DC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0B3A58-03C5-49FE-B0EE-AB6A5F5FD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EDADF1-3755-472D-A1A1-1042F1691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4030E9-DB03-41E5-9BB7-F004D25A1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1D7931-4314-4F2D-AD7C-472661CFE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5D454B-F82F-4188-8846-564BD372B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0C530F-15A6-4A4B-8821-58E20EB7C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010EB6-94D5-4195-842A-A60C667CD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E7770D-1913-4CA8-AA1D-BCF07DF92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85576D-43C5-4B4E-9024-88E846538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12AE37-6A8B-47E8-A3BA-CB29FE068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77A0D1-DD4B-4C29-89D6-0CEE31042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CEBFF3-8188-4339-A2D6-6151653EB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FC5F0E-685F-4D2F-807C-326806788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D368DA-A989-4F06-BD3D-3C7E789E8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0DB2F8-F80D-4503-9F87-B31205397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706429-5DB9-434B-89A2-28DCA55AB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0F5179-6E35-467C-AFC4-11ED5AF1B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97CBB5-81AC-461C-93A0-F6A3DFAC4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82CD7F-06E0-4220-99A4-693B978F9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B1616F-B842-4439-BD48-B6A4E8473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0F053D-D321-4C51-AB41-04C1AA8BB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5DFECD-006F-47E2-BF4C-DACA72947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D469AA-5620-4D38-96E0-F998BF206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DEAB91-7CA3-4F5A-AB99-A5F96055A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5C6D8D-B49A-4E75-A70E-6F244A457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49D2D2-CE82-4418-8CBD-0B692B3D6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528469-94D1-497D-985E-264FDCF86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599895-ED2B-4467-8042-43E3438B1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653E6E-4B10-42E7-A588-9AD46B72C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07B2EE-0F58-4DCD-8CE4-9BE24268B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C121B3-50AC-4AD1-9C6C-483514E06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09225C-EBFC-4C60-BA64-B95DAE3BA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DEC4C3-10C6-4CA6-8361-680A0D224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09FE9B-06D0-44B9-AD89-C599FFF86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56EF48-E212-4870-B580-E37F9962B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F756D1-4C4D-44D8-8273-DD5E4CE60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E1733D-3772-42FC-AC7E-2245E7325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4A5DD7-0D8C-43BA-B468-33CCCA184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D24AF3-7DE2-4788-AA46-DE857D8C9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6E9C1B-BA3B-4614-9724-066CEAF97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FD3AEF-58CF-447B-9B5B-25738614E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A42100-93A9-4774-9398-67A19F009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116F5E-9ACF-466E-A10C-D1D0DA2E7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D86AE9-9295-48D0-AD52-2C99732D9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 type="sldNum" idx="24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57405-A372-4519-872C-4475C25D8CF1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 type="sldNum" idx="27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4EBA9-B72F-4EB1-8434-AFEDAF111FFC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13"/>
          <p:cNvSpPr/>
          <p:nvPr/>
        </p:nvSpPr>
        <p:spPr>
          <a:xfrm>
            <a:off x="3436920" y="6605640"/>
            <a:ext cx="2135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34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14E7C-A34D-4C02-89AB-D089BEF43B08}" type="slidenum">
              <a:rPr b="0" lang="de-DE" sz="1200" spc="-1" strike="noStrike">
                <a:solidFill>
                  <a:srgbClr val="000000"/>
                </a:solidFill>
                <a:latin typeface="Segoe Semibold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sldNum" idx="3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1C00C-DE09-43B5-A3E9-A8602C462DE8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 type="sldNum" idx="6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EDD52-8356-4061-875F-3E4DCC95F5BD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 type="sldNum" idx="9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28100-A581-4457-9295-EA79352FD830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 type="sldNum" idx="12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144E4-D01D-4B5B-92C2-4CD73599B32D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 type="sldNum" idx="15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3753F-65DC-4226-AF9B-75A459CE3A2D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 type="sldNum" idx="18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A0C70-201D-4DA6-A0F2-0A7A78317108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 type="sldNum" idx="21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3147F-DCD6-4AAD-AB60-0DC7D90EA3E4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28760" y="2349360"/>
            <a:ext cx="828648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맑은 고딕"/>
              </a:rPr>
              <a:t>LRF Sensor Reaction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2071800" y="5248080"/>
            <a:ext cx="6400800" cy="125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맑은 고딕"/>
              </a:rPr>
              <a:t>Young Joon Kim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http://www.helloapps.com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8" name="TextBox 3"/>
          <p:cNvSpPr/>
          <p:nvPr/>
        </p:nvSpPr>
        <p:spPr>
          <a:xfrm>
            <a:off x="4394160" y="3814920"/>
            <a:ext cx="416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ython Interface Programming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LRF Sensor Reaction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Make a robot move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73" name="Picture 2" descr=""/>
          <p:cNvPicPr/>
          <p:nvPr/>
        </p:nvPicPr>
        <p:blipFill>
          <a:blip r:embed="rId1"/>
          <a:stretch/>
        </p:blipFill>
        <p:spPr>
          <a:xfrm>
            <a:off x="2428920" y="1738440"/>
            <a:ext cx="4271760" cy="4905360"/>
          </a:xfrm>
          <a:prstGeom prst="rect">
            <a:avLst/>
          </a:prstGeom>
          <a:ln w="0">
            <a:noFill/>
          </a:ln>
        </p:spPr>
      </p:pic>
      <p:sp>
        <p:nvSpPr>
          <p:cNvPr id="474" name="아래쪽 화살표 4"/>
          <p:cNvSpPr/>
          <p:nvPr/>
        </p:nvSpPr>
        <p:spPr>
          <a:xfrm rot="16200000">
            <a:off x="1750320" y="6179400"/>
            <a:ext cx="285840" cy="642960"/>
          </a:xfrm>
          <a:prstGeom prst="downArrow">
            <a:avLst>
              <a:gd name="adj1" fmla="val 50000"/>
              <a:gd name="adj2" fmla="val 49986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LRF Sensor Reaction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76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Add “Procedure”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Invoke “LRFEventReaction”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77" name="Picture 2" descr=""/>
          <p:cNvPicPr/>
          <p:nvPr/>
        </p:nvPicPr>
        <p:blipFill>
          <a:blip r:embed="rId1"/>
          <a:stretch/>
        </p:blipFill>
        <p:spPr>
          <a:xfrm>
            <a:off x="4714920" y="1143000"/>
            <a:ext cx="369720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LRF Sensor Reaction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79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LRFEventReaction(lrf)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80" name="Picture 5" descr=""/>
          <p:cNvPicPr/>
          <p:nvPr/>
        </p:nvPicPr>
        <p:blipFill>
          <a:blip r:embed="rId1"/>
          <a:stretch/>
        </p:blipFill>
        <p:spPr>
          <a:xfrm>
            <a:off x="3929040" y="1000080"/>
            <a:ext cx="4210200" cy="5695920"/>
          </a:xfrm>
          <a:prstGeom prst="rect">
            <a:avLst/>
          </a:prstGeom>
          <a:ln w="0">
            <a:noFill/>
          </a:ln>
        </p:spPr>
      </p:pic>
      <p:sp>
        <p:nvSpPr>
          <p:cNvPr id="481" name="모서리가 둥근 직사각형 4"/>
          <p:cNvSpPr/>
          <p:nvPr/>
        </p:nvSpPr>
        <p:spPr>
          <a:xfrm>
            <a:off x="2714760" y="1928880"/>
            <a:ext cx="6072120" cy="41432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LRF Sensor Reaction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ave and execute scrip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84" name="Picture 6" descr=""/>
          <p:cNvPicPr/>
          <p:nvPr/>
        </p:nvPicPr>
        <p:blipFill>
          <a:blip r:embed="rId1"/>
          <a:stretch/>
        </p:blipFill>
        <p:spPr>
          <a:xfrm>
            <a:off x="2428920" y="1957320"/>
            <a:ext cx="4286160" cy="36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LRF Sensor Reaction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86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Execution resul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87" name="Picture 2" descr=""/>
          <p:cNvPicPr/>
          <p:nvPr/>
        </p:nvPicPr>
        <p:blipFill>
          <a:blip r:embed="rId1"/>
          <a:stretch/>
        </p:blipFill>
        <p:spPr>
          <a:xfrm>
            <a:off x="2357280" y="1857240"/>
            <a:ext cx="4286520" cy="36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LRF Sensor Reaction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Execution resul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90" name="Picture 2" descr=""/>
          <p:cNvPicPr/>
          <p:nvPr/>
        </p:nvPicPr>
        <p:blipFill>
          <a:blip r:embed="rId1"/>
          <a:stretch/>
        </p:blipFill>
        <p:spPr>
          <a:xfrm>
            <a:off x="2357280" y="1814400"/>
            <a:ext cx="4286520" cy="36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Topics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Prepare Python Sample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LRF Sensor Reaction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 txBox="1"/>
          <p:nvPr/>
        </p:nvSpPr>
        <p:spPr>
          <a:xfrm>
            <a:off x="0" y="2214360"/>
            <a:ext cx="9144000" cy="257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맑은 고딕"/>
              </a:rPr>
              <a:t>Prepare Python Sample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Prepare Python Sample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ample python scrip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54" name="Picture 5" descr=""/>
          <p:cNvPicPr/>
          <p:nvPr/>
        </p:nvPicPr>
        <p:blipFill>
          <a:blip r:embed="rId1"/>
          <a:stretch/>
        </p:blipFill>
        <p:spPr>
          <a:xfrm>
            <a:off x="3929040" y="1000080"/>
            <a:ext cx="4210200" cy="5695920"/>
          </a:xfrm>
          <a:prstGeom prst="rect">
            <a:avLst/>
          </a:prstGeom>
          <a:ln w="0">
            <a:noFill/>
          </a:ln>
        </p:spPr>
      </p:pic>
      <p:sp>
        <p:nvSpPr>
          <p:cNvPr id="455" name="아래쪽 화살표 4"/>
          <p:cNvSpPr/>
          <p:nvPr/>
        </p:nvSpPr>
        <p:spPr>
          <a:xfrm rot="16200000">
            <a:off x="3393360" y="2321640"/>
            <a:ext cx="285840" cy="642960"/>
          </a:xfrm>
          <a:prstGeom prst="downArrow">
            <a:avLst>
              <a:gd name="adj1" fmla="val 50000"/>
              <a:gd name="adj2" fmla="val 49986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Prepare Python Sample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ample python scrip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8" name="TextBox 3"/>
          <p:cNvSpPr/>
          <p:nvPr/>
        </p:nvSpPr>
        <p:spPr>
          <a:xfrm>
            <a:off x="2238480" y="1803240"/>
            <a:ext cx="4752720" cy="42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from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datetime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import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datetime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import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time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IsTurning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=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Fals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def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LRFEventReaction(lrf):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global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IsTurning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d1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=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lrf.DistanceMeasurements[180]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if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(d1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&lt;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1000) and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(IsTurning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==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False):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IsTurning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=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base1.Turn(90,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0.3)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base1.Go(0.3,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0.3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IsTurning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=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Fals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print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'robot_lrf_reaction.py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Ready'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Prepare Python Sample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ave as “&lt;MSRDS Root Dir&gt;/UserData/robot_lrf_reaction.py”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"/>
          <p:cNvSpPr txBox="1"/>
          <p:nvPr/>
        </p:nvSpPr>
        <p:spPr>
          <a:xfrm>
            <a:off x="0" y="2214360"/>
            <a:ext cx="9144000" cy="257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맑은 고딕"/>
              </a:rPr>
              <a:t>LRF Sensor Reaction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LRF Sensor Reaction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3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Prepare basic python script and robot environmen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64" name="Picture 6" descr=""/>
          <p:cNvPicPr/>
          <p:nvPr/>
        </p:nvPicPr>
        <p:blipFill>
          <a:blip r:embed="rId1"/>
          <a:stretch/>
        </p:blipFill>
        <p:spPr>
          <a:xfrm>
            <a:off x="2428920" y="1714680"/>
            <a:ext cx="4638600" cy="4390920"/>
          </a:xfrm>
          <a:prstGeom prst="rect">
            <a:avLst/>
          </a:prstGeom>
          <a:ln w="0">
            <a:noFill/>
          </a:ln>
        </p:spPr>
      </p:pic>
      <p:sp>
        <p:nvSpPr>
          <p:cNvPr id="465" name="아래쪽 화살표 5"/>
          <p:cNvSpPr/>
          <p:nvPr/>
        </p:nvSpPr>
        <p:spPr>
          <a:xfrm rot="16200000">
            <a:off x="1892880" y="5607720"/>
            <a:ext cx="285840" cy="642600"/>
          </a:xfrm>
          <a:prstGeom prst="downArrow">
            <a:avLst>
              <a:gd name="adj1" fmla="val 50000"/>
              <a:gd name="adj2" fmla="val 49958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6" name="아래쪽 화살표 6"/>
          <p:cNvSpPr/>
          <p:nvPr/>
        </p:nvSpPr>
        <p:spPr>
          <a:xfrm rot="5400000">
            <a:off x="6036480" y="4679280"/>
            <a:ext cx="285840" cy="642960"/>
          </a:xfrm>
          <a:prstGeom prst="downArrow">
            <a:avLst>
              <a:gd name="adj1" fmla="val 50000"/>
              <a:gd name="adj2" fmla="val 49986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LRF Sensor Reaction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8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Assign “base1” into Python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69" name="Picture 8" descr=""/>
          <p:cNvPicPr/>
          <p:nvPr/>
        </p:nvPicPr>
        <p:blipFill>
          <a:blip r:embed="rId1"/>
          <a:stretch/>
        </p:blipFill>
        <p:spPr>
          <a:xfrm>
            <a:off x="2286000" y="1643040"/>
            <a:ext cx="4714920" cy="4905360"/>
          </a:xfrm>
          <a:prstGeom prst="rect">
            <a:avLst/>
          </a:prstGeom>
          <a:ln w="0">
            <a:noFill/>
          </a:ln>
        </p:spPr>
      </p:pic>
      <p:sp>
        <p:nvSpPr>
          <p:cNvPr id="470" name="아래쪽 화살표 8"/>
          <p:cNvSpPr/>
          <p:nvPr/>
        </p:nvSpPr>
        <p:spPr>
          <a:xfrm rot="16200000">
            <a:off x="1678680" y="6036480"/>
            <a:ext cx="285840" cy="642960"/>
          </a:xfrm>
          <a:prstGeom prst="downArrow">
            <a:avLst>
              <a:gd name="adj1" fmla="val 50000"/>
              <a:gd name="adj2" fmla="val 49986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2T01:18:26Z</dcterms:created>
  <dc:creator>yjoonkim</dc:creator>
  <dc:description/>
  <dc:language>en-US</dc:language>
  <cp:lastModifiedBy>yjoonkim</cp:lastModifiedBy>
  <dcterms:modified xsi:type="dcterms:W3CDTF">2010-03-29T11:17:14Z</dcterms:modified>
  <cp:revision>953</cp:revision>
  <dc:subject/>
  <dc:title>슬라이드 1</dc:title>
</cp:coreProperties>
</file>