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A0039-2C55-4E93-81CA-E35CAD87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C535D-2277-4590-A193-73F78D5F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786CE-9713-48D6-9B5A-64DEF405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457B7-FB54-48A3-B2D9-63792A31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9E939-8500-4FB4-BD0B-7CC357D4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8D0CB-4457-4A24-A951-3E664AD4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92FB8-33E6-4CDC-A9C3-3DC7D5DE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C1904-5667-49C2-B5CB-5B984A99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CA37B-C1C6-4562-A68E-1B6993B1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193A7-BD38-4AD9-A848-35CBB741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8896E-E174-444F-AE81-887E313B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D7497-C0B2-4208-9E49-A61004B0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E9BDA-58E5-4D98-BEB2-4D82BD7E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914D4-E34A-43E4-BD1A-6E0AC0BB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EBEB4-17EA-42E8-81CE-9755FFE2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17B7B-FD35-46DC-98FA-E4B72235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C60E6-0842-4309-BA85-87E5A3FB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F51B8-B1BE-4984-BB95-75829782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00018-2465-4EA1-8A94-1B593B57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440D5-7E87-4BB2-9E8D-182B8C8F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F4CC8-015E-42A2-A35E-4621DD52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B1A60-6F78-4B59-9D86-7232FEF1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3C2AC-675E-4987-B02B-245D0B52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E9EBF-B1AF-4DD8-93CF-152F46E9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E3317-4368-4058-8468-324E9DFD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74537-B6C9-4E77-8A4D-500B155F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10164-4318-4F04-96A0-6C398B30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7341A-9BE3-4E47-B11F-B01C17A4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8B1B2-2F1F-4B87-A9C9-3D70D5EF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1F891-BECB-4607-8B06-712DD7E3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7130D-0E63-473E-8FF0-5504C5F9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04533-A2CC-4854-B6D5-C5170AF0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F87B2-A405-41D1-A71A-FFFA540D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0EEF-A3F5-4C18-B162-176EE6A3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92FA-F75A-4CA1-82FD-F0480EA8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1E1A-E43E-45A4-A5CD-E407941C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B65C-BFFF-44FC-AE76-D911A4E6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8C86-B05B-41B7-86A9-0406D76C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9410-9070-4BD6-BF0F-47D540D9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2828-064E-49D5-B3D7-98CA7760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049-E1FD-486F-9101-85CF79ED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8BEC-8A3A-4A6D-A74D-447463A5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BFDF-009C-4900-BC42-BB5F7F40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A1A0-6544-4C4C-A2B0-C99191B6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24C-82E6-42F5-9DD0-FDB89C96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9D1A-3AC2-4D0D-A0D9-66ED254B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DD81-6458-4257-B2FE-690CC3B2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D89C-946D-4FE2-B1D7-A4D8B9EA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26BF-2DEA-410B-BE1D-E5574E29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ED56-158C-4115-9C4C-0D3102A6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F40F-9F54-4B22-83E1-AC796D26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E29D-179E-4A80-9A27-8388D542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33CA-1F01-4606-ADA8-C5DDBFEA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966D-8F40-497D-BB61-A1D98E47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38A8-B6EF-4D9E-B9DD-3C0629DA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CB41-53D0-47D4-8053-B3FDD818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3795-873A-4D81-ADD8-A9F91C597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1570D-3ED8-4648-9591-8317DF19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54ABC-F888-4F32-B39A-070670A1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02B5C-62EB-438C-A504-6747B9B7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666D6-8577-4142-92BB-EDD15A33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BABBC-BE57-45FB-BB57-EC04A610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09535-8042-49EA-8839-15454F5E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FFC56-895E-48BB-A6C6-CAC29704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32071-B3F9-4837-A7F8-C0ABD413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692B6-76C4-4345-8D51-590E8D5E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AE09A-3E16-483A-9CCB-6999A4F3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03EEA-1216-49F4-AAEB-231F1633B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FABE0-2DD0-40C2-ADE0-5EE5F0BD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E33BC-F263-4D59-BCF5-24C1542B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A20D7-EB20-411C-9754-8C9153C8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38C01-F8AF-40D1-AAA2-0026F89A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0A3CB-E3B1-41C4-A772-2868BCB8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CACBF-8728-4F51-9D29-5B7FED2F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2490A-754C-48A8-A395-9E66FEEC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F5B61-475D-4713-AA2B-547F5CE0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3E758-FBFE-4865-AB06-1009C16F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E08F4-FA31-4E46-BB6C-7ADAD53C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F0F9D-34F9-48EC-AF18-AAB003B9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A81B0-CEC0-4C77-84C6-62967F08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8D44A-41E1-4146-9EDC-88A2FCDE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DB65C-49C7-4ABF-8C1F-253FB1DC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61939-E965-4851-BE9F-77C45F42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9BFCF-0AC4-408A-A665-C800D615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2661A-284B-4F40-908A-8DB30798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6DA78-3BC2-4E30-83E8-2D4D0F04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B532E-9AB1-46C0-B33F-34C53C98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17B25-A4B5-4E33-A4CF-95C4509A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DAC17-3035-4FB4-98B5-69F36C0D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B5090-F093-4CB8-8C49-85734694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06254-ECB4-4625-98BF-7FEF09A6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25441-E41A-470E-85D8-68FE289E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2460C-95D1-4B5F-BCBF-79D950CC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E8825-C589-4C24-B9FD-B96400AF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FEB28-D02C-4E71-9A0E-99E97F66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C720F-A173-465E-B50B-F2EB6057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086C2-9BC9-4F8A-AE87-DD923C4E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08531-7C16-4FCC-A439-571EDB5A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AFB1F-7A86-47B6-A798-6DA87FC3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4B16D-ECC5-4962-969A-C485D748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B301B-5EF7-449A-8467-BDF983DB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2521C-9790-4547-9E66-92D3DE7A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971DA-EBB4-45DB-ACA1-11308DCC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314BB-F96D-4FB8-9815-909A5FA1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A8F53-EBF3-491F-B593-41E291C7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9EB55-3A5B-4551-8C16-B165F8C3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89746-0527-46C0-97E8-C7AF33C5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38192-EA4C-453E-B977-17EF29B4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21A1-3256-4BCA-BA75-8B22D1D19F3A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9A1E-68CF-43CC-AD2B-E467C0591B33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A9B9-C750-4025-8E67-3B181D4C0297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3D08-5319-4201-9577-120188CB6CA2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762A-1661-4563-9911-A9505C79C94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987F-ACAB-4527-9FAA-ADA25A72E9C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7631-6659-492F-A2B0-7D7EE72E020F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B53D-A14E-42FF-A592-D1E8AED1C893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EE58-6F35-4377-8AAD-0D03D103B71B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CE10-7B0A-40F4-BD51-6F54A60C191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ent2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JointControl1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4786200" y="1500120"/>
            <a:ext cx="3714840" cy="4880160"/>
          </a:xfrm>
          <a:prstGeom prst="rect">
            <a:avLst/>
          </a:prstGeom>
          <a:ln w="0">
            <a:noFill/>
          </a:ln>
        </p:spPr>
      </p:pic>
      <p:sp>
        <p:nvSpPr>
          <p:cNvPr id="471" name="아래쪽 화살표 4"/>
          <p:cNvSpPr/>
          <p:nvPr/>
        </p:nvSpPr>
        <p:spPr>
          <a:xfrm rot="16200000">
            <a:off x="4107600" y="596448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ointControl1(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4" name="Picture 7" descr=""/>
          <p:cNvPicPr/>
          <p:nvPr/>
        </p:nvPicPr>
        <p:blipFill>
          <a:blip r:embed="rId1"/>
          <a:stretch/>
        </p:blipFill>
        <p:spPr>
          <a:xfrm>
            <a:off x="4286160" y="1214280"/>
            <a:ext cx="3838680" cy="5220000"/>
          </a:xfrm>
          <a:prstGeom prst="rect">
            <a:avLst/>
          </a:prstGeom>
          <a:ln w="0">
            <a:noFill/>
          </a:ln>
        </p:spPr>
      </p:pic>
      <p:sp>
        <p:nvSpPr>
          <p:cNvPr id="475" name="모서리가 둥근 직사각형 4"/>
          <p:cNvSpPr/>
          <p:nvPr/>
        </p:nvSpPr>
        <p:spPr>
          <a:xfrm>
            <a:off x="3714840" y="2071800"/>
            <a:ext cx="5214960" cy="3714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8" name="Picture 6" descr=""/>
          <p:cNvPicPr/>
          <p:nvPr/>
        </p:nvPicPr>
        <p:blipFill>
          <a:blip r:embed="rId1"/>
          <a:stretch/>
        </p:blipFill>
        <p:spPr>
          <a:xfrm>
            <a:off x="785880" y="1785960"/>
            <a:ext cx="4286160" cy="36860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7" descr=""/>
          <p:cNvPicPr/>
          <p:nvPr/>
        </p:nvPicPr>
        <p:blipFill>
          <a:blip r:embed="rId2"/>
          <a:stretch/>
        </p:blipFill>
        <p:spPr>
          <a:xfrm>
            <a:off x="4214880" y="271476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4" name="아래쪽 화살표 5"/>
          <p:cNvSpPr/>
          <p:nvPr/>
        </p:nvSpPr>
        <p:spPr>
          <a:xfrm rot="16200000">
            <a:off x="3464640" y="2107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5" name="Picture 7" descr=""/>
          <p:cNvPicPr/>
          <p:nvPr/>
        </p:nvPicPr>
        <p:blipFill>
          <a:blip r:embed="rId1"/>
          <a:stretch/>
        </p:blipFill>
        <p:spPr>
          <a:xfrm>
            <a:off x="4286160" y="1214280"/>
            <a:ext cx="383868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2293200" y="1803240"/>
            <a:ext cx="375588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JointControl1(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rue: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nt2.JointAngle(9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nt2.JointAngle(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nt2.JointAngle(-9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joint_simple.p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joint_simple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basic script for the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2514600" y="2990880"/>
            <a:ext cx="411480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script for the joint sample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2490840" y="1747800"/>
            <a:ext cx="41623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30T04:39:32Z</dcterms:modified>
  <cp:revision>972</cp:revision>
  <dc:subject/>
  <dc:title>슬라이드 1</dc:title>
</cp:coreProperties>
</file>