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FF17-ADE3-4F49-B67A-034FCA8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89769-8045-4028-AF0B-94C26CC1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C143-01B4-41AB-A213-E3B5827C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2547E-2618-4F13-9EA6-661965AD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D5668-A0B7-4DF9-8CF7-EB374F0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E30C-AD2E-4530-8CD4-6AF1E72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96E59-3B67-4108-A980-FBF6F1B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9B36A-DDAC-4263-A47A-7A9C5B37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9542-5FF5-42C9-8879-4F3C5643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2DB5-DA66-48DC-AD24-69A57707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F5E68-5241-4F58-A81E-30EEF13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F8DBB-B405-4846-8B1F-EE5B2FF3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D555-A6B4-4447-96E9-FD9D0904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BD3F8-4ACF-435D-83B0-F4E6223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36E03-7618-4E17-8490-80AFFCF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F0243-2BB2-4D04-87E8-6EFEEA1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4AB9-367C-492C-AA50-6460E80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73BC-773E-4023-9A9A-6062F62E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47C4-D8A0-48CB-B4DF-0217BAB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693EA-8CEE-4AB8-AF1F-2D050300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B6D5-94F8-4D56-8C5F-94380630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F1931-6A24-457B-BEDA-FC8A2DC1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BB63B-8C1E-4145-9539-9089DE5A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7443-9F04-4CFB-A627-AC2B7DCA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F3AD7-6695-445A-9D80-262A7480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CEF62-E3C4-4BE8-B75E-C6BDF8F4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02B2-FF8A-44DD-96B9-CF7E854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BA72D-DC90-42A4-9EDA-EB27829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FB6B1-AE79-4B9A-9337-33988D2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96C4-824A-4DAE-A8B4-48EBBEC0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E0A5A-B0C1-4041-A8CA-9EE23A9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9A03-B7AA-43A7-B12A-D2CE55C6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6B2AF-4AF6-4525-9301-17BAB24B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4BF-8B22-4FC7-ACBA-2F26701C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F79-7BE2-48EB-B2F6-1760184B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79A-AE8E-40AF-8276-8A5ABAA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DCC-9C86-4825-B2AD-26FC63A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3C5-C6DD-4A81-B3D0-2A366E9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40E-B1A0-4C73-A612-EAC7ED4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170-EA44-4266-B2F2-6E9A0B3F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5E0-C951-477A-847C-62935F7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FB8-3239-45A5-AF67-E8A1A43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3B2-FF36-4861-B920-DC11D3C8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FB6-1529-4568-86A0-2636AFA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EA3-A420-4774-8A0C-A06DAB52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CE83-D1C9-4E91-9F14-70CD3122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A692-0856-494F-8F3B-F66050B4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5631-5802-4820-9572-D946343E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D55-EBC7-422F-9CFC-DAA92CB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7468-ACDB-4D06-B60E-56C0D46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BD23-AA6B-47B7-B1AE-0111949D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A393-8D42-4974-B6A3-7EDA1E4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2F4F-6F92-47E5-BFC3-3EC4D8D0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0909-0FE4-45E5-BED0-49B996A7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8035-6C1B-4E48-BDAB-7FE66D79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B36-E984-49F3-83E9-DBF550D4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AEA9-E654-47E3-8853-2C0DB564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1ABB-5FF7-428D-AC58-BF01C7D6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15A3-60F3-4BD1-9E7E-2E7ED528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27B4-54FE-401D-9674-59B5429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DB1C-25C6-4AA8-A1F0-C0927B9B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3553-88DD-4C3B-83DD-6359D9A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92B2-47A9-40CF-8C17-9D993829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655F-ED0A-4A70-8F20-F3DD790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3712-17D6-4B8A-AD63-A355A11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DF71-C05C-4106-898F-AB7564A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30E5-939A-40E5-80D5-D86C4413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07AD-C31A-4D92-A5C9-D7AF5ADE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B864-0442-4836-8576-34FB0738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A730-B84C-406F-A3FB-F989F043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1296-40C4-423C-9294-ECD66FEF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8CAA-F9A2-4644-8D9A-A5BF3B9F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36F3-D23A-4543-9F24-D88B130E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11C0-BF4E-4710-8EAE-DB89D78A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4CCA-FE64-43D1-A8ED-B0957E25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61CA-AB22-4CBB-B729-2D58435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08F7-82AF-4D6B-BEC6-B341C4F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ADB9-5CF0-4AA7-B764-66AFB86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3071-A5B3-4D83-96D1-E64DDB0F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40A0-AF8A-4D27-95A1-6C2A32C7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8936-FAB0-4E80-AEC1-AC741AFD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AE17-1930-4BD9-A12B-3860F3CB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0EC2-487D-4004-B0A5-3945C8CF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1697-D95A-408C-BFE0-A3E21EE9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E7A1-4B17-4DCD-B926-9AE658F7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BD60-7775-4381-9001-9293AF9A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528D-4454-4E53-9A53-ABA3B1F9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CFD3B-871E-4E9E-80E4-E249772E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806D-F05F-49C2-B8DF-9A8EF35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7B1C-BFA2-428E-87FC-7DE41DF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037E-C37F-4D9F-8D96-50A4CC7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3F3A-3321-4CA7-A39C-CF018758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B36D-2097-4C38-A0CB-8CA6126F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C0301-2F61-4F4A-A826-922FDAB1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0B69-5574-4962-B735-7928CB64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325D-8FB6-4636-BE97-BE875B5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A9353-A72A-4245-9422-7DB062C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5AF0-4FBC-41C7-99E9-5946EC0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10AA-4313-4025-AE9B-BB10F5FC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FD62-E9A5-4C01-91BB-085A08B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F098-B742-40E2-BA9D-C60409A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BDFB-23A4-4C36-BF99-4438BBF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E0CD-CBA6-494F-90FF-9AD9143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B631-6FC6-460D-9C3A-1A59E63C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BF16-E29B-4F79-AD69-9D01EDFA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E30A-1CA6-40EB-B910-293C6F6F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8DE8-93E4-45BF-9614-5B0D8324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3BFF-B55C-439D-9D18-09068B9E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E172-1B01-41F4-9DE1-BDE530D895F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284B-4955-4548-A503-95B9B88A217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753-282B-422E-934B-0B37D638BFCA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7E0-6113-4677-A5B8-75F5CA294E3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8F1D-0EBE-451C-80BF-76510CC44D7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E95-FF85-4570-9908-A656E8BED88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4B8-D89D-460B-BB51-F65BE2AF33E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F8C-9530-4419-9AB5-8B702BE470A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FFBB-FF4C-4ACE-B9D9-62CE62F83E6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811D-DD5C-4C37-8431-FC3BFDCCA7D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 with 0.3 and 0.3 pow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3935520" cy="4929120"/>
          </a:xfrm>
          <a:prstGeom prst="rect">
            <a:avLst/>
          </a:prstGeom>
          <a:ln w="0">
            <a:noFill/>
          </a:ln>
        </p:spPr>
      </p:pic>
      <p:sp>
        <p:nvSpPr>
          <p:cNvPr id="476" name="아래쪽 화살표 8"/>
          <p:cNvSpPr/>
          <p:nvPr/>
        </p:nvSpPr>
        <p:spPr>
          <a:xfrm rot="16200000">
            <a:off x="2107440" y="6107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and “lrf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heckLRF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530520" cy="5362560"/>
          </a:xfrm>
          <a:prstGeom prst="rect">
            <a:avLst/>
          </a:prstGeom>
          <a:ln w="0">
            <a:noFill/>
          </a:ln>
        </p:spPr>
      </p:pic>
      <p:sp>
        <p:nvSpPr>
          <p:cNvPr id="480" name="아래쪽 화살표 7"/>
          <p:cNvSpPr/>
          <p:nvPr/>
        </p:nvSpPr>
        <p:spPr>
          <a:xfrm rot="16200000">
            <a:off x="410760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LRF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1500120" y="2643120"/>
            <a:ext cx="6072120" cy="185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lrf sensor even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ptions of LRF Sen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493" name="아래쪽 화살표 4"/>
          <p:cNvSpPr/>
          <p:nvPr/>
        </p:nvSpPr>
        <p:spPr>
          <a:xfrm rot="5400000">
            <a:off x="5536440" y="296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아래쪽 화살표 5"/>
          <p:cNvSpPr/>
          <p:nvPr/>
        </p:nvSpPr>
        <p:spPr>
          <a:xfrm rot="5400000">
            <a:off x="6036480" y="496476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ild sim environment and basic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/Procedure_SensorNotify:proc1” op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05160" y="2205000"/>
            <a:ext cx="4333680" cy="4438800"/>
          </a:xfrm>
          <a:prstGeom prst="rect">
            <a:avLst/>
          </a:prstGeom>
          <a:ln w="0">
            <a:noFill/>
          </a:ln>
        </p:spPr>
      </p:pic>
      <p:sp>
        <p:nvSpPr>
          <p:cNvPr id="498" name="아래쪽 화살표 4"/>
          <p:cNvSpPr/>
          <p:nvPr/>
        </p:nvSpPr>
        <p:spPr>
          <a:xfrm rot="16200000">
            <a:off x="1892880" y="61794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아래쪽 화살표 5"/>
          <p:cNvSpPr/>
          <p:nvPr/>
        </p:nvSpPr>
        <p:spPr>
          <a:xfrm rot="5400000">
            <a:off x="6179400" y="5179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 and 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952800" cy="4943160"/>
          </a:xfrm>
          <a:prstGeom prst="rect">
            <a:avLst/>
          </a:prstGeom>
          <a:ln w="0">
            <a:noFill/>
          </a:ln>
        </p:spPr>
      </p:pic>
      <p:sp>
        <p:nvSpPr>
          <p:cNvPr id="503" name="아래쪽 화살표 4"/>
          <p:cNvSpPr/>
          <p:nvPr/>
        </p:nvSpPr>
        <p:spPr>
          <a:xfrm rot="16200000">
            <a:off x="1892880" y="575064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아래쪽 화살표 5"/>
          <p:cNvSpPr/>
          <p:nvPr/>
        </p:nvSpPr>
        <p:spPr>
          <a:xfrm rot="16200000">
            <a:off x="1893240" y="610776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” with event val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544920" cy="5514840"/>
          </a:xfrm>
          <a:prstGeom prst="rect">
            <a:avLst/>
          </a:prstGeom>
          <a:ln w="0">
            <a:noFill/>
          </a:ln>
        </p:spPr>
      </p:pic>
      <p:sp>
        <p:nvSpPr>
          <p:cNvPr id="508" name="아래쪽 화살표 4"/>
          <p:cNvSpPr/>
          <p:nvPr/>
        </p:nvSpPr>
        <p:spPr>
          <a:xfrm rot="16200000">
            <a:off x="482184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512" name="모서리가 둥근 직사각형 4"/>
          <p:cNvSpPr/>
          <p:nvPr/>
        </p:nvSpPr>
        <p:spPr>
          <a:xfrm>
            <a:off x="1285920" y="4572000"/>
            <a:ext cx="614376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2821680" y="2535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282168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176560" y="1928880"/>
            <a:ext cx="5961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heckLRF(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Check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1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LRFEvent(lrf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robot_lrf.py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while loop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343240" y="1990800"/>
            <a:ext cx="4457520" cy="372420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821600" y="4250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609480" y="1643040"/>
            <a:ext cx="7925040" cy="4915080"/>
          </a:xfrm>
          <a:prstGeom prst="rect">
            <a:avLst/>
          </a:prstGeom>
          <a:ln w="0">
            <a:noFill/>
          </a:ln>
        </p:spPr>
      </p:pic>
      <p:sp>
        <p:nvSpPr>
          <p:cNvPr id="470" name="자유형 5"/>
          <p:cNvSpPr/>
          <p:nvPr/>
        </p:nvSpPr>
        <p:spPr>
          <a:xfrm>
            <a:off x="2643120" y="3857760"/>
            <a:ext cx="1643040" cy="17859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 rot="16200000">
            <a:off x="46440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아래쪽 화살표 7"/>
          <p:cNvSpPr/>
          <p:nvPr/>
        </p:nvSpPr>
        <p:spPr>
          <a:xfrm rot="1502400">
            <a:off x="2479320" y="2101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53Z</dcterms:modified>
  <cp:revision>947</cp:revision>
  <dc:subject/>
  <dc:title>슬라이드 1</dc:title>
</cp:coreProperties>
</file>