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74CE6-4F82-410A-8790-C126DAFFC5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DF52D-A0CE-452E-B2F4-2777C85D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432B5-FBE6-4331-8A83-34996E53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B4BF0-C4A7-41D1-B066-C36C7326F4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CD66E-3CE2-4172-B3C8-6BCD94ED75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A6E6A-4606-4CF2-A694-A50DDECC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AF949-4D91-4B7C-8857-A77716CC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C3CC6-DA41-48D6-9C89-8465ED7B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DCB15-F760-42C5-99E9-23B82915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D3BE3-1FF4-489F-A783-44FFD96D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3F263-66AA-4CD1-B76B-BD536530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96430-57B3-4441-903A-2F0690CD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A800D-C14B-4C3D-8181-7E32B7C5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70DF1-D5E7-40F8-AD8C-5487582B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253AC-DB4C-440D-B854-1F70D730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D4298-7A53-466A-8CA6-1D825EB8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F7590-1C68-4E7A-BC3D-597A891B52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56B9B6-B407-4683-BD5A-FB2E7D49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6D5BFB-C471-4393-B370-B36EBEA6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64451A-37D9-4B81-87B8-3A722775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AE320F-77BC-4921-89C5-1E8CCF60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7B2D73-7247-49D5-B8B8-4FA1904F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5FE25-294C-4E45-8C57-0AA98B29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47D6FC-0091-4297-99C4-24C1CF13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793B05-9AC6-4AEF-ADBE-F6C15742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588001-B582-4FB9-8341-A69E3151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BDB92E-AEC9-4BC9-B3F6-8A52CC39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180CD0-7E22-4DA7-A7DA-FFA63BE6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DF7955-518B-4E25-9840-CA0EA1E3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520ECA-FD94-42AE-AA84-8DD33FC2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EA773-073D-484C-9B14-EBCE93D3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6D247-92C1-4781-AC42-9FC19397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CE479-B8BA-42F4-A150-CDC0DC96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A764-ABF7-4C16-832C-4FD4BADB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F8BAA-53BF-4BAC-BF57-6ED9E977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B972-904E-4D7D-AB43-E4B22A1C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l-GR" sz="18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11/1/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l-GR" sz="18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D38C045-C92E-46C9-896F-C81FB3A89096}" type="slidenum"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l-GR" sz="18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11/1/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l-GR" sz="18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8B0446E-4F8E-4934-A3BF-CA0BD547FE47}" type="slidenum"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EEBDC9-66B3-4A4B-AB09-09C1E8452DF2}" type="slidenum">
              <a:rPr b="0" lang="el-G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2712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Ναυτιλιακή Τηλεϊατρική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Ηλίας Μπελαλή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Ηλίας Γκελεστάθη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95640" y="1785960"/>
            <a:ext cx="2952720" cy="23907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1960"/>
            <a:ext cx="82296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alibri"/>
              </a:rPr>
              <a:t>Προγράμματα – Συστήματα τηλεϊατρικής για πλοία (συνέχεια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112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ERMAID (medical emergency aid through telema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Λειτουργία σε όλους τους ωκεανού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Το τηλεπικοινωνιακό λογισμικό του MERMAID περιλαμβάνε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716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Ένα σύστημα ιατρικών εγγράφων για την καταγραφή του ιστορικού του ασθενού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716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Μια Βάση Δεδομένων με δεδομένα που αφορούν φάρμακα και ιατρικό εξοπλισμ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716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Μια επιλογή Βοήθειας για γρήγορη εύρεση βοήθειας με τη μορφή ιατρικών συμβουλώ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268360" y="5040360"/>
            <a:ext cx="4067280" cy="182880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push dir="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dur="indefinite" fill="hold">
                      <p:stCondLst>
                        <p:cond delay="0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ρογράμματα τηλεϊατρικής με εφαρμογές και σε πλοί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882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GAL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NIV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TELE-I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587760" y="1905120"/>
            <a:ext cx="5029200" cy="327024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push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dur="indefinite" fill="hold">
                      <p:stCondLst>
                        <p:cond delay="0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52480" y="750960"/>
            <a:ext cx="7175520" cy="447048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71600" y="212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Ζητήματα Ασφάλεια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1363680"/>
            <a:ext cx="8229600" cy="31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ιακινούνται ιδιαίτερα ευαίσθητες πληροφορίες, οποίες είναι κρίσιμές για τη ζωή και την υγεία των ασθενώ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τσι, το σύστημα τηλεϊατρικής πρέπει να προστατεύει τις πληροφορίες από τυχόν αλλοιώσεις, καθώς και από μη εξουσιοδοτημένη χρήση των πόρων το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ε γενικές γραμμές, μπορούμε να πούμε ότι οι κίνδυνοι και οι απειλές ασφάλειας δεν διαφέρουν πολύ από οποιοδήποτε άλλο κατανεμημένο πληροφοριακό σύστημ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dur="indefinite" fill="hold">
                      <p:stCondLst>
                        <p:cond delay="0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92000" y="539640"/>
            <a:ext cx="7175520" cy="447048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Ζητήματα Ασφάλειας (συνέχεια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2400" y="1511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ασικές αρχές στην ασφάλεια Πληροφοριακών Συστημάτ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Ακεραιότη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716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Αποφυγή εσκεμμένης ή ακούσιας παραποίησης, αλλοίωσης, διαγραφής πληροφοριώ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Διαθεσιμότη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716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Δυνατότητα άμεσης και συνεχούς πρόσβασης στις πληροφορίες όταν απαιτείτα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Εμπιστευτικότητ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716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Διαφύλαξη προσωπικών δεδομένων – ιατρικό απόρρητ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dur="indefinite" fill="hold">
                      <p:stCondLst>
                        <p:cond delay="0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069920" y="576360"/>
            <a:ext cx="6599160" cy="403200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6760" y="215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Ζητήματα Ασφάλειας (συνέχεια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2760" y="10904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στήματα Αναγνώρισης – Αυθεντικοποίη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Usernames-passwords, κάρτες με PIN, τεχνικές ελέγχου βιομετρικών χαρακτηριστικών π.χ. δακτυλικά αποτυπώματα, ίριδ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Ψηφιακά Πιστοποιητι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ρυπτογράφηση δεδομένω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332000" y="4535640"/>
            <a:ext cx="6629400" cy="226188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push dir="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dur="indefinite" fill="hold">
                      <p:stCondLst>
                        <p:cond delay="0"/>
                      </p:stCondLst>
                      <p:childTnLst>
                        <p:par>
                          <p:cTn id="3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12720" y="382680"/>
            <a:ext cx="7848720" cy="59529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679840" y="2228760"/>
            <a:ext cx="3809880" cy="28083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ι είναι Τηλεϊατρική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19120" y="1008000"/>
            <a:ext cx="64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ηλεϊατρική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αφέρεται στην εφαρμογή των σύγχρονων τεχνολογιών, των τηλεπικοινωνιών και της πληροφορικής, για να προσφέρει σε ασθενείς κλινική βοήθεια από απόστασ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χρήση των νέων τεχνολογιών επιτρέπει την εύκολη επικοινωνία του ιατρού με τον ασθενή μέσω εικόνας και ήχο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0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άγκες Χρήσης Τηλεϊατρική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9360" y="1081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Υπάρχουν περιπτώσεις όπου είναι αρκετά δύσκολη έως αδύνατη η προσέλευση ενός ασθενή στο Νοσοκομεί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Απομονωμένες περιοχέ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(όπως νησιά, ορεινές περιοχές με περιορισμένο εξοπλισμ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Ναυτικό σώμ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(περιορισμένη πρόσβαση σε υπηρεσίες υγείας, απουσία ιατρού στο χώρο εργασίας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Επείγοντα περιστατικά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ανάγκη για άμεση αντιμετώπιση κάποιου προβλήματος υγεία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Περιπτώσεις απουσίας καταρτισμένου ιατρο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Ηλικιωμένο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Άτομα με ειδικές ανάγκε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περιορισμένη κινητική ικανότητα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0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dur="indefinite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46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dur="indefinite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3120" y="22680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τηγορίες Τηλεϊατρική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936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τηλεϊατρική χωρίζεται σε τρείς κατηγορίε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Αποθήκευση – Προώθη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716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Εμπεριέχει ιατρικά δεδομένα, όπως ιατρικές φωτογραφίες, καρδιογραφήματα κ.ά. Τα οποία μεταφέρονται στον ιατρό για να εκτιμήσει την κατάσταση του αρρώστου και να δώσει την κατάλληλη θεραπεί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Απομακρυσμένη Παρακολούθη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716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Επιτρέπει την παρατήρηση του ασθενούς εξ’ αποστάσεω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716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Χρησιμοποιείται κυρίως για χρόνια νοσήματα(άσθμα, διαβήτης κ.ά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Διαδραστικές Υπηρεσί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716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Παρέχει άμεση επικοινωνία μεταξύ του ασθενούς και του ιατρο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0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85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μείς Τηλεϊατρική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36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ηλε-καρδιολογ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ηλε-παθολογ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ηλε-οφθαλμολογ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ηλε-δερματολογ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ηλε-ακτινολογ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ηλε-ψυχιατρικ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916520" y="1511280"/>
            <a:ext cx="3219480" cy="432432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push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0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παιτήσεις ενός συστήματος τηλεϊατρική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2400" y="1584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ια την αποτελεσματική λειτουργία των συστημάτων τηλεϊατρικής απαιτείται η κατάλληλη υποδομή και ο κατάλληλος εξοπλισμός (software, hardware), για τη συλλογή, μετάδοση, αποθήκευση, επεξεργασία και παρουσίαση των δεδομέν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ιδικότερα, απαιτούντα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Συσκευές λήψης (μικρόφωνο, κάμερα, ιατρικά μηχανήματ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Συσκευές Παρακολούθησης (οθόνε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Δίκτυα Τηλεπικοινωνί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Το κατάλληλο λογισμικ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Συσκευές αποθήκευσης δεδομέν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480000" y="4680000"/>
            <a:ext cx="2495880" cy="192888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push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dur="indefinite" fill="hold">
                      <p:stCondLst>
                        <p:cond delay="0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224000" y="1655640"/>
            <a:ext cx="6191280" cy="446400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ορυφορική μετάδοση στην Τηλεϊατρική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8040" y="15476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τηλεϊατρική σαν πολυμεσική εφαρμογή απαιτεί μεγάλο εύρος ζώνης και υψηλούς ρυθμού μετάδοσης με σκοπό τη μετάδοση εικόνων και βίντε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δορυφορικής μετάδοση παρέχει μεγάλο εύρος ζώνης, οπότε είναι κατάλληλη για πολυμεσικές εφαρμογέ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εριορισμός το υψηλό κόστο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ανάπτυξη επίγειων σταθμών που προσφέρουν σχετικά εύρος ζώνης σε τερματικά μικρού μεγέθους (VSAT), δίνει τη δυνατότητα για μετάδοση χαμηλού κόστου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fill="hold">
                      <p:stCondLst>
                        <p:cond delay="0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360" y="117360"/>
            <a:ext cx="88567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λεϊατρική στη Ναυτιλιακή Κοινότητ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4160" y="1139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ε όλο τον κόσμο περίπου 1.500.000 άνθρωποι εργάζονται σε εμπορικά πλο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διάγνωση νόσων και παθήσεων καθώς και η θεραπεία ασθενών εν πλω είναι δύσκολη να εφαρμοστε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υπεύθυνοι παροχής ιατροφαρμακευτικής περίθαλψης δεν είναι ιατροί είτε είναι ιατροί κα δεν κατέχουν την κατάλληλη εξειδίκευσ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διακομιδές ασθενών από τα πλοία είναι δαπανηρές, αφού απαιτείται μίσθωση ελικοπτέρου ή εκτροπή της πορείας του πλοίου για αποβίβαση του ασθενή ή του τραυματί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επάγγελμα του ναυτικού συγκαταλέγεται στα επαγγέλματα με υψηλό κίνδυνο για ασθένεια ή ατύχημ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 αριθμός τον κλήσεων τηλεϊατρικής από τη θάλασσα σε όλο τον κόσμο υπολογίζεται σε 15.000 – 20.000 το χρόν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dur="indefinite" fill="hold">
                      <p:stCondLst>
                        <p:cond delay="0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ρογράμματα – Συστήματα τηλεϊατρικής για πλοί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120" y="1593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EDASHIP (Medical Assistance for Shi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Λειτουργία στις Ευρωπαϊκές θάλασσ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Ιδρύθηκε και επιχορηγήθηκε από την Ε.Ε. με τη συνεργασία τεσσάρων κρατών, Ιταλίας, Ηνωμένου Βασιλείου, Γαλλίας και Ελλάδα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Σκοπός ήταν η κάλυψη του 0,5% των εμπορικών πλοίων και 4% των επιβατηγών και κρουαζιερόπλοιω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Το πρόγραμμα δε συνέχισε τη λειτουργία του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735280" y="4680000"/>
            <a:ext cx="3592440" cy="213372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push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dur="indefinite" fill="hold">
                      <p:stCondLst>
                        <p:cond delay="0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lias </cp:lastModifiedBy>
  <dcterms:modified xsi:type="dcterms:W3CDTF">2018-01-11T18:04:28Z</dcterms:modified>
  <cp:revision>21</cp:revision>
  <dc:subject/>
  <dc:title/>
</cp:coreProperties>
</file>