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Arial"/>
              </a:rPr>
              <a:t>Click to move the slide</a:t>
            </a:r>
            <a:endParaRPr b="0" lang="en-US" sz="4500" spc="-1" strike="noStrike">
              <a:solidFill>
                <a:srgbClr val="000000"/>
              </a:solidFill>
              <a:latin typeface="Arial"/>
            </a:endParaRPr>
          </a:p>
        </p:txBody>
      </p:sp>
      <p:sp>
        <p:nvSpPr>
          <p:cNvPr id="168"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0" name="PlaceHolder 4"/>
          <p:cNvSpPr>
            <a:spLocks noGrp="1"/>
          </p:cNvSpPr>
          <p:nvPr>
            <p:ph type="dt" idx="10"/>
          </p:nvPr>
        </p:nvSpPr>
        <p:spPr>
          <a:xfrm>
            <a:off x="4398840" y="-360"/>
            <a:ext cx="3368880" cy="49860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5"/>
          <p:cNvSpPr>
            <a:spLocks noGrp="1"/>
          </p:cNvSpPr>
          <p:nvPr>
            <p:ph type="ftr" idx="11"/>
          </p:nvPr>
        </p:nvSpPr>
        <p:spPr>
          <a:xfrm>
            <a:off x="-360" y="9554760"/>
            <a:ext cx="3368520" cy="49860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6"/>
          <p:cNvSpPr>
            <a:spLocks noGrp="1"/>
          </p:cNvSpPr>
          <p:nvPr>
            <p:ph type="sldNum" idx="12"/>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60505-F8A9-41AA-9565-5D910688C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3560"/>
            <a:ext cx="5029200" cy="3772080"/>
          </a:xfrm>
          <a:prstGeom prst="rect">
            <a:avLst/>
          </a:prstGeom>
          <a:ln w="0">
            <a:noFill/>
          </a:ln>
        </p:spPr>
      </p:sp>
      <p:sp>
        <p:nvSpPr>
          <p:cNvPr id="28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1600" y="763560"/>
            <a:ext cx="5029200" cy="3772080"/>
          </a:xfrm>
          <a:prstGeom prst="rect">
            <a:avLst/>
          </a:prstGeom>
          <a:ln w="0">
            <a:noFill/>
          </a:ln>
        </p:spPr>
      </p:sp>
      <p:sp>
        <p:nvSpPr>
          <p:cNvPr id="306" name=""/>
          <p:cNvSpPr/>
          <p:nvPr/>
        </p:nvSpPr>
        <p:spPr>
          <a:xfrm>
            <a:off x="777960" y="4776840"/>
            <a:ext cx="6218280" cy="4525920"/>
          </a:xfrm>
          <a:prstGeom prst="rect">
            <a:avLst/>
          </a:prstGeom>
          <a:noFill/>
          <a:ln w="0">
            <a:noFill/>
          </a:ln>
        </p:spPr>
        <p:style>
          <a:lnRef idx="0"/>
          <a:fillRef idx="0"/>
          <a:effectRef idx="0"/>
          <a:fontRef idx="minor"/>
        </p:style>
        <p:txBody>
          <a:bodyPr lIns="0" rIns="0" tIns="5760" bIns="0" anchor="t">
            <a:noAutofit/>
          </a:bodyPr>
          <a:p>
            <a:pPr marL="216000" indent="-212760" algn="just">
              <a:lnSpc>
                <a:spcPct val="98000"/>
              </a:lnSpc>
              <a:spcBef>
                <a:spcPts val="1738"/>
              </a:spcBef>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200" spc="-1" strike="noStrike">
                <a:solidFill>
                  <a:srgbClr val="000000"/>
                </a:solidFill>
                <a:latin typeface="Book Antiqua"/>
              </a:rPr>
              <a:t>Υπάρχουν διάφοροι τρόποι ταξινόμησης κρυπτογραφικών αλγορίθμων. Για τους σκοπούς της εργασίας μας, θα κατηγοριοποιηθούν με βάση τον αριθμό των κλειδιών που χρησιμοποιούνται για κρυπτογράφηση και αποκρυπτογράφηση, και περαιτέρω καθορίζονται από την εφαρμογή και τη χρήση τους. Οι τρεις τύποι αλγορίθμων που θα συζητηθούν είναι</a:t>
            </a:r>
            <a:endParaRPr b="0" lang="en-US" sz="2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371600" y="763560"/>
            <a:ext cx="5029200" cy="3772080"/>
          </a:xfrm>
          <a:prstGeom prst="rect">
            <a:avLst/>
          </a:prstGeom>
          <a:ln w="0">
            <a:noFill/>
          </a:ln>
        </p:spPr>
      </p:sp>
      <p:sp>
        <p:nvSpPr>
          <p:cNvPr id="30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371600" y="763560"/>
            <a:ext cx="5029200" cy="3772080"/>
          </a:xfrm>
          <a:prstGeom prst="rect">
            <a:avLst/>
          </a:prstGeom>
          <a:ln w="0">
            <a:noFill/>
          </a:ln>
        </p:spPr>
      </p:sp>
      <p:sp>
        <p:nvSpPr>
          <p:cNvPr id="31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763560"/>
            <a:ext cx="5029200" cy="3772080"/>
          </a:xfrm>
          <a:prstGeom prst="rect">
            <a:avLst/>
          </a:prstGeom>
          <a:ln w="0">
            <a:noFill/>
          </a:ln>
        </p:spPr>
      </p:sp>
      <p:sp>
        <p:nvSpPr>
          <p:cNvPr id="31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371600" y="763560"/>
            <a:ext cx="5029200" cy="3772080"/>
          </a:xfrm>
          <a:prstGeom prst="rect">
            <a:avLst/>
          </a:prstGeom>
          <a:ln w="0">
            <a:noFill/>
          </a:ln>
        </p:spPr>
      </p:sp>
      <p:sp>
        <p:nvSpPr>
          <p:cNvPr id="31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71600" y="763560"/>
            <a:ext cx="5029200" cy="3772080"/>
          </a:xfrm>
          <a:prstGeom prst="rect">
            <a:avLst/>
          </a:prstGeom>
          <a:ln w="0">
            <a:noFill/>
          </a:ln>
        </p:spPr>
      </p:sp>
      <p:sp>
        <p:nvSpPr>
          <p:cNvPr id="31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371600" y="763560"/>
            <a:ext cx="5029200" cy="3772080"/>
          </a:xfrm>
          <a:prstGeom prst="rect">
            <a:avLst/>
          </a:prstGeom>
          <a:ln w="0">
            <a:noFill/>
          </a:ln>
        </p:spPr>
      </p:sp>
      <p:sp>
        <p:nvSpPr>
          <p:cNvPr id="318" name=""/>
          <p:cNvSpPr/>
          <p:nvPr/>
        </p:nvSpPr>
        <p:spPr>
          <a:xfrm>
            <a:off x="777960" y="4776840"/>
            <a:ext cx="6218280" cy="4525920"/>
          </a:xfrm>
          <a:prstGeom prst="rect">
            <a:avLst/>
          </a:prstGeom>
          <a:noFill/>
          <a:ln w="0">
            <a:noFill/>
          </a:ln>
        </p:spPr>
        <p:style>
          <a:lnRef idx="0"/>
          <a:fillRef idx="0"/>
          <a:effectRef idx="0"/>
          <a:fontRef idx="minor"/>
        </p:style>
        <p:txBody>
          <a:bodyPr lIns="0" rIns="0" tIns="5760" bIns="0" anchor="t">
            <a:noAutofit/>
          </a:bodyPr>
          <a:p>
            <a:pPr marL="216000" indent="-212760" algn="just">
              <a:lnSpc>
                <a:spcPct val="98000"/>
              </a:lnSpc>
              <a:spcBef>
                <a:spcPts val="1738"/>
              </a:spcBef>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200" spc="-1" strike="noStrike">
                <a:solidFill>
                  <a:srgbClr val="000000"/>
                </a:solidFill>
                <a:latin typeface="Book Antiqua"/>
              </a:rPr>
              <a:t>Η ψηφιακή υπογραφή που χρησιμοποιεί κρυπτογράφηση δημοσίου κλειδιού θεωρείται πολύ σημαντική και χρήσιμο εργαλείο για την επίτευξη της ασφάλειας των πληροφοριών. Η ψηφιακή υπογραφή παρέχει έλεγχο ταυτότητας μηνυμάτων και ακεραιότητα δεδομένων. Τα ανωτέρω επιτυγχάνονται ως εξής</a:t>
            </a:r>
            <a:endParaRPr b="0" lang="en-US" sz="2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371600" y="763560"/>
            <a:ext cx="5029200" cy="3772080"/>
          </a:xfrm>
          <a:prstGeom prst="rect">
            <a:avLst/>
          </a:prstGeom>
          <a:ln w="0">
            <a:noFill/>
          </a:ln>
        </p:spPr>
      </p:sp>
      <p:sp>
        <p:nvSpPr>
          <p:cNvPr id="32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71600" y="763560"/>
            <a:ext cx="5029200" cy="3772080"/>
          </a:xfrm>
          <a:prstGeom prst="rect">
            <a:avLst/>
          </a:prstGeom>
          <a:ln w="0">
            <a:noFill/>
          </a:ln>
        </p:spPr>
      </p:sp>
      <p:sp>
        <p:nvSpPr>
          <p:cNvPr id="32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371600" y="763560"/>
            <a:ext cx="5029200" cy="3772080"/>
          </a:xfrm>
          <a:prstGeom prst="rect">
            <a:avLst/>
          </a:prstGeom>
          <a:ln w="0">
            <a:noFill/>
          </a:ln>
        </p:spPr>
      </p:sp>
      <p:sp>
        <p:nvSpPr>
          <p:cNvPr id="32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3560"/>
            <a:ext cx="5029200" cy="3772080"/>
          </a:xfrm>
          <a:prstGeom prst="rect">
            <a:avLst/>
          </a:prstGeom>
          <a:ln w="0">
            <a:noFill/>
          </a:ln>
        </p:spPr>
      </p:sp>
      <p:sp>
        <p:nvSpPr>
          <p:cNvPr id="29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371600" y="763560"/>
            <a:ext cx="5029200" cy="3772080"/>
          </a:xfrm>
          <a:prstGeom prst="rect">
            <a:avLst/>
          </a:prstGeom>
          <a:ln w="0">
            <a:noFill/>
          </a:ln>
        </p:spPr>
      </p:sp>
      <p:sp>
        <p:nvSpPr>
          <p:cNvPr id="32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371600" y="763560"/>
            <a:ext cx="5029200" cy="3772080"/>
          </a:xfrm>
          <a:prstGeom prst="rect">
            <a:avLst/>
          </a:prstGeom>
          <a:ln w="0">
            <a:noFill/>
          </a:ln>
        </p:spPr>
      </p:sp>
      <p:sp>
        <p:nvSpPr>
          <p:cNvPr id="32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371600" y="763560"/>
            <a:ext cx="5029200" cy="3772080"/>
          </a:xfrm>
          <a:prstGeom prst="rect">
            <a:avLst/>
          </a:prstGeom>
          <a:ln w="0">
            <a:noFill/>
          </a:ln>
        </p:spPr>
      </p:sp>
      <p:sp>
        <p:nvSpPr>
          <p:cNvPr id="33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371600" y="763560"/>
            <a:ext cx="5029200" cy="3772080"/>
          </a:xfrm>
          <a:prstGeom prst="rect">
            <a:avLst/>
          </a:prstGeom>
          <a:ln w="0">
            <a:noFill/>
          </a:ln>
        </p:spPr>
      </p:sp>
      <p:sp>
        <p:nvSpPr>
          <p:cNvPr id="33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371600" y="763560"/>
            <a:ext cx="5029200" cy="3772080"/>
          </a:xfrm>
          <a:prstGeom prst="rect">
            <a:avLst/>
          </a:prstGeom>
          <a:ln w="0">
            <a:noFill/>
          </a:ln>
        </p:spPr>
      </p:sp>
      <p:sp>
        <p:nvSpPr>
          <p:cNvPr id="33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371600" y="763560"/>
            <a:ext cx="5029200" cy="3772080"/>
          </a:xfrm>
          <a:prstGeom prst="rect">
            <a:avLst/>
          </a:prstGeom>
          <a:ln w="0">
            <a:noFill/>
          </a:ln>
        </p:spPr>
      </p:sp>
      <p:sp>
        <p:nvSpPr>
          <p:cNvPr id="33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371600" y="763560"/>
            <a:ext cx="5029200" cy="3772080"/>
          </a:xfrm>
          <a:prstGeom prst="rect">
            <a:avLst/>
          </a:prstGeom>
          <a:ln w="0">
            <a:noFill/>
          </a:ln>
        </p:spPr>
      </p:sp>
      <p:sp>
        <p:nvSpPr>
          <p:cNvPr id="33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371600" y="763560"/>
            <a:ext cx="5029200" cy="3772080"/>
          </a:xfrm>
          <a:prstGeom prst="rect">
            <a:avLst/>
          </a:prstGeom>
          <a:ln w="0">
            <a:noFill/>
          </a:ln>
        </p:spPr>
      </p:sp>
      <p:sp>
        <p:nvSpPr>
          <p:cNvPr id="34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371600" y="763560"/>
            <a:ext cx="5029200" cy="3772080"/>
          </a:xfrm>
          <a:prstGeom prst="rect">
            <a:avLst/>
          </a:prstGeom>
          <a:ln w="0">
            <a:noFill/>
          </a:ln>
        </p:spPr>
      </p:sp>
      <p:sp>
        <p:nvSpPr>
          <p:cNvPr id="34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3560"/>
            <a:ext cx="5029200" cy="3772080"/>
          </a:xfrm>
          <a:prstGeom prst="rect">
            <a:avLst/>
          </a:prstGeom>
          <a:ln w="0">
            <a:noFill/>
          </a:ln>
        </p:spPr>
      </p:sp>
      <p:sp>
        <p:nvSpPr>
          <p:cNvPr id="34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
          <p:cNvSpPr/>
          <p:nvPr/>
        </p:nvSpPr>
        <p:spPr>
          <a:xfrm>
            <a:off x="-57240" y="6310440"/>
            <a:ext cx="7829640" cy="85741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 χρήστης δεν είναι σε θέση να συγκεντρώσει και να αναβαθμίσει όλα τα δημόσια κλειδιά των χρηστών με τους οποίους επιθυμεί να επικοινωνήσει.</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βλήματα συντήρησης και υποστήριξης εκατοντάδων εκατομμυρίων δημόσιων κλειδιών καθώς και επικίνδυνη μονοπωλιακή δύναμη του κατόχου της ΒΔ.</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Στο δεύτερο ερώτημα, στο οποίο βασίζεται ο κύριος προβληματισμός του αναγνώστη "Γιατί δεν είναι δυνατόν ένας μη πιστοποιημένος χρήστης να δημιουργήσει το δικό του Δημόσιο κλειδί και το ίδιο το πιστοποιητικό ως άλλος αποστολέας" παρουσιάζεται μια πιο πρακτική λύση, η οποία βασίζεται σε ευρέως γνωστούς και ασφαλείς τρίτες οντότητες. Σύμφωνα με αυτή τη λύση, προκειμένου να αποφευχθεί το πρόβλημα του ψεύτικου δημόσιου κλειδιού, το όνομα και το δημόσιο κλειδί κάθε χρήστη, καταχωρούνται σε ένα μικρό έγγραφο το οποίο είναι κρυπτογραφικό, υπογεγραμμένο από μια ευρέως επίσημη και εμπιστευτική αρχή. Η υπογραφή που δίνεται και συνδέει το όνομα του χρήστη με το δημόσιο κλειδί του από την αρχή, δίνει την ασφάλεια κατά την παραχάραξη. Αυτό το έγγραφο ονομάζεται πιστοποιητικό.</a:t>
            </a:r>
            <a:endParaRPr b="0" lang="en-US" sz="2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3560"/>
            <a:ext cx="5029200" cy="3772080"/>
          </a:xfrm>
          <a:prstGeom prst="rect">
            <a:avLst/>
          </a:prstGeom>
          <a:ln w="0">
            <a:noFill/>
          </a:ln>
        </p:spPr>
      </p:sp>
      <p:sp>
        <p:nvSpPr>
          <p:cNvPr id="29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371600" y="763560"/>
            <a:ext cx="5029200" cy="3772080"/>
          </a:xfrm>
          <a:prstGeom prst="rect">
            <a:avLst/>
          </a:prstGeom>
          <a:ln w="0">
            <a:noFill/>
          </a:ln>
        </p:spPr>
      </p:sp>
      <p:sp>
        <p:nvSpPr>
          <p:cNvPr id="34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
          <p:cNvSpPr/>
          <p:nvPr/>
        </p:nvSpPr>
        <p:spPr>
          <a:xfrm>
            <a:off x="-57240" y="6310440"/>
            <a:ext cx="7829640" cy="31064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Αυτό το όνομα χρήστη, το οποίο περιέχει το όνομα που έδωσε στον χρήστη του αποστολέα, επιβεβαιώνει και διακρίνει μεταξύ των χρηστών που υποστηρίζονται από αυτό το πιστοποιητικό, του συγκεκριμένου χρήστη από κάποιο άλλο που μοιάζει. Η αρχή πιστοποίησης δημιουργεί το πιστοποιητικό για να συνδέσει αυτό το όνομα χρήστη του αποστολέα με το δημόσιο κλειδί που είναι συνδεδεμένο με το ιδιωτικό κλειδί του αποστολέα.</a:t>
            </a:r>
            <a:endParaRPr b="0" lang="en-US" sz="2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3560"/>
            <a:ext cx="5029200" cy="3772080"/>
          </a:xfrm>
          <a:prstGeom prst="rect">
            <a:avLst/>
          </a:prstGeom>
          <a:ln w="0">
            <a:noFill/>
          </a:ln>
        </p:spPr>
      </p:sp>
      <p:sp>
        <p:nvSpPr>
          <p:cNvPr id="35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
          <p:cNvSpPr/>
          <p:nvPr/>
        </p:nvSpPr>
        <p:spPr>
          <a:xfrm>
            <a:off x="-57240" y="4754520"/>
            <a:ext cx="7829640" cy="58737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14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 Στην περίπτωση που ο αποστολέας υπογράφει διαφορετικούς τύπους εγγράφων ως ηλεκτρονικά μηνύματα ή είναι πιστοποιημένος σε έργα Ιστού, είναι δυνατόν να συμπεριληφθεί το πιστοποιητικό με την υπογραφή. Ωστόσο, ο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14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14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14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14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14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1400" spc="-1" strike="noStrike">
                <a:solidFill>
                  <a:srgbClr val="000000"/>
                </a:solidFill>
                <a:latin typeface="Book Antiqua"/>
              </a:rPr>
              <a:t>Λόγω της ανεπαρκούς ανάπτυξης αυτής της τεχνολογίας σε συγκεκριμένο τομέα, υπάρχουν διάφορες διενέξεις στις τεχνικές επιτροπές για τη χρήση των καταλόγων. Σε αυτή την περίπτωση, το πρωτόκολλο ελαφρού καταλόγου καταλόγου καταλόγου (LDAP) αποτελεί το κύριο μοντέλο για την πρόσβαση σε λίστες.</a:t>
            </a:r>
            <a:endParaRPr b="0" lang="en-US" sz="14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1400" spc="-1" strike="noStrike">
                <a:solidFill>
                  <a:srgbClr val="000000"/>
                </a:solidFill>
                <a:latin typeface="Book Antiqua"/>
              </a:rPr>
              <a:t>Όλα αυτά τα είδη καταλόγων έχουν την κατάλληλη δομή που απαιτείται για μεγάλους καταλόγους, με διαχωρισμό μεταξύ των διαφόρων οργανισμών και εφαρμογών (με το σύστημα της δομής του δημόσιου κλειδιού), με τις καλύτερα οργανωμένες πληροφορίες αποθήκευσης, οι πληροφορίες συγκεντρώνονται ή διανέμονται από τις κατάλληλες καθώς και με τη διαδικασία εξασφάλισης της πληροφόρησης που πρέπει να πραγματοποιηθεί.</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71600" y="763560"/>
            <a:ext cx="5029200" cy="3772080"/>
          </a:xfrm>
          <a:prstGeom prst="rect">
            <a:avLst/>
          </a:prstGeom>
          <a:ln w="0">
            <a:noFill/>
          </a:ln>
        </p:spPr>
      </p:sp>
      <p:sp>
        <p:nvSpPr>
          <p:cNvPr id="35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
          <p:cNvSpPr/>
          <p:nvPr/>
        </p:nvSpPr>
        <p:spPr>
          <a:xfrm>
            <a:off x="-57240" y="6310440"/>
            <a:ext cx="7829640" cy="13708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 Στην περίπτωση που ο αποστολέας υπογράφει διαφορετικούς τύπους εγγράφων ως ηλεκτρονικά μηνύματα ή είναι πιστοποιημένος σε έργα Ιστού, είναι δυνατόν να συμπεριληφθεί το πιστοποιητικό με την υπογραφή. Ωστόσο, ο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Λόγω της ανεπαρκούς ανάπτυξης αυτής της τεχνολογίας σε συγκεκριμένο τομέα, υπάρχουν διάφορες διενέξεις στις τεχνικές επιτροπές για τη χρήση των καταλόγων. Σε αυτή την περίπτωση, το πρωτόκολλο ελαφρού καταλόγου καταλόγου καταλόγου (LDAP) αποτελεί το κύριο μοντέλο για την πρόσβαση σε λίστε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αυτά τα είδη καταλόγων έχουν την κατάλληλη δομή που απαιτείται για μεγάλους καταλόγους, με διαχωρισμό μεταξύ των διαφόρων οργανισμών και εφαρμογών (με το σύστημα της δομής του δημόσιου κλειδιού), με τις καλύτερα οργανωμένες πληροφορίες αποθήκευσης, οι πληροφορίες συγκεντρώνονται ή διανέμονται από τις κατάλληλες καθώς και με τη διαδικασία εξασφάλισης της πληροφόρησης που πρέπει να πραγματοποιηθεί.</a:t>
            </a:r>
            <a:endParaRPr b="0" lang="en-US" sz="2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3560"/>
            <a:ext cx="5029200" cy="3772080"/>
          </a:xfrm>
          <a:prstGeom prst="rect">
            <a:avLst/>
          </a:prstGeom>
          <a:ln w="0">
            <a:noFill/>
          </a:ln>
        </p:spPr>
      </p:sp>
      <p:sp>
        <p:nvSpPr>
          <p:cNvPr id="35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
          <p:cNvSpPr/>
          <p:nvPr/>
        </p:nvSpPr>
        <p:spPr>
          <a:xfrm>
            <a:off x="-57240" y="6310440"/>
            <a:ext cx="7829640" cy="13708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 Στην περίπτωση που ο αποστολέας υπογράφει διαφορετικούς τύπους εγγράφων ως ηλεκτρονικά μηνύματα ή είναι πιστοποιημένος σε έργα Ιστού, είναι δυνατόν να συμπεριληφθεί το πιστοποιητικό με την υπογραφή. Ωστόσο, ο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Λόγω της ανεπαρκούς ανάπτυξης αυτής της τεχνολογίας σε συγκεκριμένο τομέα, υπάρχουν διάφορες διενέξεις στις τεχνικές επιτροπές για τη χρήση των καταλόγων. Σε αυτή την περίπτωση, το πρωτόκολλο ελαφρού καταλόγου καταλόγου καταλόγου (LDAP) αποτελεί το κύριο μοντέλο για την πρόσβαση σε λίστε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αυτά τα είδη καταλόγων έχουν την κατάλληλη δομή που απαιτείται για μεγάλους καταλόγους, με διαχωρισμό μεταξύ των διαφόρων οργανισμών και εφαρμογών (με το σύστημα της δομής του δημόσιου κλειδιού), με τις καλύτερα οργανωμένες πληροφορίες αποθήκευσης, οι πληροφορίες συγκεντρώνονται ή διανέμονται από τις κατάλληλες καθώς και με τη διαδικασία εξασφάλισης της πληροφόρησης που πρέπει να πραγματοποιηθεί.</a:t>
            </a:r>
            <a:endParaRPr b="0" lang="en-US" sz="2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371600" y="763560"/>
            <a:ext cx="5029200" cy="3772080"/>
          </a:xfrm>
          <a:prstGeom prst="rect">
            <a:avLst/>
          </a:prstGeom>
          <a:ln w="0">
            <a:noFill/>
          </a:ln>
        </p:spPr>
      </p:sp>
      <p:sp>
        <p:nvSpPr>
          <p:cNvPr id="35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
          <p:cNvSpPr/>
          <p:nvPr/>
        </p:nvSpPr>
        <p:spPr>
          <a:xfrm>
            <a:off x="-57240" y="6310440"/>
            <a:ext cx="7829640" cy="13708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 Στην περίπτωση που ο αποστολέας υπογράφει διαφορετικούς τύπους εγγράφων ως ηλεκτρονικά μηνύματα ή είναι πιστοποιημένος σε έργα Ιστού, είναι δυνατόν να συμπεριληφθεί το πιστοποιητικό με την υπογραφή. Ωστόσο, ο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Λόγω της ανεπαρκούς ανάπτυξης αυτής της τεχνολογίας σε συγκεκριμένο τομέα, υπάρχουν διάφορες διενέξεις στις τεχνικές επιτροπές για τη χρήση των καταλόγων. Σε αυτή την περίπτωση, το πρωτόκολλο ελαφρού καταλόγου καταλόγου καταλόγου (LDAP) αποτελεί το κύριο μοντέλο για την πρόσβαση σε λίστε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αυτά τα είδη καταλόγων έχουν την κατάλληλη δομή που απαιτείται για μεγάλους καταλόγους, με διαχωρισμό μεταξύ των διαφόρων οργανισμών και εφαρμογών (με το σύστημα της δομής του δημόσιου κλειδιού), με τις καλύτερα οργανωμένες πληροφορίες αποθήκευσης, οι πληροφορίες συγκεντρώνονται ή διανέμονται από τις κατάλληλες καθώς και με τη διαδικασία εξασφάλισης της πληροφόρησης που πρέπει να πραγματοποιηθεί.</a:t>
            </a:r>
            <a:endParaRPr b="0" lang="en-US" sz="2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3560"/>
            <a:ext cx="5029200" cy="3772080"/>
          </a:xfrm>
          <a:prstGeom prst="rect">
            <a:avLst/>
          </a:prstGeom>
          <a:ln w="0">
            <a:noFill/>
          </a:ln>
        </p:spPr>
      </p:sp>
      <p:sp>
        <p:nvSpPr>
          <p:cNvPr id="36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3560"/>
            <a:ext cx="5029200" cy="3772080"/>
          </a:xfrm>
          <a:prstGeom prst="rect">
            <a:avLst/>
          </a:prstGeom>
          <a:ln w="0">
            <a:noFill/>
          </a:ln>
        </p:spPr>
      </p:sp>
      <p:sp>
        <p:nvSpPr>
          <p:cNvPr id="36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
          <p:cNvSpPr/>
          <p:nvPr/>
        </p:nvSpPr>
        <p:spPr>
          <a:xfrm>
            <a:off x="-57240" y="6310440"/>
            <a:ext cx="7829640" cy="13708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 Στην περίπτωση που ο αποστολέας υπογράφει διαφορετικούς τύπους εγγράφων ως ηλεκτρονικά μηνύματα ή είναι πιστοποιημένος σε έργα Ιστού, είναι δυνατόν να συμπεριληφθεί το πιστοποιητικό με την υπογραφή. Ωστόσο, ο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Λόγω της ανεπαρκούς ανάπτυξης αυτής της τεχνολογίας σε συγκεκριμένο τομέα, υπάρχουν διάφορες διενέξεις στις τεχνικές επιτροπές για τη χρήση των καταλόγων. Σε αυτή την περίπτωση, το πρωτόκολλο ελαφρού καταλόγου καταλόγου καταλόγου (LDAP) αποτελεί το κύριο μοντέλο για την πρόσβαση σε λίστε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αυτά τα είδη καταλόγων έχουν την κατάλληλη δομή που απαιτείται για μεγάλους καταλόγους, με διαχωρισμό μεταξύ των διαφόρων οργανισμών και εφαρμογών (με το σύστημα της δομής του δημόσιου κλειδιού), με τις καλύτερα οργανωμένες πληροφορίες αποθήκευσης, οι πληροφορίες συγκεντρώνονται ή διανέμονται από τις κατάλληλες καθώς και με τη διαδικασία εξασφάλισης της πληροφόρησης που πρέπει να πραγματοποιηθεί.</a:t>
            </a:r>
            <a:endParaRPr b="0" lang="en-US" sz="2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763560"/>
            <a:ext cx="5029200" cy="3772080"/>
          </a:xfrm>
          <a:prstGeom prst="rect">
            <a:avLst/>
          </a:prstGeom>
          <a:ln w="0">
            <a:noFill/>
          </a:ln>
        </p:spPr>
      </p:sp>
      <p:sp>
        <p:nvSpPr>
          <p:cNvPr id="36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
          <p:cNvSpPr/>
          <p:nvPr/>
        </p:nvSpPr>
        <p:spPr>
          <a:xfrm>
            <a:off x="-279360" y="1600200"/>
            <a:ext cx="7961400" cy="134874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τα έγγραφα που υπογράφονται ψηφιακά και αποστέλλονται ηλεκτρονικά πρέπει να είναι σε ψηφιακή μορφή. Για το λόγο αυτό, εάν τα έγγραφα είναι σε έντυπη μορφή, πρέπει να ψηφιοποιούνται.</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ψηφιοποίηση είναι η διαδικασία μετατροπής στοιχείων ως έγγραφο, κείμενο, εικόνα, αντικείμενο ή σήμα από αναλογική σε ψηφιακή μορφή για την εισαγωγή τους στον υπολογιστή, ώστε να μπορούν να αποθηκευτούν και να αποτελέσουν αντικείμενο επεξεργασίας του χρήστη.</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 ψηφιακό έγγραφο χρειάζεται μικρότερο χώρο από τον εκτυπωτή, επιτρέποντας την γρήγορη αναζήτηση στις πληροφορίες που περιλαμβάνει, ενώ είναι πιο εύκολη η πρόσβαση. Τα αρχεία σε ψηφιακά έγγραφα είναι πολύ πιο εύκολα. Έτσι, ένας μεγάλος αριθμός αρχείων που έχουν δημιουργηθεί στο παρελθόν μπορεί εύκολα να προσεγγιστεί. Η ψηφιοποίηση υλοποιείται με εξειδικευμένες λειτουργίες και σάρωση εγγράφων. Οι πληροφορίες ενσωματώνονται άμεσα στην καθημερινή ροή εργασίας με αυτόν τον τρόπο. Το Scan to Email προσφέρει, για παράδειγμα, τα έγγραφα ευκαιρίας που αποστέλλονται απευθείας από τον εταιρικό σαρωτή στους επιθυμητούς παραλήπτες. Το Scan to USB αποτελεί ένα άλλο παράδειγμα, όπου οι πληροφορίες αποθηκεύονται άμεσα σε USB sticks, εξοικονομώντας χρόνο και διαδικασίε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άλλη χρήσιμη λειτουργία είναι η λειτουργία Σάρωση σε διακομιστή, όπου τα ψηφιακά έγγραφα αποθηκεύονται απευθείας από το σαρωτή σε επιλεγμένο αρχείο δικτύου. Αυτή η διαδικασία ψηφιοποίησης προσφέρει άμεση και ευρύτερη πρόσβαση σε όλα τα εταιρικά έγγραφα από πιστοποιημένους χρήστες. Η ψηφιακή κατάθεση αποθηκεύει τα έγγραφα σε έναν ασφαλή χώρο, όπου δεν μπορούν να χαθούν υπό κανονικές συνθήκες (συμβάλλουν στη διαδικασία δημιουργίας αντιγράφων ασφαλείας).</a:t>
            </a:r>
            <a:endParaRPr b="0" lang="en-US" sz="2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3560"/>
            <a:ext cx="5029200" cy="3772080"/>
          </a:xfrm>
          <a:prstGeom prst="rect">
            <a:avLst/>
          </a:prstGeom>
          <a:ln w="0">
            <a:noFill/>
          </a:ln>
        </p:spPr>
      </p:sp>
      <p:sp>
        <p:nvSpPr>
          <p:cNvPr id="37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3560"/>
            <a:ext cx="5029200" cy="3772080"/>
          </a:xfrm>
          <a:prstGeom prst="rect">
            <a:avLst/>
          </a:prstGeom>
          <a:ln w="0">
            <a:noFill/>
          </a:ln>
        </p:spPr>
      </p:sp>
      <p:sp>
        <p:nvSpPr>
          <p:cNvPr id="37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3560"/>
            <a:ext cx="5029200" cy="3772080"/>
          </a:xfrm>
          <a:prstGeom prst="rect">
            <a:avLst/>
          </a:prstGeom>
          <a:ln w="0">
            <a:noFill/>
          </a:ln>
        </p:spPr>
      </p:sp>
      <p:sp>
        <p:nvSpPr>
          <p:cNvPr id="29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3560"/>
            <a:ext cx="5029200" cy="3772080"/>
          </a:xfrm>
          <a:prstGeom prst="rect">
            <a:avLst/>
          </a:prstGeom>
          <a:ln w="0">
            <a:noFill/>
          </a:ln>
        </p:spPr>
      </p:sp>
      <p:sp>
        <p:nvSpPr>
          <p:cNvPr id="37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3560"/>
            <a:ext cx="5029200" cy="3772080"/>
          </a:xfrm>
          <a:prstGeom prst="rect">
            <a:avLst/>
          </a:prstGeom>
          <a:ln w="0">
            <a:noFill/>
          </a:ln>
        </p:spPr>
      </p:sp>
      <p:sp>
        <p:nvSpPr>
          <p:cNvPr id="37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3560"/>
            <a:ext cx="5029200" cy="3772080"/>
          </a:xfrm>
          <a:prstGeom prst="rect">
            <a:avLst/>
          </a:prstGeom>
          <a:ln w="0">
            <a:noFill/>
          </a:ln>
        </p:spPr>
      </p:sp>
      <p:sp>
        <p:nvSpPr>
          <p:cNvPr id="37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3560"/>
            <a:ext cx="5029200" cy="3772080"/>
          </a:xfrm>
          <a:prstGeom prst="rect">
            <a:avLst/>
          </a:prstGeom>
          <a:ln w="0">
            <a:noFill/>
          </a:ln>
        </p:spPr>
      </p:sp>
      <p:sp>
        <p:nvSpPr>
          <p:cNvPr id="38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
          <p:cNvSpPr/>
          <p:nvPr/>
        </p:nvSpPr>
        <p:spPr>
          <a:xfrm>
            <a:off x="42840" y="4559400"/>
            <a:ext cx="7724880" cy="950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ourier New"/>
                <a:ea typeface="Courier New"/>
              </a:rPr>
              <a:t>Η χρήση της ψηφιακής υπογραφής και της ψηφιακής διανομής εγγράφων, ειδικά στον τομέα της Ναυτιλίας, θα αποτελέσει ένα από τα σημαντικότερα επιτεύγματα, διότι θα δώσει τη δυνατότητα στις ναυτιλιακές επιχειρήσεις να συνεργαστούν σε παγκόσμιο επίπεδο με χιλιάδες άλλες εταιρείες άμεσα, οικονομικά και να σιγουρευτείτε το σύνολο της αλληλογραφίας που έγινε μέσω φαξ ή ταχυδρομείου. Το κύριο αποτέλεσμα είναι το ελάχιστο κόστος λειτουργίας, η ψηφιακή καταχώρηση των εγγράφων. Η ψηφιακή αλληλογραφία των εγγράφων θα συμβαίνει αμέσως παντού στον κόσμο.</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3560"/>
            <a:ext cx="5029200" cy="3772080"/>
          </a:xfrm>
          <a:prstGeom prst="rect">
            <a:avLst/>
          </a:prstGeom>
          <a:ln w="0">
            <a:noFill/>
          </a:ln>
        </p:spPr>
      </p:sp>
      <p:sp>
        <p:nvSpPr>
          <p:cNvPr id="38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3560"/>
            <a:ext cx="5029200" cy="3772080"/>
          </a:xfrm>
          <a:prstGeom prst="rect">
            <a:avLst/>
          </a:prstGeom>
          <a:ln w="0">
            <a:noFill/>
          </a:ln>
        </p:spPr>
      </p:sp>
      <p:sp>
        <p:nvSpPr>
          <p:cNvPr id="38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3560"/>
            <a:ext cx="5029200" cy="3772080"/>
          </a:xfrm>
          <a:prstGeom prst="rect">
            <a:avLst/>
          </a:prstGeom>
          <a:ln w="0">
            <a:noFill/>
          </a:ln>
        </p:spPr>
      </p:sp>
      <p:sp>
        <p:nvSpPr>
          <p:cNvPr id="38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3560"/>
            <a:ext cx="5029200" cy="3772080"/>
          </a:xfrm>
          <a:prstGeom prst="rect">
            <a:avLst/>
          </a:prstGeom>
          <a:ln w="0">
            <a:noFill/>
          </a:ln>
        </p:spPr>
      </p:sp>
      <p:sp>
        <p:nvSpPr>
          <p:cNvPr id="29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3560"/>
            <a:ext cx="5029200" cy="3772080"/>
          </a:xfrm>
          <a:prstGeom prst="rect">
            <a:avLst/>
          </a:prstGeom>
          <a:ln w="0">
            <a:noFill/>
          </a:ln>
        </p:spPr>
      </p:sp>
      <p:sp>
        <p:nvSpPr>
          <p:cNvPr id="29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763560"/>
            <a:ext cx="5029200" cy="3772080"/>
          </a:xfrm>
          <a:prstGeom prst="rect">
            <a:avLst/>
          </a:prstGeom>
          <a:ln w="0">
            <a:noFill/>
          </a:ln>
        </p:spPr>
      </p:sp>
      <p:sp>
        <p:nvSpPr>
          <p:cNvPr id="30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71600" y="763560"/>
            <a:ext cx="5029200" cy="3772080"/>
          </a:xfrm>
          <a:prstGeom prst="rect">
            <a:avLst/>
          </a:prstGeom>
          <a:ln w="0">
            <a:noFill/>
          </a:ln>
        </p:spPr>
      </p:sp>
      <p:sp>
        <p:nvSpPr>
          <p:cNvPr id="30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71600" y="763560"/>
            <a:ext cx="5029200" cy="3772080"/>
          </a:xfrm>
          <a:prstGeom prst="rect">
            <a:avLst/>
          </a:prstGeom>
          <a:ln w="0">
            <a:noFill/>
          </a:ln>
        </p:spPr>
      </p:sp>
      <p:sp>
        <p:nvSpPr>
          <p:cNvPr id="304" name=""/>
          <p:cNvSpPr/>
          <p:nvPr/>
        </p:nvSpPr>
        <p:spPr>
          <a:xfrm>
            <a:off x="777960" y="4776840"/>
            <a:ext cx="6218280" cy="4525920"/>
          </a:xfrm>
          <a:prstGeom prst="rect">
            <a:avLst/>
          </a:prstGeom>
          <a:noFill/>
          <a:ln w="0">
            <a:noFill/>
          </a:ln>
        </p:spPr>
        <p:style>
          <a:lnRef idx="0"/>
          <a:fillRef idx="0"/>
          <a:effectRef idx="0"/>
          <a:fontRef idx="minor"/>
        </p:style>
        <p:txBody>
          <a:bodyPr lIns="0" rIns="0" tIns="5760" bIns="0" anchor="t">
            <a:noAutofit/>
          </a:bodyPr>
          <a:p>
            <a:pPr marL="216000" indent="-212760" algn="just">
              <a:lnSpc>
                <a:spcPct val="98000"/>
              </a:lnSpc>
              <a:spcBef>
                <a:spcPts val="1012"/>
              </a:spcBef>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200" spc="-1" strike="noStrike">
                <a:solidFill>
                  <a:srgbClr val="000000"/>
                </a:solidFill>
                <a:latin typeface="Book Antiqua"/>
              </a:rPr>
              <a:t>Η σύγχρονη κρυπτογραφία ασχολείται με τους ακόλουθους πέντε στόχους:</a:t>
            </a:r>
            <a:endParaRPr b="0" lang="en-US" sz="2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03194-5DF2-4823-80D9-3B8752115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27" name="PlaceHolder 2"/>
          <p:cNvSpPr>
            <a:spLocks noGrp="1"/>
          </p:cNvSpPr>
          <p:nvPr>
            <p:ph/>
          </p:nvPr>
        </p:nvSpPr>
        <p:spPr>
          <a:xfrm>
            <a:off x="502920" y="167940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28" name="PlaceHolder 3"/>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A417-A4C1-4AF3-8E78-AC966147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0"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1"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2"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3" name="PlaceHolder 5"/>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50C5-AEFD-4007-810E-8E238353A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5" name="PlaceHolder 2"/>
          <p:cNvSpPr>
            <a:spLocks noGrp="1"/>
          </p:cNvSpPr>
          <p:nvPr>
            <p:ph/>
          </p:nvPr>
        </p:nvSpPr>
        <p:spPr>
          <a:xfrm>
            <a:off x="5029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6" name="PlaceHolder 3"/>
          <p:cNvSpPr>
            <a:spLocks noGrp="1"/>
          </p:cNvSpPr>
          <p:nvPr>
            <p:ph/>
          </p:nvPr>
        </p:nvSpPr>
        <p:spPr>
          <a:xfrm>
            <a:off x="16225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7" name="PlaceHolder 4"/>
          <p:cNvSpPr>
            <a:spLocks noGrp="1"/>
          </p:cNvSpPr>
          <p:nvPr>
            <p:ph/>
          </p:nvPr>
        </p:nvSpPr>
        <p:spPr>
          <a:xfrm>
            <a:off x="27421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8" name="PlaceHolder 5"/>
          <p:cNvSpPr>
            <a:spLocks noGrp="1"/>
          </p:cNvSpPr>
          <p:nvPr>
            <p:ph/>
          </p:nvPr>
        </p:nvSpPr>
        <p:spPr>
          <a:xfrm>
            <a:off x="5029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39" name="PlaceHolder 6"/>
          <p:cNvSpPr>
            <a:spLocks noGrp="1"/>
          </p:cNvSpPr>
          <p:nvPr>
            <p:ph/>
          </p:nvPr>
        </p:nvSpPr>
        <p:spPr>
          <a:xfrm>
            <a:off x="16225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40" name="PlaceHolder 7"/>
          <p:cNvSpPr>
            <a:spLocks noGrp="1"/>
          </p:cNvSpPr>
          <p:nvPr>
            <p:ph/>
          </p:nvPr>
        </p:nvSpPr>
        <p:spPr>
          <a:xfrm>
            <a:off x="27421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42668-D0E3-40B5-9318-A015B3F91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60F5E9-722D-431C-9047-43FB3EF169C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47" name="PlaceHolder 2"/>
          <p:cNvSpPr>
            <a:spLocks noGrp="1"/>
          </p:cNvSpPr>
          <p:nvPr>
            <p:ph type="subTitle"/>
          </p:nvPr>
        </p:nvSpPr>
        <p:spPr>
          <a:xfrm>
            <a:off x="502920" y="1679400"/>
            <a:ext cx="3311640" cy="5067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8350122-D9F7-43DE-8421-B92BF53AE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49" name="PlaceHolder 2"/>
          <p:cNvSpPr>
            <a:spLocks noGrp="1"/>
          </p:cNvSpPr>
          <p:nvPr>
            <p:ph/>
          </p:nvPr>
        </p:nvSpPr>
        <p:spPr>
          <a:xfrm>
            <a:off x="502920" y="1679400"/>
            <a:ext cx="33116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4" name="PlaceHolder 3"/>
          <p:cNvSpPr>
            <a:spLocks noGrp="1"/>
          </p:cNvSpPr>
          <p:nvPr>
            <p:ph type="sldNum" idx="5"/>
          </p:nvPr>
        </p:nvSpPr>
        <p:spPr/>
        <p:txBody>
          <a:bodyPr/>
          <a:p>
            <a:fld id="{02D2EA8C-A79D-45E2-8AA3-8AE372054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51"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2"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5"/>
          </p:nvPr>
        </p:nvSpPr>
        <p:spPr/>
        <p:txBody>
          <a:bodyPr/>
          <a:p>
            <a:fld id="{1C90293B-8484-4AEF-9076-45917A5ED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 name="PlaceHolder 2"/>
          <p:cNvSpPr>
            <a:spLocks noGrp="1"/>
          </p:cNvSpPr>
          <p:nvPr>
            <p:ph type="sldNum" idx="5"/>
          </p:nvPr>
        </p:nvSpPr>
        <p:spPr/>
        <p:txBody>
          <a:bodyPr/>
          <a:p>
            <a:fld id="{E612B9F1-35AF-4A13-95F1-DC65A3CF5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299880"/>
            <a:ext cx="3311640" cy="5918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3BB045D-69F2-4627-BFD3-2B327B5D3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56"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7"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8"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5"/>
          </p:nvPr>
        </p:nvSpPr>
        <p:spPr/>
        <p:txBody>
          <a:bodyPr/>
          <a:p>
            <a:fld id="{56157E90-3408-4C43-8B5A-A409BA96F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6" name="PlaceHolder 2"/>
          <p:cNvSpPr>
            <a:spLocks noGrp="1"/>
          </p:cNvSpPr>
          <p:nvPr>
            <p:ph type="subTitle"/>
          </p:nvPr>
        </p:nvSpPr>
        <p:spPr>
          <a:xfrm>
            <a:off x="502920" y="1679400"/>
            <a:ext cx="3311640" cy="5067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F8ED-6051-4471-A61F-A02D0A29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60"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1"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2" name="PlaceHolder 4"/>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5"/>
          </p:nvPr>
        </p:nvSpPr>
        <p:spPr/>
        <p:txBody>
          <a:bodyPr/>
          <a:p>
            <a:fld id="{751D755C-4B0A-4937-B96F-104A3C2A3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64"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5"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6" name="PlaceHolder 4"/>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5"/>
          </p:nvPr>
        </p:nvSpPr>
        <p:spPr/>
        <p:txBody>
          <a:bodyPr/>
          <a:p>
            <a:fld id="{5116E23F-432B-4B0D-87AF-859A8706F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68" name="PlaceHolder 2"/>
          <p:cNvSpPr>
            <a:spLocks noGrp="1"/>
          </p:cNvSpPr>
          <p:nvPr>
            <p:ph/>
          </p:nvPr>
        </p:nvSpPr>
        <p:spPr>
          <a:xfrm>
            <a:off x="502920" y="167940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9" name="PlaceHolder 3"/>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5"/>
          </p:nvPr>
        </p:nvSpPr>
        <p:spPr/>
        <p:txBody>
          <a:bodyPr/>
          <a:p>
            <a:fld id="{21D6D3DC-CF7C-4E9B-8936-D3AB804DB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71"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2"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3"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4" name="PlaceHolder 5"/>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 name="PlaceHolder 6"/>
          <p:cNvSpPr>
            <a:spLocks noGrp="1"/>
          </p:cNvSpPr>
          <p:nvPr>
            <p:ph type="sldNum" idx="5"/>
          </p:nvPr>
        </p:nvSpPr>
        <p:spPr/>
        <p:txBody>
          <a:bodyPr/>
          <a:p>
            <a:fld id="{C08D1D92-63E3-48D6-A101-5BB59A32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76" name="PlaceHolder 2"/>
          <p:cNvSpPr>
            <a:spLocks noGrp="1"/>
          </p:cNvSpPr>
          <p:nvPr>
            <p:ph/>
          </p:nvPr>
        </p:nvSpPr>
        <p:spPr>
          <a:xfrm>
            <a:off x="5029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7" name="PlaceHolder 3"/>
          <p:cNvSpPr>
            <a:spLocks noGrp="1"/>
          </p:cNvSpPr>
          <p:nvPr>
            <p:ph/>
          </p:nvPr>
        </p:nvSpPr>
        <p:spPr>
          <a:xfrm>
            <a:off x="16225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8" name="PlaceHolder 4"/>
          <p:cNvSpPr>
            <a:spLocks noGrp="1"/>
          </p:cNvSpPr>
          <p:nvPr>
            <p:ph/>
          </p:nvPr>
        </p:nvSpPr>
        <p:spPr>
          <a:xfrm>
            <a:off x="27421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9" name="PlaceHolder 5"/>
          <p:cNvSpPr>
            <a:spLocks noGrp="1"/>
          </p:cNvSpPr>
          <p:nvPr>
            <p:ph/>
          </p:nvPr>
        </p:nvSpPr>
        <p:spPr>
          <a:xfrm>
            <a:off x="5029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80" name="PlaceHolder 6"/>
          <p:cNvSpPr>
            <a:spLocks noGrp="1"/>
          </p:cNvSpPr>
          <p:nvPr>
            <p:ph/>
          </p:nvPr>
        </p:nvSpPr>
        <p:spPr>
          <a:xfrm>
            <a:off x="16225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81" name="PlaceHolder 7"/>
          <p:cNvSpPr>
            <a:spLocks noGrp="1"/>
          </p:cNvSpPr>
          <p:nvPr>
            <p:ph/>
          </p:nvPr>
        </p:nvSpPr>
        <p:spPr>
          <a:xfrm>
            <a:off x="27421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 name="PlaceHolder 8"/>
          <p:cNvSpPr>
            <a:spLocks noGrp="1"/>
          </p:cNvSpPr>
          <p:nvPr>
            <p:ph type="sldNum" idx="5"/>
          </p:nvPr>
        </p:nvSpPr>
        <p:spPr/>
        <p:txBody>
          <a:bodyPr/>
          <a:p>
            <a:fld id="{2B17C323-DFF4-4165-A6B7-9C808093B00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051D2F-7D00-4A2C-BA64-1A307C55070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88" name="PlaceHolder 2"/>
          <p:cNvSpPr>
            <a:spLocks noGrp="1"/>
          </p:cNvSpPr>
          <p:nvPr>
            <p:ph type="subTitle"/>
          </p:nvPr>
        </p:nvSpPr>
        <p:spPr>
          <a:xfrm>
            <a:off x="502920" y="1679400"/>
            <a:ext cx="3311640" cy="5067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265F8FD6-3FA5-44DB-BD51-A8C4014DE1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90" name="PlaceHolder 2"/>
          <p:cNvSpPr>
            <a:spLocks noGrp="1"/>
          </p:cNvSpPr>
          <p:nvPr>
            <p:ph/>
          </p:nvPr>
        </p:nvSpPr>
        <p:spPr>
          <a:xfrm>
            <a:off x="502920" y="1679400"/>
            <a:ext cx="33116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4" name="PlaceHolder 3"/>
          <p:cNvSpPr>
            <a:spLocks noGrp="1"/>
          </p:cNvSpPr>
          <p:nvPr>
            <p:ph type="sldNum" idx="7"/>
          </p:nvPr>
        </p:nvSpPr>
        <p:spPr/>
        <p:txBody>
          <a:bodyPr/>
          <a:p>
            <a:fld id="{88821D1E-5D7F-47AB-B5AF-F4234B2BFB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92"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3"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7"/>
          </p:nvPr>
        </p:nvSpPr>
        <p:spPr/>
        <p:txBody>
          <a:bodyPr/>
          <a:p>
            <a:fld id="{6429E947-7B11-437A-A1FF-426985859F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 name="PlaceHolder 2"/>
          <p:cNvSpPr>
            <a:spLocks noGrp="1"/>
          </p:cNvSpPr>
          <p:nvPr>
            <p:ph type="sldNum" idx="7"/>
          </p:nvPr>
        </p:nvSpPr>
        <p:spPr/>
        <p:txBody>
          <a:bodyPr/>
          <a:p>
            <a:fld id="{868A4B56-933E-4728-902A-DB79CC8FA6C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8" name="PlaceHolder 2"/>
          <p:cNvSpPr>
            <a:spLocks noGrp="1"/>
          </p:cNvSpPr>
          <p:nvPr>
            <p:ph/>
          </p:nvPr>
        </p:nvSpPr>
        <p:spPr>
          <a:xfrm>
            <a:off x="502920" y="1679400"/>
            <a:ext cx="33116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9ED56-A405-40B9-B1DF-143C3BA8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299880"/>
            <a:ext cx="3311640" cy="5918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D396E65B-C850-4C8B-A2EE-A73EA09BBF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97"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8"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9"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7"/>
          </p:nvPr>
        </p:nvSpPr>
        <p:spPr/>
        <p:txBody>
          <a:bodyPr/>
          <a:p>
            <a:fld id="{0177F92D-5B6A-40F7-9620-C5074776A5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01"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02"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03" name="PlaceHolder 4"/>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7"/>
          </p:nvPr>
        </p:nvSpPr>
        <p:spPr/>
        <p:txBody>
          <a:bodyPr/>
          <a:p>
            <a:fld id="{A3DCCC9F-0FFE-44F8-BB24-9D429BCCE1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05"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06"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07" name="PlaceHolder 4"/>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7"/>
          </p:nvPr>
        </p:nvSpPr>
        <p:spPr/>
        <p:txBody>
          <a:bodyPr/>
          <a:p>
            <a:fld id="{0497D4DD-A251-4E35-B103-8BC153A3C1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09" name="PlaceHolder 2"/>
          <p:cNvSpPr>
            <a:spLocks noGrp="1"/>
          </p:cNvSpPr>
          <p:nvPr>
            <p:ph/>
          </p:nvPr>
        </p:nvSpPr>
        <p:spPr>
          <a:xfrm>
            <a:off x="502920" y="167940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0" name="PlaceHolder 3"/>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7"/>
          </p:nvPr>
        </p:nvSpPr>
        <p:spPr/>
        <p:txBody>
          <a:bodyPr/>
          <a:p>
            <a:fld id="{37E8A9B5-CEEB-41BB-ACA7-7D7611436B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12"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3"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4"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5" name="PlaceHolder 5"/>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 name="PlaceHolder 6"/>
          <p:cNvSpPr>
            <a:spLocks noGrp="1"/>
          </p:cNvSpPr>
          <p:nvPr>
            <p:ph type="sldNum" idx="7"/>
          </p:nvPr>
        </p:nvSpPr>
        <p:spPr/>
        <p:txBody>
          <a:bodyPr/>
          <a:p>
            <a:fld id="{6DB8C9DD-1376-46B3-8B50-2A4210FDB2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17" name="PlaceHolder 2"/>
          <p:cNvSpPr>
            <a:spLocks noGrp="1"/>
          </p:cNvSpPr>
          <p:nvPr>
            <p:ph/>
          </p:nvPr>
        </p:nvSpPr>
        <p:spPr>
          <a:xfrm>
            <a:off x="5029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8" name="PlaceHolder 3"/>
          <p:cNvSpPr>
            <a:spLocks noGrp="1"/>
          </p:cNvSpPr>
          <p:nvPr>
            <p:ph/>
          </p:nvPr>
        </p:nvSpPr>
        <p:spPr>
          <a:xfrm>
            <a:off x="16225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9" name="PlaceHolder 4"/>
          <p:cNvSpPr>
            <a:spLocks noGrp="1"/>
          </p:cNvSpPr>
          <p:nvPr>
            <p:ph/>
          </p:nvPr>
        </p:nvSpPr>
        <p:spPr>
          <a:xfrm>
            <a:off x="27421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20" name="PlaceHolder 5"/>
          <p:cNvSpPr>
            <a:spLocks noGrp="1"/>
          </p:cNvSpPr>
          <p:nvPr>
            <p:ph/>
          </p:nvPr>
        </p:nvSpPr>
        <p:spPr>
          <a:xfrm>
            <a:off x="5029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21" name="PlaceHolder 6"/>
          <p:cNvSpPr>
            <a:spLocks noGrp="1"/>
          </p:cNvSpPr>
          <p:nvPr>
            <p:ph/>
          </p:nvPr>
        </p:nvSpPr>
        <p:spPr>
          <a:xfrm>
            <a:off x="16225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22" name="PlaceHolder 7"/>
          <p:cNvSpPr>
            <a:spLocks noGrp="1"/>
          </p:cNvSpPr>
          <p:nvPr>
            <p:ph/>
          </p:nvPr>
        </p:nvSpPr>
        <p:spPr>
          <a:xfrm>
            <a:off x="27421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 name="PlaceHolder 8"/>
          <p:cNvSpPr>
            <a:spLocks noGrp="1"/>
          </p:cNvSpPr>
          <p:nvPr>
            <p:ph type="sldNum" idx="7"/>
          </p:nvPr>
        </p:nvSpPr>
        <p:spPr/>
        <p:txBody>
          <a:bodyPr/>
          <a:p>
            <a:fld id="{09046882-804F-49CC-80A5-33215517104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58DEA08-19E5-4C22-A07E-126C42E4079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29" name="PlaceHolder 2"/>
          <p:cNvSpPr>
            <a:spLocks noGrp="1"/>
          </p:cNvSpPr>
          <p:nvPr>
            <p:ph type="subTitle"/>
          </p:nvPr>
        </p:nvSpPr>
        <p:spPr>
          <a:xfrm>
            <a:off x="502920" y="1679400"/>
            <a:ext cx="3311640" cy="5067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9162D84-09D1-4570-8D9B-0C3A0944C5C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31" name="PlaceHolder 2"/>
          <p:cNvSpPr>
            <a:spLocks noGrp="1"/>
          </p:cNvSpPr>
          <p:nvPr>
            <p:ph/>
          </p:nvPr>
        </p:nvSpPr>
        <p:spPr>
          <a:xfrm>
            <a:off x="502920" y="1679400"/>
            <a:ext cx="33116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4" name="PlaceHolder 3"/>
          <p:cNvSpPr>
            <a:spLocks noGrp="1"/>
          </p:cNvSpPr>
          <p:nvPr>
            <p:ph type="sldNum" idx="9"/>
          </p:nvPr>
        </p:nvSpPr>
        <p:spPr/>
        <p:txBody>
          <a:bodyPr/>
          <a:p>
            <a:fld id="{5E09BF65-3364-48D0-BE23-5512BC39D2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0"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1"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696D-A1CD-493F-935E-B59F0AE6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33"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34"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9"/>
          </p:nvPr>
        </p:nvSpPr>
        <p:spPr/>
        <p:txBody>
          <a:bodyPr/>
          <a:p>
            <a:fld id="{1678C392-BBE4-4424-BE37-3891FEACDB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 name="PlaceHolder 2"/>
          <p:cNvSpPr>
            <a:spLocks noGrp="1"/>
          </p:cNvSpPr>
          <p:nvPr>
            <p:ph type="sldNum" idx="9"/>
          </p:nvPr>
        </p:nvSpPr>
        <p:spPr/>
        <p:txBody>
          <a:bodyPr/>
          <a:p>
            <a:fld id="{34F4A827-9BB5-4082-BF08-FA533406DB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299880"/>
            <a:ext cx="3311640" cy="5918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BC387D05-A8B5-4F0E-BAB6-7263749CA8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38"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39"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40"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9"/>
          </p:nvPr>
        </p:nvSpPr>
        <p:spPr/>
        <p:txBody>
          <a:bodyPr/>
          <a:p>
            <a:fld id="{DCDFACEA-B061-4EBC-ADB6-7FD80FA3838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42"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43"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44" name="PlaceHolder 4"/>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9"/>
          </p:nvPr>
        </p:nvSpPr>
        <p:spPr/>
        <p:txBody>
          <a:bodyPr/>
          <a:p>
            <a:fld id="{D3340545-0344-438D-A710-E1A22E5BA9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46"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47"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48" name="PlaceHolder 4"/>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sldNum" idx="9"/>
          </p:nvPr>
        </p:nvSpPr>
        <p:spPr/>
        <p:txBody>
          <a:bodyPr/>
          <a:p>
            <a:fld id="{2568CC6D-D8D9-466D-9610-42B5CC5D0F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50" name="PlaceHolder 2"/>
          <p:cNvSpPr>
            <a:spLocks noGrp="1"/>
          </p:cNvSpPr>
          <p:nvPr>
            <p:ph/>
          </p:nvPr>
        </p:nvSpPr>
        <p:spPr>
          <a:xfrm>
            <a:off x="502920" y="167940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51" name="PlaceHolder 3"/>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5" name="PlaceHolder 4"/>
          <p:cNvSpPr>
            <a:spLocks noGrp="1"/>
          </p:cNvSpPr>
          <p:nvPr>
            <p:ph type="sldNum" idx="9"/>
          </p:nvPr>
        </p:nvSpPr>
        <p:spPr/>
        <p:txBody>
          <a:bodyPr/>
          <a:p>
            <a:fld id="{B3AD080B-5E28-4B3E-B3CC-C8B4FB1F89C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53"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54"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55"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56" name="PlaceHolder 5"/>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7" name="PlaceHolder 6"/>
          <p:cNvSpPr>
            <a:spLocks noGrp="1"/>
          </p:cNvSpPr>
          <p:nvPr>
            <p:ph type="sldNum" idx="9"/>
          </p:nvPr>
        </p:nvSpPr>
        <p:spPr/>
        <p:txBody>
          <a:bodyPr/>
          <a:p>
            <a:fld id="{FBB2772C-B34E-4CF1-BEA5-E6017AB021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58" name="PlaceHolder 2"/>
          <p:cNvSpPr>
            <a:spLocks noGrp="1"/>
          </p:cNvSpPr>
          <p:nvPr>
            <p:ph/>
          </p:nvPr>
        </p:nvSpPr>
        <p:spPr>
          <a:xfrm>
            <a:off x="5029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59" name="PlaceHolder 3"/>
          <p:cNvSpPr>
            <a:spLocks noGrp="1"/>
          </p:cNvSpPr>
          <p:nvPr>
            <p:ph/>
          </p:nvPr>
        </p:nvSpPr>
        <p:spPr>
          <a:xfrm>
            <a:off x="16225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60" name="PlaceHolder 4"/>
          <p:cNvSpPr>
            <a:spLocks noGrp="1"/>
          </p:cNvSpPr>
          <p:nvPr>
            <p:ph/>
          </p:nvPr>
        </p:nvSpPr>
        <p:spPr>
          <a:xfrm>
            <a:off x="2742120" y="167940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61" name="PlaceHolder 5"/>
          <p:cNvSpPr>
            <a:spLocks noGrp="1"/>
          </p:cNvSpPr>
          <p:nvPr>
            <p:ph/>
          </p:nvPr>
        </p:nvSpPr>
        <p:spPr>
          <a:xfrm>
            <a:off x="5029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62" name="PlaceHolder 6"/>
          <p:cNvSpPr>
            <a:spLocks noGrp="1"/>
          </p:cNvSpPr>
          <p:nvPr>
            <p:ph/>
          </p:nvPr>
        </p:nvSpPr>
        <p:spPr>
          <a:xfrm>
            <a:off x="16225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63" name="PlaceHolder 7"/>
          <p:cNvSpPr>
            <a:spLocks noGrp="1"/>
          </p:cNvSpPr>
          <p:nvPr>
            <p:ph/>
          </p:nvPr>
        </p:nvSpPr>
        <p:spPr>
          <a:xfrm>
            <a:off x="2742120" y="4326480"/>
            <a:ext cx="1065960" cy="2417040"/>
          </a:xfrm>
          <a:prstGeom prst="rect">
            <a:avLst/>
          </a:prstGeom>
          <a:noFill/>
          <a:ln w="0">
            <a:noFill/>
          </a:ln>
        </p:spPr>
        <p:txBody>
          <a:bodyPr lIns="90000" rIns="90000" tIns="46800" bIns="46800" anchor="t">
            <a:normAutofit fontScale="84000"/>
          </a:bodyPr>
          <a:p>
            <a:pPr marL="28800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9" name="PlaceHolder 8"/>
          <p:cNvSpPr>
            <a:spLocks noGrp="1"/>
          </p:cNvSpPr>
          <p:nvPr>
            <p:ph type="sldNum" idx="9"/>
          </p:nvPr>
        </p:nvSpPr>
        <p:spPr/>
        <p:txBody>
          <a:bodyPr/>
          <a:p>
            <a:fld id="{0D7D8CAC-3B91-4A49-AD24-741F233E571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AAB75-AEA9-4B71-9FE8-47AF1AD67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99880"/>
            <a:ext cx="3311640" cy="5918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462B-773E-4A6E-8184-C4547E3A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5"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6" name="PlaceHolder 3"/>
          <p:cNvSpPr>
            <a:spLocks noGrp="1"/>
          </p:cNvSpPr>
          <p:nvPr>
            <p:ph/>
          </p:nvPr>
        </p:nvSpPr>
        <p:spPr>
          <a:xfrm>
            <a:off x="22003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17" name="PlaceHolder 4"/>
          <p:cNvSpPr>
            <a:spLocks noGrp="1"/>
          </p:cNvSpPr>
          <p:nvPr>
            <p:ph/>
          </p:nvPr>
        </p:nvSpPr>
        <p:spPr>
          <a:xfrm>
            <a:off x="5029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5045-EEE8-4FCB-8E1C-6DC806D67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19" name="PlaceHolder 2"/>
          <p:cNvSpPr>
            <a:spLocks noGrp="1"/>
          </p:cNvSpPr>
          <p:nvPr>
            <p:ph/>
          </p:nvPr>
        </p:nvSpPr>
        <p:spPr>
          <a:xfrm>
            <a:off x="502920" y="1679400"/>
            <a:ext cx="1616040" cy="506736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20"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21" name="PlaceHolder 4"/>
          <p:cNvSpPr>
            <a:spLocks noGrp="1"/>
          </p:cNvSpPr>
          <p:nvPr>
            <p:ph/>
          </p:nvPr>
        </p:nvSpPr>
        <p:spPr>
          <a:xfrm>
            <a:off x="2200320" y="432648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1901-0AD0-4A23-93DD-D3302AD0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10960"/>
            <a:ext cx="3311640" cy="136548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Arial"/>
            </a:endParaRPr>
          </a:p>
        </p:txBody>
      </p:sp>
      <p:sp>
        <p:nvSpPr>
          <p:cNvPr id="23" name="PlaceHolder 2"/>
          <p:cNvSpPr>
            <a:spLocks noGrp="1"/>
          </p:cNvSpPr>
          <p:nvPr>
            <p:ph/>
          </p:nvPr>
        </p:nvSpPr>
        <p:spPr>
          <a:xfrm>
            <a:off x="5029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24" name="PlaceHolder 3"/>
          <p:cNvSpPr>
            <a:spLocks noGrp="1"/>
          </p:cNvSpPr>
          <p:nvPr>
            <p:ph/>
          </p:nvPr>
        </p:nvSpPr>
        <p:spPr>
          <a:xfrm>
            <a:off x="2200320" y="1679400"/>
            <a:ext cx="16160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25" name="PlaceHolder 4"/>
          <p:cNvSpPr>
            <a:spLocks noGrp="1"/>
          </p:cNvSpPr>
          <p:nvPr>
            <p:ph/>
          </p:nvPr>
        </p:nvSpPr>
        <p:spPr>
          <a:xfrm>
            <a:off x="502920" y="4326480"/>
            <a:ext cx="3311640" cy="2417040"/>
          </a:xfrm>
          <a:prstGeom prst="rect">
            <a:avLst/>
          </a:prstGeom>
          <a:noFill/>
          <a:ln w="0">
            <a:noFill/>
          </a:ln>
        </p:spPr>
        <p:txBody>
          <a:bodyPr lIns="90000" rIns="90000" tIns="46800" bIns="46800" anchor="t">
            <a:normAutofit/>
          </a:bodyPr>
          <a:p>
            <a:pPr marL="343080" indent="0">
              <a:lnSpc>
                <a:spcPct val="98000"/>
              </a:lnSpc>
              <a:spcBef>
                <a:spcPts val="156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3AE3-6FE8-41D6-BF44-A23577114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380120"/>
          </a:xfrm>
          <a:prstGeom prst="rect">
            <a:avLst/>
          </a:prstGeom>
          <a:noFill/>
          <a:ln w="0">
            <a:noFill/>
          </a:ln>
        </p:spPr>
        <p:txBody>
          <a:bodyPr lIns="0" rIns="0" tIns="2844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BF7C8-7F72-416B-8020-5BF1BCFE64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9880"/>
            <a:ext cx="3311640" cy="127656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42" name="PlaceHolder 2"/>
          <p:cNvSpPr>
            <a:spLocks noGrp="1"/>
          </p:cNvSpPr>
          <p:nvPr>
            <p:ph type="body"/>
          </p:nvPr>
        </p:nvSpPr>
        <p:spPr>
          <a:xfrm>
            <a:off x="502920" y="1679400"/>
            <a:ext cx="3311640" cy="5067360"/>
          </a:xfrm>
          <a:prstGeom prst="rect">
            <a:avLst/>
          </a:prstGeom>
          <a:noFill/>
          <a:ln w="0">
            <a:noFill/>
          </a:ln>
        </p:spPr>
        <p:txBody>
          <a:bodyPr lIns="90000" rIns="90000" tIns="46800" bIns="46800" anchor="t">
            <a:normAutofit fontScale="68000"/>
          </a:bodyPr>
          <a:p>
            <a:pPr marL="233280" indent="0">
              <a:lnSpc>
                <a:spcPct val="98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Click to edit the outline text format</a:t>
            </a:r>
            <a:endParaRPr b="0" lang="en-US" sz="3100" spc="-1" strike="noStrike">
              <a:solidFill>
                <a:srgbClr val="000000"/>
              </a:solidFill>
              <a:latin typeface="Book Antiqua"/>
            </a:endParaRPr>
          </a:p>
          <a:p>
            <a:pPr lvl="1"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cond Outline Level</a:t>
            </a:r>
            <a:endParaRPr b="0" lang="en-US" sz="3100" spc="-1" strike="noStrike">
              <a:solidFill>
                <a:srgbClr val="000000"/>
              </a:solidFill>
              <a:latin typeface="Book Antiqua"/>
            </a:endParaRPr>
          </a:p>
          <a:p>
            <a:pPr lvl="2"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Third Outline Level</a:t>
            </a:r>
            <a:endParaRPr b="0" lang="en-US" sz="3100" spc="-1" strike="noStrike">
              <a:solidFill>
                <a:srgbClr val="000000"/>
              </a:solidFill>
              <a:latin typeface="Book Antiqua"/>
            </a:endParaRPr>
          </a:p>
          <a:p>
            <a:pPr lvl="3"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ourth Outline Level</a:t>
            </a:r>
            <a:endParaRPr b="0" lang="en-US" sz="3100" spc="-1" strike="noStrike">
              <a:solidFill>
                <a:srgbClr val="000000"/>
              </a:solidFill>
              <a:latin typeface="Book Antiqua"/>
            </a:endParaRPr>
          </a:p>
          <a:p>
            <a:pPr lvl="4"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ifth Outline Level</a:t>
            </a:r>
            <a:endParaRPr b="0" lang="en-US" sz="3100" spc="-1" strike="noStrike">
              <a:solidFill>
                <a:srgbClr val="000000"/>
              </a:solidFill>
              <a:latin typeface="Book Antiqua"/>
            </a:endParaRPr>
          </a:p>
          <a:p>
            <a:pPr lvl="5"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ixth Outline Level</a:t>
            </a:r>
            <a:endParaRPr b="0" lang="en-US" sz="3100" spc="-1" strike="noStrike">
              <a:solidFill>
                <a:srgbClr val="000000"/>
              </a:solidFill>
              <a:latin typeface="Book Antiqua"/>
            </a:endParaRPr>
          </a:p>
          <a:p>
            <a:pPr lvl="6" marL="233280" indent="-2332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venth Outline Level</a:t>
            </a:r>
            <a:endParaRPr b="0" lang="en-US" sz="3100" spc="-1" strike="noStrike">
              <a:solidFill>
                <a:srgbClr val="000000"/>
              </a:solidFill>
              <a:latin typeface="Book Antiqua"/>
            </a:endParaRPr>
          </a:p>
        </p:txBody>
      </p:sp>
      <p:sp>
        <p:nvSpPr>
          <p:cNvPr id="43" name="PlaceHolder 3"/>
          <p:cNvSpPr>
            <a:spLocks noGrp="1"/>
          </p:cNvSpPr>
          <p:nvPr>
            <p:ph type="dt" idx="4"/>
          </p:nvPr>
        </p:nvSpPr>
        <p:spPr>
          <a:xfrm>
            <a:off x="502920" y="7074000"/>
            <a:ext cx="2346120" cy="396720"/>
          </a:xfrm>
          <a:prstGeom prst="rect">
            <a:avLst/>
          </a:prstGeom>
          <a:noFill/>
          <a:ln w="0">
            <a:noFill/>
          </a:ln>
        </p:spPr>
        <p:txBody>
          <a:bodyPr lIns="0" rIns="0" tIns="45000" bIns="450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ook Antiqua"/>
              </a:rPr>
              <a:t>1/10/18</a:t>
            </a:r>
            <a:endParaRPr b="0" lang="en-US" sz="1200" spc="-1" strike="noStrike">
              <a:solidFill>
                <a:srgbClr val="000000"/>
              </a:solidFill>
              <a:latin typeface="Times New Roman"/>
            </a:endParaRPr>
          </a:p>
        </p:txBody>
      </p:sp>
      <p:sp>
        <p:nvSpPr>
          <p:cNvPr id="44" name=""/>
          <p:cNvSpPr/>
          <p:nvPr/>
        </p:nvSpPr>
        <p:spPr>
          <a:xfrm>
            <a:off x="3443400" y="7074000"/>
            <a:ext cx="3190680" cy="401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8735760" y="7074000"/>
            <a:ext cx="834840" cy="396720"/>
          </a:xfrm>
          <a:prstGeom prst="rect">
            <a:avLst/>
          </a:prstGeom>
          <a:noFill/>
          <a:ln w="0">
            <a:noFill/>
          </a:ln>
        </p:spPr>
        <p:txBody>
          <a:bodyPr lIns="0" rIns="0" tIns="45000" bIns="450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8DAEA07-E6EA-4EC4-8160-5AF20C33DD21}"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03120"/>
            <a:ext cx="9067680" cy="125568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83" name="PlaceHolder 2"/>
          <p:cNvSpPr>
            <a:spLocks noGrp="1"/>
          </p:cNvSpPr>
          <p:nvPr>
            <p:ph type="body"/>
          </p:nvPr>
        </p:nvSpPr>
        <p:spPr>
          <a:xfrm>
            <a:off x="503280" y="1763280"/>
            <a:ext cx="9067680" cy="5186520"/>
          </a:xfrm>
          <a:prstGeom prst="rect">
            <a:avLst/>
          </a:prstGeom>
          <a:noFill/>
          <a:ln w="0">
            <a:noFill/>
          </a:ln>
        </p:spPr>
        <p:txBody>
          <a:bodyPr lIns="90000" rIns="90000" tIns="46800" bIns="46800" anchor="t">
            <a:normAutofit/>
          </a:bodyPr>
          <a:p>
            <a:pPr marL="343080" indent="0">
              <a:lnSpc>
                <a:spcPct val="98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Click to edit the outline text format</a:t>
            </a:r>
            <a:endParaRPr b="0" lang="en-US" sz="3100" spc="-1" strike="noStrike">
              <a:solidFill>
                <a:srgbClr val="000000"/>
              </a:solidFill>
              <a:latin typeface="Book Antiqua"/>
            </a:endParaRPr>
          </a:p>
          <a:p>
            <a:pPr lvl="1"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cond Outline Level</a:t>
            </a:r>
            <a:endParaRPr b="0" lang="en-US" sz="3100" spc="-1" strike="noStrike">
              <a:solidFill>
                <a:srgbClr val="000000"/>
              </a:solidFill>
              <a:latin typeface="Book Antiqua"/>
            </a:endParaRPr>
          </a:p>
          <a:p>
            <a:pPr lvl="2"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Third Outline Level</a:t>
            </a:r>
            <a:endParaRPr b="0" lang="en-US" sz="3100" spc="-1" strike="noStrike">
              <a:solidFill>
                <a:srgbClr val="000000"/>
              </a:solidFill>
              <a:latin typeface="Book Antiqua"/>
            </a:endParaRPr>
          </a:p>
          <a:p>
            <a:pPr lvl="3"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ourth Outline Level</a:t>
            </a:r>
            <a:endParaRPr b="0" lang="en-US" sz="3100" spc="-1" strike="noStrike">
              <a:solidFill>
                <a:srgbClr val="000000"/>
              </a:solidFill>
              <a:latin typeface="Book Antiqua"/>
            </a:endParaRPr>
          </a:p>
          <a:p>
            <a:pPr lvl="4"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ifth Outline Level</a:t>
            </a:r>
            <a:endParaRPr b="0" lang="en-US" sz="3100" spc="-1" strike="noStrike">
              <a:solidFill>
                <a:srgbClr val="000000"/>
              </a:solidFill>
              <a:latin typeface="Book Antiqua"/>
            </a:endParaRPr>
          </a:p>
          <a:p>
            <a:pPr lvl="5"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ixth Outline Level</a:t>
            </a:r>
            <a:endParaRPr b="0" lang="en-US" sz="3100" spc="-1" strike="noStrike">
              <a:solidFill>
                <a:srgbClr val="000000"/>
              </a:solidFill>
              <a:latin typeface="Book Antiqua"/>
            </a:endParaRPr>
          </a:p>
          <a:p>
            <a:pPr lvl="6"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venth Outline Level</a:t>
            </a:r>
            <a:endParaRPr b="0" lang="en-US" sz="3100" spc="-1" strike="noStrike">
              <a:solidFill>
                <a:srgbClr val="000000"/>
              </a:solidFill>
              <a:latin typeface="Book Antiqua"/>
            </a:endParaRPr>
          </a:p>
        </p:txBody>
      </p:sp>
      <p:sp>
        <p:nvSpPr>
          <p:cNvPr id="84" name="PlaceHolder 3"/>
          <p:cNvSpPr>
            <a:spLocks noGrp="1"/>
          </p:cNvSpPr>
          <p:nvPr>
            <p:ph type="dt" idx="6"/>
          </p:nvPr>
        </p:nvSpPr>
        <p:spPr>
          <a:xfrm>
            <a:off x="503280" y="7073640"/>
            <a:ext cx="2347920" cy="398520"/>
          </a:xfrm>
          <a:prstGeom prst="rect">
            <a:avLst/>
          </a:prstGeom>
          <a:noFill/>
          <a:ln w="0">
            <a:noFill/>
          </a:ln>
        </p:spPr>
        <p:txBody>
          <a:bodyPr lIns="0" rIns="0" tIns="45000" bIns="450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ook Antiqua"/>
              </a:rPr>
              <a:t>1/10/18</a:t>
            </a:r>
            <a:endParaRPr b="0" lang="en-US" sz="1200" spc="-1" strike="noStrike">
              <a:solidFill>
                <a:srgbClr val="000000"/>
              </a:solidFill>
              <a:latin typeface="Times New Roman"/>
            </a:endParaRPr>
          </a:p>
        </p:txBody>
      </p:sp>
      <p:sp>
        <p:nvSpPr>
          <p:cNvPr id="85" name=""/>
          <p:cNvSpPr/>
          <p:nvPr/>
        </p:nvSpPr>
        <p:spPr>
          <a:xfrm>
            <a:off x="3443400" y="7074000"/>
            <a:ext cx="3190680" cy="401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4"/>
          <p:cNvSpPr>
            <a:spLocks noGrp="1"/>
          </p:cNvSpPr>
          <p:nvPr>
            <p:ph type="sldNum" idx="7"/>
          </p:nvPr>
        </p:nvSpPr>
        <p:spPr>
          <a:xfrm>
            <a:off x="8736120" y="7073640"/>
            <a:ext cx="836640" cy="398520"/>
          </a:xfrm>
          <a:prstGeom prst="rect">
            <a:avLst/>
          </a:prstGeom>
          <a:noFill/>
          <a:ln w="0">
            <a:noFill/>
          </a:ln>
        </p:spPr>
        <p:txBody>
          <a:bodyPr lIns="0" rIns="0" tIns="45000" bIns="450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F5D1735-86D0-4DA8-898C-6E173F51F141}"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2760"/>
            <a:ext cx="9069480" cy="1257480"/>
          </a:xfrm>
          <a:prstGeom prst="rect">
            <a:avLst/>
          </a:prstGeom>
          <a:noFill/>
          <a:ln w="0">
            <a:noFill/>
          </a:ln>
        </p:spPr>
        <p:txBody>
          <a:bodyPr lIns="90000" rIns="90000" tIns="45000" bIns="450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124" name="PlaceHolder 2"/>
          <p:cNvSpPr>
            <a:spLocks noGrp="1"/>
          </p:cNvSpPr>
          <p:nvPr>
            <p:ph type="body"/>
          </p:nvPr>
        </p:nvSpPr>
        <p:spPr>
          <a:xfrm>
            <a:off x="502920" y="1763280"/>
            <a:ext cx="9069480" cy="5187960"/>
          </a:xfrm>
          <a:prstGeom prst="rect">
            <a:avLst/>
          </a:prstGeom>
          <a:noFill/>
          <a:ln w="0">
            <a:noFill/>
          </a:ln>
        </p:spPr>
        <p:txBody>
          <a:bodyPr lIns="90000" rIns="90000" tIns="46800" bIns="46800" anchor="t">
            <a:normAutofit/>
          </a:bodyPr>
          <a:p>
            <a:pPr marL="343080" indent="0">
              <a:lnSpc>
                <a:spcPct val="98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Click to edit the outline text format</a:t>
            </a:r>
            <a:endParaRPr b="0" lang="en-US" sz="3100" spc="-1" strike="noStrike">
              <a:solidFill>
                <a:srgbClr val="000000"/>
              </a:solidFill>
              <a:latin typeface="Book Antiqua"/>
            </a:endParaRPr>
          </a:p>
          <a:p>
            <a:pPr lvl="1"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cond Outline Level</a:t>
            </a:r>
            <a:endParaRPr b="0" lang="en-US" sz="3100" spc="-1" strike="noStrike">
              <a:solidFill>
                <a:srgbClr val="000000"/>
              </a:solidFill>
              <a:latin typeface="Book Antiqua"/>
            </a:endParaRPr>
          </a:p>
          <a:p>
            <a:pPr lvl="2"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Third Outline Level</a:t>
            </a:r>
            <a:endParaRPr b="0" lang="en-US" sz="3100" spc="-1" strike="noStrike">
              <a:solidFill>
                <a:srgbClr val="000000"/>
              </a:solidFill>
              <a:latin typeface="Book Antiqua"/>
            </a:endParaRPr>
          </a:p>
          <a:p>
            <a:pPr lvl="3"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ourth Outline Level</a:t>
            </a:r>
            <a:endParaRPr b="0" lang="en-US" sz="3100" spc="-1" strike="noStrike">
              <a:solidFill>
                <a:srgbClr val="000000"/>
              </a:solidFill>
              <a:latin typeface="Book Antiqua"/>
            </a:endParaRPr>
          </a:p>
          <a:p>
            <a:pPr lvl="4"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Fifth Outline Level</a:t>
            </a:r>
            <a:endParaRPr b="0" lang="en-US" sz="3100" spc="-1" strike="noStrike">
              <a:solidFill>
                <a:srgbClr val="000000"/>
              </a:solidFill>
              <a:latin typeface="Book Antiqua"/>
            </a:endParaRPr>
          </a:p>
          <a:p>
            <a:pPr lvl="5"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ixth Outline Level</a:t>
            </a:r>
            <a:endParaRPr b="0" lang="en-US" sz="3100" spc="-1" strike="noStrike">
              <a:solidFill>
                <a:srgbClr val="000000"/>
              </a:solidFill>
              <a:latin typeface="Book Antiqua"/>
            </a:endParaRPr>
          </a:p>
          <a:p>
            <a:pPr lvl="6" marL="343080" indent="-343080">
              <a:lnSpc>
                <a:spcPct val="98000"/>
              </a:lnSpc>
              <a:spcBef>
                <a:spcPts val="1562"/>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Book Antiqua"/>
              </a:rPr>
              <a:t>Seventh Outline Level</a:t>
            </a:r>
            <a:endParaRPr b="0" lang="en-US" sz="3100" spc="-1" strike="noStrike">
              <a:solidFill>
                <a:srgbClr val="000000"/>
              </a:solidFill>
              <a:latin typeface="Book Antiqua"/>
            </a:endParaRPr>
          </a:p>
        </p:txBody>
      </p:sp>
      <p:sp>
        <p:nvSpPr>
          <p:cNvPr id="125" name="PlaceHolder 3"/>
          <p:cNvSpPr>
            <a:spLocks noGrp="1"/>
          </p:cNvSpPr>
          <p:nvPr>
            <p:ph type="dt" idx="8"/>
          </p:nvPr>
        </p:nvSpPr>
        <p:spPr>
          <a:xfrm>
            <a:off x="503280" y="7073640"/>
            <a:ext cx="2349360" cy="399960"/>
          </a:xfrm>
          <a:prstGeom prst="rect">
            <a:avLst/>
          </a:prstGeom>
          <a:noFill/>
          <a:ln w="0">
            <a:noFill/>
          </a:ln>
        </p:spPr>
        <p:txBody>
          <a:bodyPr lIns="90000" rIns="90000" tIns="45000" bIns="45000" anchor="b">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Book Antiqua"/>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ook Antiqua"/>
              </a:rPr>
              <a:t>1/11/18</a:t>
            </a:r>
            <a:endParaRPr b="0" lang="en-US" sz="1200" spc="-1" strike="noStrike">
              <a:solidFill>
                <a:srgbClr val="000000"/>
              </a:solidFill>
              <a:latin typeface="Times New Roman"/>
            </a:endParaRPr>
          </a:p>
        </p:txBody>
      </p:sp>
      <p:sp>
        <p:nvSpPr>
          <p:cNvPr id="126" name=""/>
          <p:cNvSpPr/>
          <p:nvPr/>
        </p:nvSpPr>
        <p:spPr>
          <a:xfrm>
            <a:off x="3443400" y="7074000"/>
            <a:ext cx="3190680" cy="401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4"/>
          <p:cNvSpPr>
            <a:spLocks noGrp="1"/>
          </p:cNvSpPr>
          <p:nvPr>
            <p:ph type="sldNum" idx="9"/>
          </p:nvPr>
        </p:nvSpPr>
        <p:spPr>
          <a:xfrm>
            <a:off x="8736120" y="7073640"/>
            <a:ext cx="838080" cy="399960"/>
          </a:xfrm>
          <a:prstGeom prst="rect">
            <a:avLst/>
          </a:prstGeom>
          <a:noFill/>
          <a:ln w="0">
            <a:noFill/>
          </a:ln>
        </p:spPr>
        <p:txBody>
          <a:bodyPr lIns="0" rIns="0" tIns="45000" bIns="450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Book Antiqua"/>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F41846A-2715-40A9-9CA5-5539703E3040}"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73" name=""/>
          <p:cNvSpPr/>
          <p:nvPr/>
        </p:nvSpPr>
        <p:spPr>
          <a:xfrm>
            <a:off x="503280" y="299880"/>
            <a:ext cx="3316320" cy="1281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503280" y="1679400"/>
            <a:ext cx="4062240" cy="507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600" spc="-1" strike="noStrike">
                <a:solidFill>
                  <a:srgbClr val="000000"/>
                </a:solidFill>
                <a:latin typeface="Book Antiqua"/>
              </a:rPr>
              <a:t>Πανεπιστήμιο Θεσσαλίας</a:t>
            </a:r>
            <a:endParaRPr b="0" lang="en-US" sz="1600" spc="-1" strike="noStrike">
              <a:solidFill>
                <a:srgbClr val="000000"/>
              </a:solidFill>
              <a:latin typeface="Arial"/>
            </a:endParaRPr>
          </a:p>
          <a:p>
            <a:pPr>
              <a:lnSpc>
                <a:spcPct val="10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600" spc="-1" strike="noStrike">
                <a:solidFill>
                  <a:srgbClr val="000000"/>
                </a:solidFill>
                <a:latin typeface="Book Antiqua"/>
              </a:rPr>
              <a:t>Σχολή Θετικών Επιστημών</a:t>
            </a:r>
            <a:endParaRPr b="0" lang="en-US" sz="16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ΔΙΑΤΜΗΜΑΤΙΚΟ ΠΡΟΓΡΑΜΜΑ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ΜΕΤΑΠΤΥΧΙΑΚΩΝ ΣΠΟΥΔΩΝ: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Ασφάλεια Υπολογιστικών και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Τηλεπικοινωνιακών Συστημάτων, της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Διαχείρισης Μεγάλου Όγκου Δεδομένων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και της Προσομοίωσης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175" name=""/>
          <p:cNvSpPr/>
          <p:nvPr/>
        </p:nvSpPr>
        <p:spPr>
          <a:xfrm>
            <a:off x="4567320" y="314280"/>
            <a:ext cx="5479920" cy="6451560"/>
          </a:xfrm>
          <a:prstGeom prst="rect">
            <a:avLst/>
          </a:prstGeom>
          <a:noFill/>
          <a:ln w="0">
            <a:noFill/>
          </a:ln>
        </p:spPr>
        <p:style>
          <a:lnRef idx="0"/>
          <a:fillRef idx="0"/>
          <a:effectRef idx="0"/>
          <a:fontRef idx="minor"/>
        </p:style>
        <p:txBody>
          <a:bodyPr lIns="90000" rIns="90000" tIns="46800" bIns="46800" anchor="t">
            <a:noAutofit/>
          </a:bodyPr>
          <a:p>
            <a:pPr marL="547560" indent="-406440">
              <a:lnSpc>
                <a:spcPct val="100000"/>
              </a:lnSpc>
              <a:spcBef>
                <a:spcPts val="524"/>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6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400" spc="-1" strike="noStrike">
                <a:solidFill>
                  <a:srgbClr val="000000"/>
                </a:solidFill>
                <a:latin typeface="Book Antiqua"/>
              </a:rPr>
              <a:t>ΝΑΥΤΙΛΙΑΚΗ ΠΛΗΡΟΦΟΡΙΚΗ</a:t>
            </a:r>
            <a:endParaRPr b="0" lang="en-US" sz="24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4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4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ΨΗΦΙΑΚΗ ΥΠΟΓΡΑΦΗ ΚΑΙ</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ΔΙΑΚΙΝΗΣΗ ΕΓΓΡΑΦΩΝ ΜΕΤΑΞΥ</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ΠΛΟΙΟΥ ΚΑΙ ΠΛΟΙΟΚΤΗΤΡΙΑΣ</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ΕΤΑΙΡΙΑΣ</a:t>
            </a:r>
            <a:endParaRPr b="0" lang="en-US" sz="20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1800" spc="-1" strike="noStrike">
              <a:solidFill>
                <a:srgbClr val="000000"/>
              </a:solidFill>
              <a:latin typeface="Arial"/>
            </a:endParaRPr>
          </a:p>
          <a:p>
            <a:pPr marL="547560" indent="-406440" algn="ctr">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Εισηγητής Καθηγητής: Φιλιππόπουλος Ιωάννης</a:t>
            </a:r>
            <a:endParaRPr b="0" lang="en-US" sz="18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Επιμέλεια Φοιτητών: Παντελάκη Παναγιώτη</a:t>
            </a:r>
            <a:endParaRPr b="0" lang="en-US" sz="18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                                        </a:t>
            </a:r>
            <a:r>
              <a:rPr b="1" lang="el-GR" sz="1800" spc="-1" strike="noStrike">
                <a:solidFill>
                  <a:srgbClr val="000000"/>
                </a:solidFill>
                <a:latin typeface="Book Antiqua"/>
              </a:rPr>
              <a:t>Παντελή Απόστολου</a:t>
            </a:r>
            <a:endParaRPr b="0" lang="en-US" sz="18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gn="ctr">
              <a:lnSpc>
                <a:spcPct val="100000"/>
              </a:lnSpc>
              <a:spcBef>
                <a:spcPts val="326"/>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600" spc="-1" strike="noStrike">
                <a:solidFill>
                  <a:srgbClr val="000000"/>
                </a:solidFill>
                <a:latin typeface="Book Antiqua"/>
              </a:rPr>
              <a:t>Λαμία, Ιανουάριος 2018</a:t>
            </a:r>
            <a:endParaRPr b="0" lang="en-US" sz="1600" spc="-1" strike="noStrike">
              <a:solidFill>
                <a:srgbClr val="000000"/>
              </a:solidFill>
              <a:latin typeface="Arial"/>
            </a:endParaRPr>
          </a:p>
        </p:txBody>
      </p:sp>
      <p:pic>
        <p:nvPicPr>
          <p:cNvPr id="176" name="" descr=""/>
          <p:cNvPicPr/>
          <p:nvPr/>
        </p:nvPicPr>
        <p:blipFill>
          <a:blip r:embed="rId1"/>
          <a:stretch/>
        </p:blipFill>
        <p:spPr>
          <a:xfrm>
            <a:off x="1417680" y="314280"/>
            <a:ext cx="1417680" cy="12589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93"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ΑΛΓΟΡΙΘΜΟΙ ΚΡΥΠΤΟΓΡΑΦ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94" name=""/>
          <p:cNvSpPr/>
          <p:nvPr/>
        </p:nvSpPr>
        <p:spPr>
          <a:xfrm>
            <a:off x="614520" y="1459080"/>
            <a:ext cx="896112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ρυπτογράφηση μυστικού κλειδιού (SKC)</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ρυπτογράφηση δημόσιου κλειδιού ή ασύμμετρη κρυπτογράφηση (PKC)</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Hash Λειτουργίες</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95"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ΑΛΓΟΡΙΘΜΟΙ ΚΡΥΠΤΟΓΡΑΦ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96"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ρυπτογράφηση μυστικού κλειδιού (SKC): Χρησιμοποιεί ένα μόνο κλειδί τόσο για την κρυπτογράφηση όσο και για την αποκρυπτογράφηση. που ονομάζεται επίσης συμμετρική κρυπτογράφηση. Χρησιμοποιείται κυρίως για την προστασία της ιδιωτικής ζωής και την εμπιστευτικότη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ρυπτογράφηση δημόσιου κλειδιού ή ασύμμετρη κρυπτογράφηση (PKC): Χρησιμοποιεί ένα κλειδί για κρυπτογράφηση και άλλο για αποκρυπτογράφηση. Χρησιμοποιείται κυρίως για έλεγχο ταυτότητας και ανταλλαγή κλειδιώ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Hash Λειτουργίες: Χρησιμοποιεί ένα μαθηματικό μετασχηματισμό για να "κρυπτογραφεί" μη αναστρέψιμες πληροφορίες, παρέχοντας ένα ψηφιακό αποτύπωμα. Χρησιμοποιείται κυρίως για την ακεραιότητα των μηνυμάτων.</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ΑΛΓΟΡΙΘΜΟΙ ΚΡΥΠΤΟΓΡΑΦ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98" name=""/>
          <p:cNvSpPr/>
          <p:nvPr/>
        </p:nvSpPr>
        <p:spPr>
          <a:xfrm>
            <a:off x="92160" y="1463760"/>
            <a:ext cx="9875880" cy="5765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1554120" y="2011320"/>
            <a:ext cx="6972480" cy="5038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01"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a:t>
            </a:r>
            <a:r>
              <a:rPr b="0" lang="el-GR" sz="3100" spc="-1" strike="noStrike">
                <a:solidFill>
                  <a:srgbClr val="000000"/>
                </a:solidFill>
                <a:latin typeface="Book Antiqua"/>
              </a:rPr>
              <a:t> </a:t>
            </a:r>
            <a:r>
              <a:rPr b="1" lang="el-GR" sz="2000" spc="-1" strike="noStrike">
                <a:solidFill>
                  <a:srgbClr val="e9d596"/>
                </a:solidFill>
                <a:latin typeface="Lucida Sans"/>
              </a:rPr>
              <a:t>ΥΠΟΓΡΑΦΗ</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5. ΨΗΦΙΑΚΑ ΠΙΣΤΟΠΟΙΗΤΙΚΑ ΚΑΙ ΑΡΧΕΣ ΠΙΣΤΟΠΟΙΗΣΗ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6. 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02"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03"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ι ψηφιακές υπογραφές είναι σαν τα ηλεκτρονικά "δακτυλικά αποτυπώματα". Με τη μορφή κωδικοποιημένου μηνύματος, η ψηφιακή υπογραφή συνδέει με ασφάλεια έναν υπογράφοντα με ένα έγγραφο σε μια καταγραμμένη συναλλαγή.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ι ψηφιακές υπογραφές χρησιμοποιούν ένα τυπικό, αποδεκτό σχήμα, το οποίο ονομάζεται Υποδομή δημόσιου κλειδιού (PKI), για να παρέχει τα υψηλότερα επίπεδα ασφάλειας και καθολική αποδοχή.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όκειται για μια συγκεκριμένη υλοποίηση της τεχνολογίας υπογραφής της ηλεκτρονικής υπογραφής (eSignature).</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04"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05"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Σημασία της ψηφιακής υπογραφή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οντέλο της ψηφιακής υπογραφή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Ψηφιακό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Διαφορά μεταξύ ψηφιακής και ηλεκτρονικής υπογραφής</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06"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ΣΗΜΑΣΙΑ Τ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07"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Έλεγχος ταυτότητας μηνυμάτων. Όταν ο δέκτης επικυρώνει την ψηφιακή υπογραφή με δημόσιο κλειδί ενός αποστολέα, βεβαιώνεται ότι η υπογραφή έχει δημιουργηθεί μόνο από τον αποστολέα που διαθέτει το αντίστοιχο μυστικό ιδιωτικό κλειδί και κανένας άλλο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Ακεραιότητα δεδομένων. Σε περίπτωση που ένας εισβολέας έχει πρόσβαση στα δεδομένα και τα τροποποιήσει, η επαλήθευση της ψηφιακής υπογραφής στον δέκτη αποτυγχάνει. Το hash των τροποποιημένων δεδομένων και το αποτέλεσμα που προκύπτει από τον αλγόριθμο επαλήθευσης θα είναι διαφορετικά. Ως εκ τούτου, ο δέκτης απορρίπτει το μήνυμα αφού έχει παραβιαστεί η ακεραιότητα των δεδομένων.</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08"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ΣΗΜΑΣΙΑ Τ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09"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Non-repudiation. Δεδομένου ότι μόνο ο υπογράφων έχει τη γνώση του κλειδιού υπογραφής, μόνο αυτός έχει τη δυνατότητα  να υππογράψει μοναδικά τα δεδομένα. Έτσι, ο παραλήπτης μπορεί να παρουσιάσει τα παραλαμβανόμενα δεδομένα καθώς και την ψηφιακή υπογραφή ως στοιχείο σε περίπτωση που προκύψει οιαδήποτε αμφισβήτηση.</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ε την προσθήκη κρυπτογράφησης δημόσιου κλειδιού στο σχήμα ψηφιακής υπογραφής, μπορούμε να δημιουργήσουμε ένα κρυπτοσύστημα που μπορεί να παρέχει τα τέσσερα βασικά στοιχεία της ασφάλειας, συγκεκριμένα - Προστασία Προσωπικών Δεδομένων, Αυθεντικότητα, Ακεραιότητα και Μη Αποκρισία.</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ΜΟΝΤΕΛΟ Τ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11" name=""/>
          <p:cNvSpPr/>
          <p:nvPr/>
        </p:nvSpPr>
        <p:spPr>
          <a:xfrm>
            <a:off x="92160" y="2011320"/>
            <a:ext cx="9875880" cy="402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ι ψηφιακές υπογραφές, όπως οι χειρόγραφες υπογραφές, είναι μοναδικές για κάθε υπογράφοντα. Οι πάροχοι ψηφιακών υπογραφών ακολουθούν ένα συγκεκριμένο πρωτόκολλο, το οποίο ονομάζεται PKI. Το PKI απαιτεί από τον πάροχο να χρησιμοποιεί έναν μαθηματικό αλγόριθμο για να δημιουργήσει δύο μεγάλους αριθμούς, που ονομάζονται κλειδιά. Ένα κλειδί είναι δημόσιο και ένα κλειδί είναι ιδιω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ταν ένας υπογράφοντας υπογράφει ηλεκτρονικά ένα έγγραφο, η υπογραφή δημιουργείται χρησιμοποιώντας το ιδιωτικό κλειδί του υπογράφοντος, το οποίο διατηρείται πάντα ασφαλώς από τον υπογράφοντα. </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12"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ΜΟΝΤΕΛΟ Τ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13"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 μαθηματικός αλγόριθμος λειτουργεί σαν ένας κρυπτογραφητής, δημιουργώντας δεδομένα που ταιριάζουν με το υπογεγραμμένο έγγραφο, που ονομάζεται hash, και κρυπτογραφεί αυτά τα δεδομένα. Τα κρυπτογραφημένα δεδομένα που προκύπτουν είναι η ψηφιακή υπογραφή. Η υπογραφή επισημαίνεται επίσης με την ώρα υπογραφής του εγγράφου. Αν το έγγραφο αλλάξει μετά την υπογραφή, η ψηφιακή υπογραφή ακυρώνεται.</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Για να προστατεύσει την ακεραιότητα της υπογραφής, το PKI απαιτεί τη δημιουργία, διεξαγωγή και αποθήκευση των κλειδιών με ασφαλή τρόπο και συχνά απαιτεί τις υπηρεσίες μιας αξιόπιστης Αρχής Πιστοποίησης (CA). Οι πάροχοι ψηφιακής υπογραφής πληρούν τις απαιτήσεις PKI για ασφαλή ψηφιακή υπογραφή.</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μοντέλο του σχεδίου ψηφιακής υπογραφής απεικονίζεται στην ακόλουθη εικόνα</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77"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78" name=""/>
          <p:cNvSpPr/>
          <p:nvPr/>
        </p:nvSpPr>
        <p:spPr>
          <a:xfrm>
            <a:off x="639720" y="1459080"/>
            <a:ext cx="923616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1. ΕΙΣΑΓΩΓ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2. ΙΣΤΟΡΙΚΗ ΑΝΑΔΡΟΜ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3. ΚΡΥΠΤΟΓΡΑΦΗΣ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4. ΨΗΦΙΑΚΗ ΥΠΟΓΡΑΦ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5. ΨΗΦΙΑΚΑ ΠΙΣΤΟΠΟΙΗΤΙΚΑ ΚΑΙ ΑΡΧΕΣ ΠΙΣΤΟΠΟΙΗΣΗ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6. 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14"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ΜΟΝΤΕΛΟ Τ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15" name=""/>
          <p:cNvSpPr/>
          <p:nvPr/>
        </p:nvSpPr>
        <p:spPr>
          <a:xfrm>
            <a:off x="92160" y="1463760"/>
            <a:ext cx="9875880" cy="5765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457200" y="2039760"/>
            <a:ext cx="9317160" cy="3994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17"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ΨΗΦΙΑΚΟ ΠΙΣΤΟΠΟΙΗΤΙΚΟ</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18"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 ψηφιακό πιστοποιητικό είναι ένα ηλεκτρονικό έγγραφο που εκδίδεται από μια Αρχή Πιστοποίησης (CA). Περιέχει το δημόσιο κλειδί για ψηφιακή υπογραφή και καθορίζει την ταυτότητα που σχετίζεται με το κλειδί, όπως το όνομα ενός οργανισμού.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Χρησιμοποιείται για να επιβεβαιώσει ότι το δημόσιο κλειδί ανήκει στον συγκεκριμένο οργανισμό. Η ΑΑ ενεργεί ως εγγυητής. Τα ψηφιακά πιστοποιητικά πρέπει να εκδίδονται από αξιόπιστη αρχή και ισχύουν μόνο για συγκεκριμένο χρόνο.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ίναι απαραίτητο προκειμένου να δημιουργηθεί ψηφιακή υπογραφή.</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19"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ΔΙΑΦΟΡΑ ΨΗΦΙΑΚΗΣ ΚΑΙ ΗΛΕΚΤΡΟΝΙ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20" name=""/>
          <p:cNvSpPr/>
          <p:nvPr/>
        </p:nvSpPr>
        <p:spPr>
          <a:xfrm>
            <a:off x="92160" y="17938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ευρεία κατηγορία ηλεκτρονικών υπογραφών (eSignatures) περιλαμβάνει πολλούς τύπους ηλεκτρονικών υπογραφών. Η κατηγορία περιλαμβάνει ψηφιακές υπογραφές, οι οποίες είναι μια συγκεκριμένη εφαρμογή τεχνολογίας των ηλεκτρονικών υπογραφών.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ιδικότερα, η χρήση τεχνολογίας ψηφιακής υπογραφής για ηλεκτρονικές υπογραφές ποικίλλει σημαντικά μεταξύ των χωρών που ακολουθούν ανοικτούς, τεχνολογικά ουδέτερους νόμους για το ηλεκτρονικό υπόδειγμα, καθώς και εκείνων που ακολουθούν τα κλιμακωτά μοντέλα ηλεκτρονικής υπογραφής που προτιμούν τοπικά καθορισμένα πρότυπα που βασίζονται στην τεχνολογία ψηφιακής υπογραφής.</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21"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ΔΗΜΙΟΥΡΓΙΑ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22" name=""/>
          <p:cNvSpPr/>
          <p:nvPr/>
        </p:nvSpPr>
        <p:spPr>
          <a:xfrm>
            <a:off x="92160" y="17938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ι πάροχοι eSignature που προσφέρουν λύσεις βασισμένες στην τεχνολογία ψηφιακής υπογραφής, διευκολύνουν την ψηφιακή υπογραφή εγγράφων. Παρέχουν μια διεπαφή για την απευθείας αποστολή και υπογραφή εγγράφων και συνεργάζονται με τις αρμόδιες Αρχές Πιστοποίησης για την παροχή αξιόπιστων ψηφιακών πιστοποιητικώ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Ανάλογα με την Αρχή Πιστοποίησης που θα χρησιμοποιηθεί θα ζητηθούν και αντίστοιχα στοιχεία για τον αιτών ψηφιακής υπογραφής. Μπορεί επίσης να υπάρχουν περιορισμοί όσον αφορά τους λήπτες εγγράφων αλλά και την σειρά αποστολής των εγγράφων.</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23"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ΛΟΓΟΙ ΧΡΗΣΗΣ ΨΗΦΙΑ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24" name=""/>
          <p:cNvSpPr/>
          <p:nvPr/>
        </p:nvSpPr>
        <p:spPr>
          <a:xfrm>
            <a:off x="92160" y="17938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ολλές βιομηχανίες και γεωγραφικές περιοχές έχουν καθιερώσει πρότυπα ηλεκτρονικής υπογραφής που βασίζονται στην τεχνολογία ψηφιακής υπογραφής, καθώς και συγκεκριμένες πιστοποιημένες ΑΠ, για επιχειρηματικά έγγραφα.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εφαρμογή αυτών των τοπικών προτύπων βασισμένων στην τεχνολογία PKI και η συνεργασία με μια αξιόπιστη αρχή πιστοποίησης μπορεί να διασφαλίσει την εφαρμογή και αποδοχή μιας λύσης ηλεκτρονικής υπογραφής σε κάθε τοπική αγορά.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Χρησιμοποιώντας τη μεθοδολογία PKI, οι ψηφιακές υπογραφές χρησιμοποιούν μια διεθνή, καλά κατανοητή τεχνολογία βασισμένη σε πρότυπα, η οποία επίσης συμβάλλει στην αποτροπή πλαστογραφίας ή αλλαγών στο έγγραφο μετά την υπογραφή.</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25"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ΟΜΙΜΟΤΗΤΑ ΤΗΣ ΗΛΕΚΤΡΟΝΙΚΗΣ ΥΠΟΓΡΑΦ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26" name=""/>
          <p:cNvSpPr/>
          <p:nvPr/>
        </p:nvSpPr>
        <p:spPr>
          <a:xfrm>
            <a:off x="92160" y="17938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ΕΕ ενέκρινε την οδηγία της ΕΕ για τις ηλεκτρονικές υπογραφές το 1999 και οι Ηνωμένες Πολιτείες ψήφισαν το 2000 τον νόμο περί ηλεκτρονικής υπογραφής στον παγκόσμιο και εθνικό νόμο (ESIGN).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αι οι δύο πράξεις υπογράφηκαν με ηλεκτρονικά συμβόλαια και έγγραφα δεσμευτικά από νομικής απόψεως, όπως οι συμβάσεις με βάση το χαρτί. Έκτοτε, έχει τηρηθεί η νομιμότητα των ηλεκτρονικών υπογραφών πολλές φορέ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έχρι τώρα, οι περισσότερες χώρες έχουν υιοθετήσει νομοθεσία και κανονισμούς σύμφωνα με τα πρότυπα των Ηνωμένων Πολιτειών ή της Ευρωπαϊκής Ένωση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πιπλέον, πολλές εταιρείες έχουν βελτιώσει τη συμμόρφωση με τους κανονισμούς που έχουν θεσπίσει οι βιομηχανίες τους (π.χ. FDA 21 CFR Part 11 στη Βιομηχανία Βιοεπιστημών), η οποία έχει επιτευχθεί με τη χρήση τεχνολογίας ψηφιακών υπογραφών. </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27"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ΠΑΡΑΔΕΙΓΜΑ ΨΗΦΙΑΚΗΣ ΥΠΟΓΡΑΦΗΣ</a:t>
            </a:r>
            <a:endParaRPr b="0" lang="en-US" sz="2000" spc="-1" strike="noStrike">
              <a:solidFill>
                <a:srgbClr val="000000"/>
              </a:solidFill>
              <a:latin typeface="Arial"/>
            </a:endParaRPr>
          </a:p>
        </p:txBody>
      </p:sp>
      <p:sp>
        <p:nvSpPr>
          <p:cNvPr id="228" name=""/>
          <p:cNvSpPr/>
          <p:nvPr/>
        </p:nvSpPr>
        <p:spPr>
          <a:xfrm>
            <a:off x="92160" y="1793880"/>
            <a:ext cx="9875880" cy="5765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9" name="" descr=""/>
          <p:cNvPicPr/>
          <p:nvPr/>
        </p:nvPicPr>
        <p:blipFill>
          <a:blip r:embed="rId1"/>
          <a:stretch/>
        </p:blipFill>
        <p:spPr>
          <a:xfrm>
            <a:off x="793800" y="2468520"/>
            <a:ext cx="9120240" cy="4479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30"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31"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6. 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32"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p:txBody>
      </p:sp>
      <p:sp>
        <p:nvSpPr>
          <p:cNvPr id="233"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34" name=""/>
          <p:cNvSpPr/>
          <p:nvPr/>
        </p:nvSpPr>
        <p:spPr>
          <a:xfrm>
            <a:off x="92160" y="164160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Ψηφιακά Πιστοποιητικά</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Αρχές Πιστοποίηση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Πιστοποίηση Χρήστη</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Νομικό Πλαίσιο</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35"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ΨΗΦΙΑΚΑ ΠΙΣΤΟΠΟΙΗΤΙΚΑ</a:t>
            </a:r>
            <a:endParaRPr b="0" lang="en-US" sz="2000" spc="-1" strike="noStrike">
              <a:solidFill>
                <a:srgbClr val="000000"/>
              </a:solidFill>
              <a:latin typeface="Arial"/>
            </a:endParaRPr>
          </a:p>
        </p:txBody>
      </p:sp>
      <p:sp>
        <p:nvSpPr>
          <p:cNvPr id="236"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37" name=""/>
          <p:cNvSpPr/>
          <p:nvPr/>
        </p:nvSpPr>
        <p:spPr>
          <a:xfrm>
            <a:off x="92160" y="14572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ειτουργία του ασύμμετρου κρυπτογραφικού συστήματος (Public Key) είναι αποτελεσματική, όταν ο αποστολέας γνωρίζει εκ των προτέρων το δημόσιο κλειδί του παραλήπτη.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Δημιουργία μιας μεγάλης ηλεκτρονική βάση δεδομένων διατήρησης όλων των δημοσίων κλειδιών των χρηστώ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λλειψη εγγύησης και χρόνου κατά την ταυτοποίηση του χρήστη.</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όνομα και το δημόσιο κλειδί κάθε χρήστη, μπορεί να καταχωρηθεί σε ένα μικρό έγγραφο το οποίο είναι κρυπτογραφημένο και υπογεγραμμένο από μια ευρέως επίσημη και εμπιστευτική αρχή. Η υπογραφή που δημιουργείται και συνδέει το όνομα του χρήστη με το δημόσιο κλειδί του από την Αρχή, δίνει την ασφάλεια κατά την παραχάραξη. Αυτό το έγγραφο ονομάζεται πιστοποιητικό.</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79"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80" name=""/>
          <p:cNvSpPr/>
          <p:nvPr/>
        </p:nvSpPr>
        <p:spPr>
          <a:xfrm>
            <a:off x="639720" y="1459080"/>
            <a:ext cx="877896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ΙΣΤΟΡΙΚΗ ΑΝΑΔΡΟΜ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ΚΡΥΠΤΟΓΡΑΦΙΑ</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ΨΗΦΙΑΚΗ ΥΠΟΓΡΑΦ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ΨΗΦΙΑΚΑ ΠΙΣΤΟΠΟΙΗΤΙΚΑ ΚΑΙ ΑΡΧΕΣ ΠΙΣΤΟΠΟΙΗΣΗ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38"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ΑΡΧΕΣ ΠΙΣΤΟΠΟΙΗΣΗΣ</a:t>
            </a:r>
            <a:endParaRPr b="0" lang="en-US" sz="2000" spc="-1" strike="noStrike">
              <a:solidFill>
                <a:srgbClr val="000000"/>
              </a:solidFill>
              <a:latin typeface="Arial"/>
            </a:endParaRPr>
          </a:p>
        </p:txBody>
      </p:sp>
      <p:sp>
        <p:nvSpPr>
          <p:cNvPr id="239"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40" name=""/>
          <p:cNvSpPr/>
          <p:nvPr/>
        </p:nvSpPr>
        <p:spPr>
          <a:xfrm>
            <a:off x="92160" y="1189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αρχή πιστοποίησης (CA) είναι μια οντότητα που εκδίδει ψηφιακά πιστοποιητικά.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 ψηφιακό πιστοποιητικό πιστοποιεί την κατοχή ενός δημόσιου κλειδιού από το όνομα του αντικειμένου του πιστοποιητικού.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α μέρη εμπιστοσύνης βασίζονται σε υπογραφές σχετικά με το ιδιωτικό κλειδί που αντιστοιχεί στο πιστοποιημένο δημόσιο κλειδί.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ΑΠ ενεργεί ως αξιόπιστος τρίτος, έμπιστος τόσο από το υποκείμενο (κάτοχος) του πιστοποιητικού όσο και από το μέρος που επικαλείται το πιστοποιητικό. Η μορφή αυτών των πιστοποιητικών καθορίζεται από το πρότυπο X.509.</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Για την έκδοση πιστοποιητικού στον αποστολέα, η Αρχή Πιστοποίησης (CA) επιβεβαιώνει την ταυτότητα του αποστολέα. Αυτή η επικύρωση γίνεται από την Αρχή Εγγραφής - RA.</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ετά την έγκριση της ταυτότητας του αποστολέα, η Αρχή Εγγραφής δημιουργεί ένα μοναδικό (όνομα χρήστη) του αποστολέα. </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41"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ΠΙΣΤΟΠΟΙΗΣΗ ΧΡΗΣΤΗ</a:t>
            </a:r>
            <a:endParaRPr b="0" lang="en-US" sz="2000" spc="-1" strike="noStrike">
              <a:solidFill>
                <a:srgbClr val="000000"/>
              </a:solidFill>
              <a:latin typeface="Arial"/>
            </a:endParaRPr>
          </a:p>
        </p:txBody>
      </p:sp>
      <p:sp>
        <p:nvSpPr>
          <p:cNvPr id="242"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43" name=""/>
          <p:cNvSpPr/>
          <p:nvPr/>
        </p:nvSpPr>
        <p:spPr>
          <a:xfrm>
            <a:off x="92160" y="1189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ιστοποιητικό κάθε αποστολέα-χρήστη πρέπει να είναι διαθέσιμο σε κάθε χρήστη που επιθυμεί να επικοινωνήσει μαζί του.</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ς παραλήπτης μπορεί να θέλει να στείλει ένα κρυπτογραφημένο μήνυμα στον αποστολέα (χρησιμοποιώντας το δημόσιο κλειδί του) πριν ο παραλήπτης λάβει από τον αποστολέα το πιστοποιητικό.</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ροκειμένου να διασφαλιστεί η ευρεία διαθεσιμότητα των πιστοποιητικών, η Αρχή Πιστοποίησης δημοσιεύει όλα τα πιστοποιητικά σε μια λίστ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λίστα είναι μια υπηρεσία που επιτρέπει στους χρήστες να λαμβάνουν πληροφορίες για άλλους χρήστες. Σε αυτόν τον κατάλογο δημοσιεύονται επίσης και οι κατάλογοι των πιστοποιητικών ανάκλησης, καθώς και αυτά πρέπει να είναι ευρέως διαθέσι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ρωτόκολλο ελαφρού καταλόγου (LDAP) αποτελεί το κύριο μοντέλο για την πρόσβαση σε λίστες.</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44"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ΟΜΙΚΟ ΠΛΑΙΣΙΟ</a:t>
            </a:r>
            <a:endParaRPr b="0" lang="en-US" sz="2000" spc="-1" strike="noStrike">
              <a:solidFill>
                <a:srgbClr val="000000"/>
              </a:solidFill>
              <a:latin typeface="Arial"/>
            </a:endParaRPr>
          </a:p>
        </p:txBody>
      </p:sp>
      <p:sp>
        <p:nvSpPr>
          <p:cNvPr id="245"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46" name=""/>
          <p:cNvSpPr/>
          <p:nvPr/>
        </p:nvSpPr>
        <p:spPr>
          <a:xfrm>
            <a:off x="92160" y="1189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Στην καθημερινότητα οποιαδήποτε συναλλαγή απαιτεί υπογραφή. Η υπογραφή σε ένα κείμενο, το οποίο αποδεικνύει ότι το πρόσωπο που υπογράφει το περιεχόμενο του κειμένου γνωρίζει, αναγνωρίζει, αποδέχεται αυτό το κείμενο.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 υπογράφων δεν μπορεί να αρνηθεί το υπογεγραμμένο κείμενο, εκτός από τις περιπτώσεις παραβίασης όπως (πλαστογράφηση, απάτη κλπ).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προεδρικο διάταγμα 150/2001 είναι η εφαρμογή της οδηγίας 99/93 / ΕΚ του Ευρωπαϊκού Κοινοβουλίου και του Συμβουλίου σχετικά με το κοινοτικό πλαίσιο για τις ηλεκτρονικές υπογραφές, καθόρισε ότι το πλαίσιο στο οποίο αναγνωρίζεται νόμιμα μια ψηφιακή υπογραφή. Αυτό σημαίνει ότι, υπό συγκεκριμένες συνθήκες, τα πρόσωπα που προβαίνουν σε ηλεκτρονική συναλλαγή και υπογράφουν ηλεκτρονικά, δεν μπορούν να αρνηθούν την συναλλαγή.</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ΟΜΙΚΟ ΠΛΑΙΣΙΟ</a:t>
            </a:r>
            <a:endParaRPr b="0" lang="en-US" sz="2000" spc="-1" strike="noStrike">
              <a:solidFill>
                <a:srgbClr val="000000"/>
              </a:solidFill>
              <a:latin typeface="Arial"/>
            </a:endParaRPr>
          </a:p>
        </p:txBody>
      </p:sp>
      <p:sp>
        <p:nvSpPr>
          <p:cNvPr id="248"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49" name=""/>
          <p:cNvSpPr/>
          <p:nvPr/>
        </p:nvSpPr>
        <p:spPr>
          <a:xfrm>
            <a:off x="92160" y="1189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πιπλέον, το Προεδρικό Διάταγμ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Προσδιορίζει τους όρους που πρέπει να ισχύουν για τα ψηφιακά πιστοποιητικά προκειμένου να είναι πιστοποιημένα. Επίσης καθορίζει τους όρους και τις προϋποθέσεις για την πιστοποίηση παρόχων προκειμένου να παρέχουν αναγνωρισμένα πιστοποιητικά.</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αθιερώνει το νομικό πλαίσιο για τις ηλεκτρονικές υπογραφές προκειμένου να διασφαλιστεί η ορθή λειτουργία της εσωτερικής αγορά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αθιερώνει τους όρους της νομικής αναγνώρισης στην ΕΕ πιστοποιημένων πιστοποιητικών που δημοσιεύονται από φορείς πιστοποίησης οι οποίοι εδρεύουν σε χώρες εκτός της ΕΕ και άλλες σχετικές προβλέψεις διεθνώ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Καθιερώνει το πλαίσιο ευθύνης για την Υπηρεσία Πιστοποίησης - Παροχής Υπηρεσιών.</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50"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ΟΜΙΚΟ ΠΛΑΙΣΙΟ</a:t>
            </a:r>
            <a:endParaRPr b="0" lang="en-US" sz="2000" spc="-1" strike="noStrike">
              <a:solidFill>
                <a:srgbClr val="000000"/>
              </a:solidFill>
              <a:latin typeface="Arial"/>
            </a:endParaRPr>
          </a:p>
        </p:txBody>
      </p:sp>
      <p:sp>
        <p:nvSpPr>
          <p:cNvPr id="251"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52" name=""/>
          <p:cNvSpPr/>
          <p:nvPr/>
        </p:nvSpPr>
        <p:spPr>
          <a:xfrm>
            <a:off x="92160" y="1189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Αναθέτει στην Επιτροπή Τηλεπικοινωνιών &amp; Ταχυδρομείων (ΕΕΤΤ) συγκεκριμένες αρμοδιότητες όπως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Άδεια εθελοντικής διαπίστευσης, η οποία καθορίζει ειδικά δικαιώματα και υποχρεώσεις για την παροχή υπηρεσιών πιστοποίηση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Παρακολούθηση και έλεγχο των παρόχων υπηρεσιών πιστοποίησης στην Ελλάδα, καθώς και των ιδρυμάτων διαπίστευσης και ελέγχου υπογραφώ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Συμμόρφωση των ασφαλών συσκευών δημιουργίας υπογραφή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πιβολή προστίμων σε παρόχους υπηρεσιών παροχής πιστοποιητικώ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ήρηση μητρώου όλων των παρόχων πιστοποίησης που είναι εγκατεστημένοι στην Ελλάδα σε ηλεκτρονική μορφή ή / και σε έντυπη μορφή, προκειμένου να υποβάλει έκθεση στην Ευρωπαϊκή Επιτροπή για τα ονόματα και τις διευθύνσεις τους.</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53"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54"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55"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p:txBody>
      </p:sp>
      <p:sp>
        <p:nvSpPr>
          <p:cNvPr id="256"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57" name=""/>
          <p:cNvSpPr/>
          <p:nvPr/>
        </p:nvSpPr>
        <p:spPr>
          <a:xfrm>
            <a:off x="0" y="182880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Ψηφιοποίηση Εγγράφω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Ναυτιλιακά Έγγραφα και Βιβλία</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58"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ΨΗΦΙΟΠΟΙΗΣΗ ΕΓΓΡΑΦΩΝ</a:t>
            </a:r>
            <a:endParaRPr b="0" lang="en-US" sz="2000" spc="-1" strike="noStrike">
              <a:solidFill>
                <a:srgbClr val="000000"/>
              </a:solidFill>
              <a:latin typeface="Arial"/>
            </a:endParaRPr>
          </a:p>
        </p:txBody>
      </p:sp>
      <p:sp>
        <p:nvSpPr>
          <p:cNvPr id="259"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60" name=""/>
          <p:cNvSpPr/>
          <p:nvPr/>
        </p:nvSpPr>
        <p:spPr>
          <a:xfrm>
            <a:off x="0" y="1828800"/>
            <a:ext cx="9875880" cy="5765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
          <p:cNvSpPr/>
          <p:nvPr/>
        </p:nvSpPr>
        <p:spPr>
          <a:xfrm>
            <a:off x="90360" y="162072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τα έγγραφα που υπογράφονται ψηφιακά και αποστέλλονται ηλεκτρονικά πρέπει να είναι σε ψηφιακή μορφή.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ψηφιοποίηση είναι η διαδικασία μετατροπής στοιχείων ως έγγραφο, κείμενο, εικόνα, αντικείμενο ή σήμα από αναλογική σε ψηφιακή μορφή για την εισαγωγή τους στον υπολογιστή.</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 ψηφιακό έγγραφο χρειάζεται μικρότερο χώρο από τον εκτυπωτή, επιτρέποντας την γρήγορη αναζήτηση στις πληροφορίες που περιλαμβάνει, ενώ είναι πιο εύκολη η πρόσβαση.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άλλη χρήσιμη λειτουργία είναι η λειτουργία Σάρωση σε διακομιστή, όπου τα ψηφιακά έγγραφα αποθηκεύονται απευθείας από το σαρωτή σε επιλεγμένο αρχείο δικτύου. </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62"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ΑΥΤΙΛΙΑΚΑ ΕΓΓΡΑΦΑ ΚΑΙ ΒΙΒΛΙΑ</a:t>
            </a:r>
            <a:endParaRPr b="0" lang="en-US" sz="2000" spc="-1" strike="noStrike">
              <a:solidFill>
                <a:srgbClr val="000000"/>
              </a:solidFill>
              <a:latin typeface="Arial"/>
            </a:endParaRPr>
          </a:p>
        </p:txBody>
      </p:sp>
      <p:sp>
        <p:nvSpPr>
          <p:cNvPr id="263"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64" name=""/>
          <p:cNvSpPr/>
          <p:nvPr/>
        </p:nvSpPr>
        <p:spPr>
          <a:xfrm>
            <a:off x="90360" y="17319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Όλα τα έγγραφα που υπογράφονται ψηφιακά και αποστέλλονται ηλεκτρονικά πρέπει να είναι σε ψηφιακή μορφή.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ψηφιοποίηση είναι η διαδικασία μετατροπής στοιχείων ως έγγραφο, κείμενο, εικόνα, αντικείμενο ή σήμα από αναλογική σε ψηφιακή μορφή για την εισαγωγή τους στον υπολογιστή.</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Ένα ψηφιακό έγγραφο χρειάζεται μικρότερο χώρο από τον εκτυπωτή, επιτρέποντας την γρήγορη αναζήτηση στις πληροφορίες που περιλαμβάνει, ενώ είναι πιο εύκολη η πρόσβαση.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άλλη χρήσιμη λειτουργία είναι η λειτουργία Σάρωση σε διακομιστή, όπου τα ψηφιακά έγγραφα αποθηκεύονται απευθείας από το σαρωτή σε επιλεγμένο αρχείο δικτύου. </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65"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ΑΥΤΙΛΙΑΚΑ ΕΓΓΡΑΦΑ ΚΑΙ ΒΙΒΛΙΑ</a:t>
            </a:r>
            <a:endParaRPr b="0" lang="en-US" sz="2000" spc="-1" strike="noStrike">
              <a:solidFill>
                <a:srgbClr val="000000"/>
              </a:solidFill>
              <a:latin typeface="Arial"/>
            </a:endParaRPr>
          </a:p>
        </p:txBody>
      </p:sp>
      <p:sp>
        <p:nvSpPr>
          <p:cNvPr id="266"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67" name=""/>
          <p:cNvSpPr/>
          <p:nvPr/>
        </p:nvSpPr>
        <p:spPr>
          <a:xfrm>
            <a:off x="131760" y="1405080"/>
            <a:ext cx="9875880" cy="5765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α απαραίτητα βιβλία και πιστοποιητικά που υποχρεούται να τηρεί και να φέρει ένα πλοίο, είτε Κατ΄ επιταγή της νομοθεσίας, είτε γιατί καθιερώθηκαν από τη ναυτιλιακή τακτική και πρακτική.</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Book Antiqua"/>
              </a:rPr>
              <a:t>Τα αποκαλούμενα Ναυτιλιακά έγγραφα, σύμφωνα με το άρθρο 46 του Κώδικα Δημοσίου Ναυτικού Δικαίου (Κ.Δ.Ν.Δ.), είναι:</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Έγγραφο εθνικότητας - Certificate of Registry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Πιστοποιητικό καταμετρήσεως - Tonnage Certificate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Πιστοποιητικό ασφάλειας - Ship Security Certificate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Πιστοποιητικό γραμμής φόρτωσης - Load Line Certificate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Ναυτολόγιο - Crew List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Ημερολόγιο Γεφύρας - Log-Book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Ημερολόγιο Μηχανής - Engine Logbook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Ποινολόγιο - Crime Sheet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Βιβλίο πετρελαίου - Oil Record Book – ORB </a:t>
            </a:r>
            <a:endParaRPr b="0" lang="en-US" sz="2200" spc="-1" strike="noStrike">
              <a:solidFill>
                <a:srgbClr val="000000"/>
              </a:solidFill>
              <a:latin typeface="Arial"/>
            </a:endParaRPr>
          </a:p>
          <a:p>
            <a:pPr>
              <a:lnSpc>
                <a:spcPct val="93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 Πιστοποιητικό εξαρτισμού - Record of Equipment for the Passenger Ship Safety Certificate </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81"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82" name=""/>
          <p:cNvSpPr/>
          <p:nvPr/>
        </p:nvSpPr>
        <p:spPr>
          <a:xfrm>
            <a:off x="639720" y="1001880"/>
            <a:ext cx="877896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ψηφιακή υπογραφή είναι το ηλεκτρονικό ισοδύναμο μιας χειρόγραφης υπογραφής που επαληθεύει την αυθεντικότητα των ηλεκτρονικών εγγράφων. Στην πραγματικότητα, οι ψηφιακές υπογραφές παρέχουν ακόμη mμεγαλύτερη ασφάλεια από τα αντίστοιχα χειρόγραφ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ια ψηφιακή υπογραφή χρησιμοποιείται για τον έλεγχο της ταυτότητας των ψηφιακών πληροφοριών όπως τα μηνύματα ηλεκτρονικού ταχυδρομείου, έγγραφα μιας διαδικτυακής υπηρεσίας κοκ, χρησιμοποιώντας την τεχνολογία κρυπτογράφησης με την χρήση οποιασδήποτε IOT συσκευή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Ορισμένοι φορείς όπως τράπεζες, εταιρείες παροχής υπηρεσιών κοκ, χρησιμοποιούν ένα σύστημα για την ηλεκτρονική καταγραφή χειρόγραφων υπογραφών. Μερικές φορές χρησιμοποιούν και βιομετρική ανάλυση για να καταγράψουν την ταχύτητα και την πίεση κατά την γραφή προκειμένου να διασφαλίσουν την αυθεντικότητα της υπογραφής. </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68"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ΑΥΤΙΛΙΑΚΑ ΕΓΓΡΑΦΑ ΚΑΙ ΒΙΒΛΙΑ</a:t>
            </a:r>
            <a:endParaRPr b="0" lang="en-US" sz="2000" spc="-1" strike="noStrike">
              <a:solidFill>
                <a:srgbClr val="000000"/>
              </a:solidFill>
              <a:latin typeface="Arial"/>
            </a:endParaRPr>
          </a:p>
        </p:txBody>
      </p:sp>
      <p:sp>
        <p:nvSpPr>
          <p:cNvPr id="269"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70" name=""/>
          <p:cNvSpPr/>
          <p:nvPr/>
        </p:nvSpPr>
        <p:spPr>
          <a:xfrm>
            <a:off x="131760" y="1405080"/>
            <a:ext cx="9875880" cy="5765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Επίσης, άλλα ναυτιλιακά έγγραφα εκ της ναυτιλιακής τακτικής και πρακτικής είναι:</a:t>
            </a: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Πιστοποιητικό μυοκτονίας -Decontamination Certificate </a:t>
            </a:r>
            <a:endParaRPr b="0" lang="en-US" sz="2200" spc="-1" strike="noStrike">
              <a:solidFill>
                <a:srgbClr val="000000"/>
              </a:solidFill>
              <a:latin typeface="Arial"/>
            </a:endParaRPr>
          </a:p>
          <a:p>
            <a:pPr>
              <a:lnSpc>
                <a:spcPct val="100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Πιστοποιητικό πυρασφάλειας (πυροσβεστήρων και συστημάτων πυρόσβεσης) - Certificate of fire safety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Πιστοποιητικό Υγειονομικής κατάστασης - Ship Sanitation Control Certificate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Πιστοποιητικό (καταμέτρησης) τελών διέλευσης Διωρύγων - Customs Book through Canal passage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Άδεια απόπλου (προηγούμενου λιμένα) - Permission of Departure (previous port)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Ασφαλιστήριο κινδύνου ρύπανσης - Insurance policy of danger of pollution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Ναυλοσύμφωνο - Charter Party </a:t>
            </a:r>
            <a:endParaRPr b="0" lang="en-US" sz="2200" spc="-1" strike="noStrike">
              <a:solidFill>
                <a:srgbClr val="000000"/>
              </a:solidFill>
              <a:latin typeface="Arial"/>
            </a:endParaRPr>
          </a:p>
          <a:p>
            <a:pPr>
              <a:lnSpc>
                <a:spcPct val="93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71"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ΝΑΥΤΙΛΙΑΚΑ ΕΓΓΡΑΦΑ ΚΑΙ ΒΙΒΛΙΑ</a:t>
            </a:r>
            <a:endParaRPr b="0" lang="en-US" sz="2000" spc="-1" strike="noStrike">
              <a:solidFill>
                <a:srgbClr val="000000"/>
              </a:solidFill>
              <a:latin typeface="Arial"/>
            </a:endParaRPr>
          </a:p>
        </p:txBody>
      </p:sp>
      <p:sp>
        <p:nvSpPr>
          <p:cNvPr id="272"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73" name=""/>
          <p:cNvSpPr/>
          <p:nvPr/>
        </p:nvSpPr>
        <p:spPr>
          <a:xfrm>
            <a:off x="131760" y="1405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Το μέγεθος των ανωτέρω τηρούμενων ναυτιλιακών εγγράφων και βιβλίων είναι ιδιαίτερα μεγάλος. Πρόσφατα σύμφωνα με το IMO document FAL.2/Circ.87 MEPC/Circ.426 MSC/Circ.1151(17/12/2004) για τον «Αναθεωρημένο κατάλογο Πιστοποιητικών και Εγγράφων που απαιτούνται επί του πλοίου» ("Revised List of Certificates and Documents Required to be</a:t>
            </a:r>
            <a:endParaRPr b="0" lang="en-US" sz="2200" spc="-1" strike="noStrike">
              <a:solidFill>
                <a:srgbClr val="000000"/>
              </a:solidFill>
              <a:latin typeface="Arial"/>
            </a:endParaRPr>
          </a:p>
          <a:p>
            <a:pPr algn="just">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Carried On Board Ships"), απαιτούνται τουλάχιστον 67 διαφορετικά πιστοποιητικά μόνο για τη συμμόρφωση με τις διατάξεις των συμβάσεων του οργανισμού</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74"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75"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7. ΕΠΙΛΟΓΟΣ</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76" name=""/>
          <p:cNvSpPr/>
          <p:nvPr/>
        </p:nvSpPr>
        <p:spPr>
          <a:xfrm>
            <a:off x="530280" y="21276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7. ΕΠΙΛΟΓΟΣ</a:t>
            </a:r>
            <a:endParaRPr b="0" lang="en-US" sz="2000" spc="-1" strike="noStrike">
              <a:solidFill>
                <a:srgbClr val="000000"/>
              </a:solidFill>
              <a:latin typeface="Arial"/>
            </a:endParaRPr>
          </a:p>
        </p:txBody>
      </p:sp>
      <p:sp>
        <p:nvSpPr>
          <p:cNvPr id="277"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78" name=""/>
          <p:cNvSpPr/>
          <p:nvPr/>
        </p:nvSpPr>
        <p:spPr>
          <a:xfrm>
            <a:off x="131760" y="140508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χρήση της ψηφιακής υπογραφής και της ψηφιακής διανομής εγγράφων, ειδικά στον τομέα της Ναυτιλίας, αποτελεί ένα από τα σημαντικότερα επιτεύγματα, διότι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Θα δώσει τη δυνατότητα στις ναυτιλιακές επιχειρήσεις να συνεργαστούν σε παγκόσμιο επίπεδο με χιλιάδες άλλες εταιρείες άμεσα, οικονομικά και με ασφάλει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Θα ελαχιστοποίησει το κόστος λειτουργίας με την ψηφιακή καταχώρηση – διακίνηση των εγγράφων εντός και εκτός εταιρείας.</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Άμεση ενημέρωση παγκοσμίως των ληπτών αλληλογραφίας, μέσω της ψηφιακής διακίνησης των εγγράφων, αξιόπιστα και τάχυστα.</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79"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280"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4. ΨΗΦΙΑΚΗ ΥΠΟΓΡΑΦ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5. ΨΗΦΙΑΚΑ ΠΙΣΤΟΠΟΙΗΤΙΚΑ ΚΑΙ ΑΡΧΕΣ ΠΙΣΤΟΠΟΙΗΣΗ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6. ΑΛΛΗΛΟΓΡΑΦΙΑ ΨΗΦΙΑΚΩΝ ΕΓΓΡΑΦΩΝ</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7. ΕΠΙΛΟΓΟΣ</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2760"/>
            <a:ext cx="9070920" cy="1258920"/>
          </a:xfrm>
          <a:prstGeom prst="rect">
            <a:avLst/>
          </a:prstGeom>
          <a:noFill/>
          <a:ln w="0">
            <a:noFill/>
          </a:ln>
        </p:spPr>
        <p:txBody>
          <a:bodyPr lIns="90000" rIns="90000" tIns="45000" bIns="450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ΣΑΣ ΕΥΧΑΡΙΣΤΟΥΜΕ!!!</a:t>
            </a:r>
            <a:br>
              <a:rPr sz="2000"/>
            </a:br>
            <a:br>
              <a:rPr sz="2000"/>
            </a:br>
            <a:endParaRPr b="0" lang="en-US" sz="2000" spc="-1" strike="noStrike">
              <a:solidFill>
                <a:srgbClr val="000000"/>
              </a:solidFill>
              <a:latin typeface="Arial"/>
            </a:endParaRPr>
          </a:p>
        </p:txBody>
      </p:sp>
      <p:pic>
        <p:nvPicPr>
          <p:cNvPr id="282" name="" descr=""/>
          <p:cNvPicPr/>
          <p:nvPr/>
        </p:nvPicPr>
        <p:blipFill>
          <a:blip r:embed="rId1"/>
          <a:stretch/>
        </p:blipFill>
        <p:spPr>
          <a:xfrm>
            <a:off x="3668760" y="2989440"/>
            <a:ext cx="2739960" cy="27399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283" name=""/>
          <p:cNvSpPr/>
          <p:nvPr/>
        </p:nvSpPr>
        <p:spPr>
          <a:xfrm>
            <a:off x="503280" y="299880"/>
            <a:ext cx="3316320" cy="1281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
          <p:cNvSpPr/>
          <p:nvPr/>
        </p:nvSpPr>
        <p:spPr>
          <a:xfrm>
            <a:off x="503280" y="1679400"/>
            <a:ext cx="4062240" cy="507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600" spc="-1" strike="noStrike">
                <a:solidFill>
                  <a:srgbClr val="000000"/>
                </a:solidFill>
                <a:latin typeface="Book Antiqua"/>
              </a:rPr>
              <a:t>Πανεπιστήμιο Θεσσαλίας</a:t>
            </a:r>
            <a:endParaRPr b="0" lang="en-US" sz="1600" spc="-1" strike="noStrike">
              <a:solidFill>
                <a:srgbClr val="000000"/>
              </a:solidFill>
              <a:latin typeface="Arial"/>
            </a:endParaRPr>
          </a:p>
          <a:p>
            <a:pPr>
              <a:lnSpc>
                <a:spcPct val="10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600" spc="-1" strike="noStrike">
                <a:solidFill>
                  <a:srgbClr val="000000"/>
                </a:solidFill>
                <a:latin typeface="Book Antiqua"/>
              </a:rPr>
              <a:t>Σχολή Θετικών Επιστημών</a:t>
            </a:r>
            <a:endParaRPr b="0" lang="en-US" sz="16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ΔΙΑΤΜΗΜΑΤΙΚΟ ΠΡΟΓΡΑΜΜΑ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ΜΕΤΑΠΤΥΧΙΑΚΩΝ ΣΠΟΥΔΩΝ: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Ασφάλεια Υπολογιστικών και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Τηλεπικοινωνιακών Συστημάτων, της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Διαχείρισης Μεγάλου Όγκου Δεδομένων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1400" spc="-1" strike="noStrike">
                <a:solidFill>
                  <a:srgbClr val="000000"/>
                </a:solidFill>
                <a:latin typeface="Book Antiqua"/>
              </a:rPr>
              <a:t>και της Προσομοίωσης </a:t>
            </a: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spcBef>
                <a:spcPts val="28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285" name=""/>
          <p:cNvSpPr/>
          <p:nvPr/>
        </p:nvSpPr>
        <p:spPr>
          <a:xfrm>
            <a:off x="4567320" y="314280"/>
            <a:ext cx="5479920" cy="6451560"/>
          </a:xfrm>
          <a:prstGeom prst="rect">
            <a:avLst/>
          </a:prstGeom>
          <a:noFill/>
          <a:ln w="0">
            <a:noFill/>
          </a:ln>
        </p:spPr>
        <p:style>
          <a:lnRef idx="0"/>
          <a:fillRef idx="0"/>
          <a:effectRef idx="0"/>
          <a:fontRef idx="minor"/>
        </p:style>
        <p:txBody>
          <a:bodyPr lIns="90000" rIns="90000" tIns="46800" bIns="46800" anchor="t">
            <a:noAutofit/>
          </a:bodyPr>
          <a:p>
            <a:pPr marL="547560" indent="-406440">
              <a:lnSpc>
                <a:spcPct val="100000"/>
              </a:lnSpc>
              <a:spcBef>
                <a:spcPts val="524"/>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6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400" spc="-1" strike="noStrike">
                <a:solidFill>
                  <a:srgbClr val="000000"/>
                </a:solidFill>
                <a:latin typeface="Book Antiqua"/>
              </a:rPr>
              <a:t>ΝΑΥΤΙΛΙΑΚΗ ΠΛΗΡΟΦΟΡΙΚΗ</a:t>
            </a:r>
            <a:endParaRPr b="0" lang="en-US" sz="24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400" spc="-1" strike="noStrike">
              <a:solidFill>
                <a:srgbClr val="000000"/>
              </a:solidFill>
              <a:latin typeface="Arial"/>
            </a:endParaRPr>
          </a:p>
          <a:p>
            <a:pPr marL="547560" indent="-406440" algn="ctr">
              <a:lnSpc>
                <a:spcPct val="100000"/>
              </a:lnSpc>
              <a:spcBef>
                <a:spcPts val="488"/>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4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ΨΗΦΙΑΚΗ ΥΠΟΓΡΑΦΗ ΚΑΙ</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ΔΙΑΚΙΝΗΣΗ ΕΓΓΡΑΦΩΝ ΜΕΤΑΞΥ</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ΠΛΟΙΟΥ ΚΑΙ ΠΛΟΙΟΚΤΗΤΡΙΑΣ</a:t>
            </a:r>
            <a:endParaRPr b="0" lang="en-US" sz="2000" spc="-1" strike="noStrike">
              <a:solidFill>
                <a:srgbClr val="000000"/>
              </a:solidFill>
              <a:latin typeface="Arial"/>
            </a:endParaRPr>
          </a:p>
          <a:p>
            <a:pPr marL="547560" indent="-406440" algn="ctr">
              <a:lnSpc>
                <a:spcPct val="100000"/>
              </a:lnSpc>
              <a:spcBef>
                <a:spcPts val="400"/>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2000" spc="-1" strike="noStrike">
                <a:solidFill>
                  <a:srgbClr val="000000"/>
                </a:solidFill>
                <a:latin typeface="Book Antiqua"/>
              </a:rPr>
              <a:t>ΕΤΑΙΡΙΑΣ</a:t>
            </a:r>
            <a:endParaRPr b="0" lang="en-US" sz="20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1800" spc="-1" strike="noStrike">
              <a:solidFill>
                <a:srgbClr val="000000"/>
              </a:solidFill>
              <a:latin typeface="Arial"/>
            </a:endParaRPr>
          </a:p>
          <a:p>
            <a:pPr marL="547560" indent="-406440" algn="ctr">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Φοιτητές</a:t>
            </a:r>
            <a:endParaRPr b="0" lang="en-US" sz="18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     </a:t>
            </a:r>
            <a:r>
              <a:rPr b="1" lang="el-GR" sz="1800" spc="-1" strike="noStrike">
                <a:solidFill>
                  <a:srgbClr val="000000"/>
                </a:solidFill>
                <a:latin typeface="Book Antiqua"/>
              </a:rPr>
              <a:t>Παντελάκης Παναγιώτης</a:t>
            </a:r>
            <a:endParaRPr b="0" lang="en-US" sz="1800" spc="-1" strike="noStrike">
              <a:solidFill>
                <a:srgbClr val="000000"/>
              </a:solidFill>
              <a:latin typeface="Arial"/>
            </a:endParaRPr>
          </a:p>
          <a:p>
            <a:pPr marL="547560" indent="-406440">
              <a:lnSpc>
                <a:spcPct val="100000"/>
              </a:lnSpc>
              <a:spcBef>
                <a:spcPts val="363"/>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800" spc="-1" strike="noStrike">
                <a:solidFill>
                  <a:srgbClr val="000000"/>
                </a:solidFill>
                <a:latin typeface="Book Antiqua"/>
              </a:rPr>
              <a:t>     </a:t>
            </a:r>
            <a:r>
              <a:rPr b="1" lang="el-GR" sz="1800" spc="-1" strike="noStrike">
                <a:solidFill>
                  <a:srgbClr val="000000"/>
                </a:solidFill>
                <a:latin typeface="Book Antiqua"/>
              </a:rPr>
              <a:t>Παντελής Απόστολος</a:t>
            </a:r>
            <a:endParaRPr b="0" lang="en-US" sz="18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gn="ctr">
              <a:lnSpc>
                <a:spcPct val="100000"/>
              </a:lnSpc>
              <a:spcBef>
                <a:spcPts val="437"/>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endParaRPr b="0" lang="en-US" sz="2200" spc="-1" strike="noStrike">
              <a:solidFill>
                <a:srgbClr val="000000"/>
              </a:solidFill>
              <a:latin typeface="Arial"/>
            </a:endParaRPr>
          </a:p>
          <a:p>
            <a:pPr marL="547560" indent="-406440" algn="ctr">
              <a:lnSpc>
                <a:spcPct val="100000"/>
              </a:lnSpc>
              <a:spcBef>
                <a:spcPts val="326"/>
              </a:spcBef>
              <a:tabLst>
                <a:tab algn="l" pos="0"/>
                <a:tab algn="l" pos="547560"/>
                <a:tab algn="l" pos="1004760"/>
                <a:tab algn="l" pos="1461960"/>
                <a:tab algn="l" pos="1919160"/>
                <a:tab algn="l" pos="2376360"/>
                <a:tab algn="l" pos="2833560"/>
                <a:tab algn="l" pos="3290760"/>
                <a:tab algn="l" pos="3747960"/>
                <a:tab algn="l" pos="4205160"/>
                <a:tab algn="l" pos="4662360"/>
                <a:tab algn="l" pos="5119560"/>
                <a:tab algn="l" pos="5576760"/>
                <a:tab algn="l" pos="6033960"/>
                <a:tab algn="l" pos="6491160"/>
                <a:tab algn="l" pos="6948360"/>
                <a:tab algn="l" pos="7405560"/>
                <a:tab algn="l" pos="7862760"/>
                <a:tab algn="l" pos="8319960"/>
                <a:tab algn="l" pos="8777160"/>
                <a:tab algn="l" pos="9234360"/>
                <a:tab algn="l" pos="9691560"/>
                <a:tab algn="l" pos="10058400"/>
                <a:tab algn="l" pos="10515600"/>
              </a:tabLst>
            </a:pPr>
            <a:r>
              <a:rPr b="1" lang="el-GR" sz="1600" spc="-1" strike="noStrike">
                <a:solidFill>
                  <a:srgbClr val="000000"/>
                </a:solidFill>
                <a:latin typeface="Book Antiqua"/>
              </a:rPr>
              <a:t>Λαμία, Ιανουάριος 2018</a:t>
            </a:r>
            <a:endParaRPr b="0" lang="en-US" sz="1600" spc="-1" strike="noStrike">
              <a:solidFill>
                <a:srgbClr val="000000"/>
              </a:solidFill>
              <a:latin typeface="Arial"/>
            </a:endParaRPr>
          </a:p>
        </p:txBody>
      </p:sp>
      <p:pic>
        <p:nvPicPr>
          <p:cNvPr id="286" name="" descr=""/>
          <p:cNvPicPr/>
          <p:nvPr/>
        </p:nvPicPr>
        <p:blipFill>
          <a:blip r:embed="rId1"/>
          <a:stretch/>
        </p:blipFill>
        <p:spPr>
          <a:xfrm>
            <a:off x="1417680" y="314280"/>
            <a:ext cx="1417680" cy="12589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83"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84" name=""/>
          <p:cNvSpPr/>
          <p:nvPr/>
        </p:nvSpPr>
        <p:spPr>
          <a:xfrm>
            <a:off x="639720" y="1459080"/>
            <a:ext cx="905364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a:t>
            </a:r>
            <a:r>
              <a:rPr b="0" lang="el-GR" sz="3100" spc="-1" strike="noStrike">
                <a:solidFill>
                  <a:srgbClr val="000000"/>
                </a:solidFill>
                <a:latin typeface="Book Antiqua"/>
              </a:rPr>
              <a:t> </a:t>
            </a:r>
            <a:r>
              <a:rPr b="1" lang="el-GR" sz="2000" spc="-1" strike="noStrike">
                <a:solidFill>
                  <a:srgbClr val="e9d596"/>
                </a:solidFill>
                <a:latin typeface="Lucida Sans"/>
              </a:rPr>
              <a:t>ΑΝΑΔΡΟΜΗ</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3. ΚΡΥΠΤΟΓΡΑΦΗΣ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4. ΨΗΦΙΑΚΗ ΥΠΟΓΡΑΦ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5. ΨΗΦΙΑΚΑ ΠΙΣΤΟΠΟΙΗΤΙΚΑ ΚΑΙ ΑΡΧΕΣ ΠΙΣΤΟΠΟΙΗΣΗ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6. 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86" name=""/>
          <p:cNvSpPr/>
          <p:nvPr/>
        </p:nvSpPr>
        <p:spPr>
          <a:xfrm>
            <a:off x="639720" y="1001880"/>
            <a:ext cx="877896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κρυπτογραφία ή η κρυπτολογία, από την ελληνική λέξη κρυπτός που σημαίνει κρυφή μυστική, είναι μια μέθοδος αποθήκευσης και μετάδοσης δεδομένων σε μια συγκεκριμένη μορφή, ώστε μόνο εκείνοι για τους οποίους προορίζεται να την διαβάσουν και να την επεξεργαστούν.</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χρήση απλών κωδικών για την προστασία των πληροφοριών μπορεί να εντοπιστεί από τον 5ο αιώνα π.Χ. Η πρώτη γνωστή χρήση ενός σύγχρονου κρυπτογράφου ήταν ο Ιούλιος Καίσαρ (100 π.Χ. έως 44 π.Χ.), ο οποίος δεν είχε εμπιστοσύνη στους αγγελιαφόρους του όταν επικοινωνούσε με τους διοικητές και τους αξιωματικούς του. Για το λόγο αυτό, δημιούργησε ένα σύστημα στο οποίο κάθε χαρακτήρας στα μηνύματά του αντικαταστάθηκε από έναν χαρακτήρα τρεις θέσεις μπροστά του στο ρωμαϊκό αλφάβητο.</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ΘΕΜΑΤΙΚΕΣ ΕΝΟΤΗΤΕΣ</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88" name=""/>
          <p:cNvSpPr/>
          <p:nvPr/>
        </p:nvSpPr>
        <p:spPr>
          <a:xfrm>
            <a:off x="639720" y="1459080"/>
            <a:ext cx="9144000" cy="521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1. ΕΙΣΑΓΩΓ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2. ΙΣΤΟΡΙΚΗ ΑΝΑΔΡΟΜ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4. ΨΗΦΙΑΚΗ ΥΠΟΓΡΑΦΗ</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5. ΨΗΦΙΑΚΑ ΠΙΣΤΟΠΟΙΗΤΙΚΑ ΚΑΙ ΑΡΧΕΣ ΠΙΣΤΟΠΟΙΗΣΗ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6. ΑΛΛΗΛΟΓΡΑΦΙΑ ΨΗΦΙΑΚΩΝ ΕΓΓΡΑΦΩΝ</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200" spc="-1" strike="noStrike">
                <a:solidFill>
                  <a:srgbClr val="000000"/>
                </a:solidFill>
                <a:latin typeface="Book Antiqua"/>
              </a:rPr>
              <a:t>7. ΕΠΙΛΟΓΟΣ</a:t>
            </a:r>
            <a:endParaRPr b="0" lang="en-US" sz="2200" spc="-1" strike="noStrike">
              <a:solidFill>
                <a:srgbClr val="000000"/>
              </a:solidFill>
              <a:latin typeface="Arial"/>
            </a:endParaRPr>
          </a:p>
          <a:p>
            <a:pPr>
              <a:lnSpc>
                <a:spcPct val="100000"/>
              </a:lnSpc>
              <a:spcBef>
                <a:spcPts val="33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89"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90" name=""/>
          <p:cNvSpPr/>
          <p:nvPr/>
        </p:nvSpPr>
        <p:spPr>
          <a:xfrm>
            <a:off x="639720" y="1463760"/>
            <a:ext cx="8778960" cy="32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Με την πάροδο του χρόνου, οι μέθοδοι με τις οποίες προστατεύονται οι πληροφορίες έχουν γίνει πιο περίπλοκες και πιο ασφαλείς. </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Η κρυπτογράφηση μπορεί να χρησιμοποιηθεί για την παροχή υψηλών επιπέδων ασφάλειας στην επικοινωνία μέσω δικτύου, στο ηλεκτρονικό ταχυδρομείο, στα αρχεία που είναι αποθηκευμένα σε σκληρούς δίσκους ή δισκέτες και σε άλλες πληροφορίες που απαιτούν προστασία.</a:t>
            </a:r>
            <a:endParaRPr b="0" lang="en-US" sz="2200" spc="-1" strike="noStrike">
              <a:solidFill>
                <a:srgbClr val="000000"/>
              </a:solidFill>
              <a:latin typeface="Arial"/>
            </a:endParaRPr>
          </a:p>
          <a:p>
            <a:pPr algn="just">
              <a:lnSpc>
                <a:spcPct val="100000"/>
              </a:lnSpc>
              <a:spcBef>
                <a:spcPts val="17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1eb"/>
            </a:gs>
            <a:gs pos="100000">
              <a:srgbClr val="8e8894"/>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503280" y="457200"/>
            <a:ext cx="907092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3. ΚΡΥΠΤΟΓΡΑΦΗΣΗ</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l-GR" sz="2000" spc="-1" strike="noStrike">
                <a:solidFill>
                  <a:srgbClr val="e9d596"/>
                </a:solidFill>
                <a:latin typeface="Lucida Sans"/>
              </a:rPr>
              <a:t>ΣΤΟΧΟΙ</a:t>
            </a:r>
            <a:endParaRPr b="0" lang="en-US" sz="2000" spc="-1" strike="noStrike">
              <a:solidFill>
                <a:srgbClr val="000000"/>
              </a:solidFill>
              <a:latin typeface="Arial"/>
            </a:endParaRPr>
          </a:p>
          <a:p>
            <a:pPr algn="ct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15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192" name=""/>
          <p:cNvSpPr/>
          <p:nvPr/>
        </p:nvSpPr>
        <p:spPr>
          <a:xfrm>
            <a:off x="92160" y="1463760"/>
            <a:ext cx="9875880" cy="576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0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Εμπιστευτικότητα (οι πληροφορίες δεν μπορούν να γίνουν κατανοητές από μη εξουσιοδοτημένο άτομο)</a:t>
            </a:r>
            <a:endParaRPr b="0" lang="en-US" sz="2200" spc="-1" strike="noStrike">
              <a:solidFill>
                <a:srgbClr val="000000"/>
              </a:solidFill>
              <a:latin typeface="Arial"/>
            </a:endParaRPr>
          </a:p>
          <a:p>
            <a:pPr algn="just">
              <a:lnSpc>
                <a:spcPct val="100000"/>
              </a:lnSpc>
              <a:spcBef>
                <a:spcPts val="10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Ακεραιότητα (οι πληροφορίες δεν μπορούν να τροποποιηθούν κατά την αποθήκευση ή τη μεταφορά μεταξύ αποστολέα και παραλήπτη χωρίς ανίχνευση της αλλαγής)</a:t>
            </a:r>
            <a:endParaRPr b="0" lang="en-US" sz="2200" spc="-1" strike="noStrike">
              <a:solidFill>
                <a:srgbClr val="000000"/>
              </a:solidFill>
              <a:latin typeface="Arial"/>
            </a:endParaRPr>
          </a:p>
          <a:p>
            <a:pPr algn="just">
              <a:lnSpc>
                <a:spcPct val="100000"/>
              </a:lnSpc>
              <a:spcBef>
                <a:spcPts val="10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Μη αντιποίνηση (ο δημιουργός / αποστολέας των πληροφοριών δεν μπορεί να αρνηθεί σε μεταγενέστερο στάδιο τις προθέσεις του / της για τη δημιουργία ή τη διαβίβαση των πληροφοριών)</a:t>
            </a:r>
            <a:endParaRPr b="0" lang="en-US" sz="2200" spc="-1" strike="noStrike">
              <a:solidFill>
                <a:srgbClr val="000000"/>
              </a:solidFill>
              <a:latin typeface="Arial"/>
            </a:endParaRPr>
          </a:p>
          <a:p>
            <a:pPr algn="just">
              <a:lnSpc>
                <a:spcPct val="100000"/>
              </a:lnSpc>
              <a:spcBef>
                <a:spcPts val="10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Έλεγχος ταυτότητας (ο αποστολέας και ο παραλήπτης μπορούν να επιβεβαιώσουν την ταυτότητα και την προέλευση / προορισμό των πληροφοριών)</a:t>
            </a:r>
            <a:endParaRPr b="0" lang="en-US" sz="2200" spc="-1" strike="noStrike">
              <a:solidFill>
                <a:srgbClr val="000000"/>
              </a:solidFill>
              <a:latin typeface="Arial"/>
            </a:endParaRPr>
          </a:p>
          <a:p>
            <a:pPr algn="just">
              <a:lnSpc>
                <a:spcPct val="100000"/>
              </a:lnSpc>
              <a:spcBef>
                <a:spcPts val="10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l-GR" sz="2200" spc="-1" strike="noStrike">
                <a:solidFill>
                  <a:srgbClr val="000000"/>
                </a:solidFill>
                <a:latin typeface="Book Antiqua"/>
              </a:rPr>
              <a:t>- Ανταλλαγή κλειδιών: Η μέθοδος με την οποία τα κρυπτογραφικά κλειδιά μοιράζονται μεταξύ του αποστολέα και του δέκτη.</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0T06:07:13Z</dcterms:created>
  <dc:creator>panosp </dc:creator>
  <dc:description/>
  <cp:keywords/>
  <dc:language>en-US</dc:language>
  <cp:lastModifiedBy>Apostolos Pantelis</cp:lastModifiedBy>
  <dcterms:modified xsi:type="dcterms:W3CDTF">2018-01-11T11:17:18Z</dcterms:modified>
  <cp:revision>272</cp:revision>
  <dc:subject/>
  <dc:title>Διαφάνεια 1</dc:title>
</cp:coreProperties>
</file>