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7936B-2F89-4852-A9C0-AAE592121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80607-81CD-4AB0-AF26-59BB7AA23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38EC8-ED33-41BB-81E8-25ACC10F5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05073-58C7-450D-81F8-783AA3AF1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4389F-4C40-488A-BA5D-B3D25F5AB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1575C-67B1-4F0E-AF5A-684F5FD48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87E9F-F154-4CD5-86B9-5B0BC4615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6E65F-697C-4AD5-9B4E-481F7AB13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5266F-B7E4-4D67-908B-F1F90EF6F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72087-F7F5-4185-9C58-330C90108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0ACE1-84DA-48BA-9E7B-C8CF14CD0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9D2D2-63F6-44CC-8FF0-DAFD8492A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B84B9-10C5-457A-ADEC-E46AB6DEF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CE434-5E30-4837-A0EE-AA2E76DBF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3A6AD-2F7E-455D-9967-9D4166263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57484-6756-4FCB-A46D-D22BEBBE7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D9EA3-9EE0-4229-A54C-CF4884DA3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CBA4B16-1B57-483D-A400-DA38D36DAE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5E469C-10EA-4939-A4F2-F4B380F8E2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C1633E-ADCA-46FF-A381-A88C6728A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32E03A-40FB-40EB-8D89-465A779DD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FC55D8-C928-4D98-890E-49C3FD1B0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D35FB-5ECF-424A-8505-340E2B165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AD626E-928E-482C-AA14-CE5BDBE19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4A100D-13F7-4D6B-AE30-A2772E14F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946C13-9B66-4577-AE10-ACF68DC3F2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7CCEB0-9BF7-44F3-9892-D618BEDFC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097D9EE-FE6F-420D-8C89-1246BBD9DB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F2F1A72-00AF-423C-9543-05ABA16D7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DF78749-427C-4D89-ADD7-2332B89C1D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9707903-C390-4D3A-A949-792F79BDC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E4B244-C356-4EFD-BF3A-A713C9A301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BAC1A1E-0483-4C95-940A-26832BC337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2155F-2714-48DC-9EAE-71A709454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59517F-A3C0-4A17-9D70-8E81F3818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C5917E-2664-4612-A138-9077DB0693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956BA6-92DE-42A5-A172-999D8F3FD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3A8AEC-788D-4B18-A975-07EFD5C93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A78AE7-E29E-426D-9FC2-BE4EAD1E4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7135EF-ACC7-4B42-9FC1-65B5E7855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18D9A6-C4C6-4A6E-8728-C1CB936CE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B29E9C7-44D4-4156-843F-01242105FD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6BCFB88-32F9-445A-98DA-141AC34FF3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E108C2E-E5DE-40E3-8C15-B741DA7B84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65B07-29A6-4D14-97C9-FAFF1067D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0B56122-DD68-41CC-A309-B3EDA2F45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E1ECE7-89EB-4FF1-964D-3B8F6DA1F9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E36A01-8933-4188-9CB6-DB9D643A69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A28615-046D-4D6C-9DE4-7FA1FADB01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DC9542-833B-4A40-96F2-89F36B315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C5CEE5-2E4D-42B3-81AA-8529C467E7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781B2F-B960-4F44-89CB-EAC31EA84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C2D422-2D52-4A17-A409-863FB8D79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171DFB-0B14-4CD9-9688-A7F969BEB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04129B-CDA3-4E6E-BA62-A37B41F267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CD0F-F0D1-4849-BCB6-6A22E6DE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478B91F-B6B7-4EE4-865B-DDF3CDEA5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DF87D8-C005-4078-B66B-4543881F36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3D427-97AC-4EFA-BE4D-57794B578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FAD854-3D02-4B3A-9EA2-8359D23DFD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E69174-7184-42EC-AF68-25192DB3FF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3AA6F-4BE0-47D2-8D03-8F73080E1C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F71CC-2708-4FE0-880B-ED7A87CEC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A6AD3-1A98-425F-941A-23E539F51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67CB8A-DFFB-4E92-90EC-8EDE7E698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A121B-BFCE-4293-BCD5-65B104F67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4A4F-7C0D-4704-AC6B-23A12ED6F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BBA445-257C-4B4E-BE49-4F78D36E22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2C7121-0A93-4118-8AA9-472E8A7CC2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F385AA-7463-4FE1-9A35-52E385FC88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967C14B-98E0-4E7A-9C58-04904426DA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210CB5E-0B85-4A32-9C01-62790B5E1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0FC9C30-0954-4B72-8F7D-30F8D972C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DA6CB19-C134-4095-B0EB-1495EC3B17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52A35E-7090-49BC-8FCF-C6FC5C4066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97684C0-18DB-4545-A7B4-5C49146777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0082C93-79AD-471A-A921-0AE5C443C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F7E11-4F63-46DE-93D6-B9A84D9DC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9BCC04-3003-49AA-8307-419D80831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7115B2-C734-4611-B4B7-EFBAD28C1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0B17159-3BD0-4D23-BA3A-2B5EBD3051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65E0DFC-F27D-4C62-90E7-2E6D83EA05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CAC5DAA-27BC-40C5-8500-66C6D56113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A58B44-D558-4838-96FD-AFC8CAC010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6A199-1442-47E7-8450-3C6673DD86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81C6BB-9C8D-4612-B422-BB3B72C578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890EC-F010-4BD8-A0AB-CD76FCC5AA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76BFB-AA26-4B4D-81C7-213E695F0B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44E87-723C-4BE7-A917-432F10A77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18373F-3438-4CCF-AE55-95EDC19974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85BC06-6965-4D35-88D8-EBA0F684E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F0956-E918-4F6D-8B19-1DFAD70B7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E019B-13C6-460C-B295-8DCAABCC7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24FE6A-DA80-446D-9F57-41BEF0975C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72D10C-1CF6-4762-8318-A6AD24E435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C006CA-F78E-41B6-8587-77D0D368DBF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 Ορθογώνιο"/>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 Ορθογώνιο"/>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 Ορθογώνιο"/>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BA66-9ED1-44C1-B95B-D4B407EA08B7}"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 Ορθογώνιο"/>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 Ορθογώνιο"/>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 Ορθογώνιο"/>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ebddc3"/>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9D81-5F32-418A-9683-E20766C84FA2}" type="slidenum">
              <a:rPr b="1" lang="el-GR" sz="1400" spc="-1" strike="noStrike">
                <a:solidFill>
                  <a:srgbClr val="ebddc3"/>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 Ορθογώνιο"/>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 Ορθογώνιο"/>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 Ορθογώνιο"/>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4C10-584F-4488-81B7-3C38BB69601B}" type="slidenum">
              <a:rPr b="1" lang="el-GR"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 Ορθογώνιο"/>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 Ορθογώνιο"/>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 Ορθογώνιο"/>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40C1-E237-4F11-A628-C9D78ECD2204}"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 Ορθογώνιο"/>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 Ορθογώνιο"/>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 Ορθογώνιο"/>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ED8F-89A5-4E56-8702-3B60F2FFACA8}"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775f55"/>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4D0E-A8AD-4086-A1D9-85FE9A1F9F40}" type="slidenum">
              <a:rPr b="1" lang="el-GR" sz="1400" spc="-1" strike="noStrike">
                <a:solidFill>
                  <a:srgbClr val="775f55"/>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 Ορθογώνιο"/>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 Ορθογώνιο"/>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 Ορθογώνιο"/>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 Ορθογώνιο"/>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1536-CB79-4781-BC11-FD58EE4AC796}" type="slidenum">
              <a:rPr b="1" lang="el-GR"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 Ορθογώνιο"/>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 Ορθογώνιο"/>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 Ορθογώνιο"/>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733F-F843-44DE-96DE-EA549DE6F447}"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75920"/>
            <a:ext cx="7772400" cy="33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bddc3"/>
                </a:solidFill>
                <a:latin typeface="Calibri"/>
              </a:rPr>
              <a:t>                                                                  </a:t>
            </a:r>
            <a:r>
              <a:rPr b="0" lang="el-GR" sz="2000" spc="-1" strike="noStrike">
                <a:solidFill>
                  <a:srgbClr val="ebddc3"/>
                </a:solidFill>
                <a:latin typeface="Calibri"/>
              </a:rPr>
              <a:t>ΠΑΝΕΠΙΣΤΗΜΙΟ ΘΕΣΣΑΛΙΑΣ</a:t>
            </a:r>
            <a:br>
              <a:rPr sz="2000"/>
            </a:br>
            <a:r>
              <a:rPr b="0" lang="el-GR" sz="2000" spc="-1" strike="noStrike">
                <a:solidFill>
                  <a:srgbClr val="ebddc3"/>
                </a:solidFill>
                <a:latin typeface="Calibri"/>
              </a:rPr>
              <a:t>                            ΣΧΟΛΗ ΘΕΤΙΚΩΝ ΕΠΙΣΤΗΜΩΝ – ΤΜΗΜΑ ΠΛΗΡΟΦΟΡΙΚΗΣ</a:t>
            </a:r>
            <a:br>
              <a:rPr sz="2000"/>
            </a:br>
            <a:r>
              <a:rPr b="0" lang="el-GR" sz="2000" spc="-1" strike="noStrike">
                <a:solidFill>
                  <a:srgbClr val="ebddc3"/>
                </a:solidFill>
                <a:latin typeface="Calibri"/>
              </a:rPr>
              <a:t>                          ΔΙΑΤΜΗΜΑΤΙΚΟ ΠΡΟΓΡΑΜΜΑ ΜΕΤΑΠΤΥΧΙΑΚΩΝ ΣΠΟΥΔΩΝ</a:t>
            </a:r>
            <a:br>
              <a:rPr sz="2000"/>
            </a:br>
            <a:r>
              <a:rPr b="0" lang="el-GR" sz="2000" spc="-1" strike="noStrike">
                <a:solidFill>
                  <a:srgbClr val="ebddc3"/>
                </a:solidFill>
                <a:latin typeface="Calibri"/>
              </a:rPr>
              <a:t>                              ΤΙΤΛΟΣ «ΠΛΗΡΟΦΟΡΙΚΗ ΚΑΙ ΥΠΟΛΟΓΙΣΤΙΚΗ ΒΙΟΪΑΤΡΙΚΗ»</a:t>
            </a:r>
            <a:br>
              <a:rPr sz="2000"/>
            </a:br>
            <a:r>
              <a:rPr b="0" lang="el-GR" sz="2000" spc="-1" strike="noStrike">
                <a:solidFill>
                  <a:srgbClr val="ebddc3"/>
                </a:solidFill>
                <a:latin typeface="Calibri"/>
              </a:rPr>
              <a:t>                                                                    ΡΟΗ ΠΛΗΡΟΦΟΡΙΚΗΣ</a:t>
            </a:r>
            <a:br>
              <a:rPr sz="2000"/>
            </a:br>
            <a:r>
              <a:rPr b="0" lang="el-GR" sz="4400" spc="-1" strike="noStrike">
                <a:solidFill>
                  <a:srgbClr val="ebddc3"/>
                </a:solidFill>
                <a:latin typeface="Calibri"/>
              </a:rPr>
              <a:t>Λ</a:t>
            </a:r>
            <a:r>
              <a:rPr b="1" lang="el-GR" sz="4400" spc="-1" strike="noStrike">
                <a:solidFill>
                  <a:srgbClr val="ebddc3"/>
                </a:solidFill>
                <a:latin typeface="Calibri"/>
              </a:rPr>
              <a:t>ΟΓΙΣΜΙΚΟ ΤΜΗΜΑΤΟΣ ΠΛΗΡΩΜΑΤΩΝ (</a:t>
            </a:r>
            <a:r>
              <a:rPr b="1" lang="en-US" sz="4400" spc="-1" strike="noStrike">
                <a:solidFill>
                  <a:srgbClr val="ebddc3"/>
                </a:solidFill>
                <a:latin typeface="Tw Cen MT"/>
              </a:rPr>
              <a:t>CREW</a:t>
            </a:r>
            <a:r>
              <a:rPr b="1" lang="el-GR" sz="4400" spc="-1" strike="noStrike">
                <a:solidFill>
                  <a:srgbClr val="ebddc3"/>
                </a:solidFill>
                <a:latin typeface="Calibri"/>
              </a:rPr>
              <a:t>)</a:t>
            </a:r>
            <a:endParaRPr b="0" lang="en-US" sz="4400" spc="-1" strike="noStrike">
              <a:solidFill>
                <a:srgbClr val="ebddc3"/>
              </a:solidFill>
              <a:latin typeface="Calibri"/>
            </a:endParaRPr>
          </a:p>
        </p:txBody>
      </p:sp>
      <p:sp>
        <p:nvSpPr>
          <p:cNvPr id="351" name="PlaceHolder 2"/>
          <p:cNvSpPr>
            <a:spLocks noGrp="1"/>
          </p:cNvSpPr>
          <p:nvPr>
            <p:ph type="subTitle"/>
          </p:nvPr>
        </p:nvSpPr>
        <p:spPr>
          <a:xfrm>
            <a:off x="539640" y="4292280"/>
            <a:ext cx="5904000" cy="180036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Calibri"/>
              </a:rPr>
              <a:t>Διδάσκων:</a:t>
            </a:r>
            <a:endParaRPr b="0" lang="en-US" sz="22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ΙΩΑΝΝΗΣ ΦΙΛΙΠΠΟΠΟΥΛΟΣ</a:t>
            </a:r>
            <a:endParaRPr b="0" lang="en-US" sz="22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Calibri"/>
              </a:rPr>
              <a:t>Ομάδα:</a:t>
            </a:r>
            <a:endParaRPr b="0" lang="en-US" sz="22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ΖΗΣΙΜΟΥ ΕΛΕΝΗ (ΑΜ:Μ012017093)</a:t>
            </a:r>
            <a:endParaRPr b="0" lang="en-US" sz="22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ΞΕΠΛΑΤΤΗ ΧΡΥΣΑΥΓΗ</a:t>
            </a:r>
            <a:r>
              <a:rPr b="1" lang="en-US" sz="2200" spc="-1" strike="noStrike">
                <a:solidFill>
                  <a:srgbClr val="ffffff"/>
                </a:solidFill>
                <a:latin typeface="Tw Cen MT"/>
              </a:rPr>
              <a:t> </a:t>
            </a:r>
            <a:r>
              <a:rPr b="1" lang="el-GR" sz="2200" spc="-1" strike="noStrike">
                <a:solidFill>
                  <a:srgbClr val="ffffff"/>
                </a:solidFill>
                <a:latin typeface="Calibri"/>
              </a:rPr>
              <a:t>(ΑΜ:Μ012016197)</a:t>
            </a:r>
            <a:endParaRPr b="0" lang="en-US" sz="22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775f55"/>
                </a:solidFill>
                <a:latin typeface="Calibri"/>
              </a:rPr>
              <a:t>ΧΑΡΑΚΤΗΡΙΣΤΙΚΑ ΤΟΥ </a:t>
            </a:r>
            <a:r>
              <a:rPr b="0" lang="en-US" sz="3600" spc="-1" strike="noStrike">
                <a:solidFill>
                  <a:srgbClr val="775f55"/>
                </a:solidFill>
                <a:latin typeface="Tw Cen MT"/>
              </a:rPr>
              <a:t>CREW INSPECTOR</a:t>
            </a:r>
            <a:endParaRPr b="0" lang="en-US" sz="3600" spc="-1" strike="noStrike">
              <a:solidFill>
                <a:srgbClr val="775f55"/>
              </a:solidFill>
              <a:latin typeface="Calibri"/>
            </a:endParaRPr>
          </a:p>
        </p:txBody>
      </p:sp>
      <p:sp>
        <p:nvSpPr>
          <p:cNvPr id="372" name=""/>
          <p:cNvSpPr txBox="1"/>
          <p:nvPr/>
        </p:nvSpPr>
        <p:spPr>
          <a:xfrm>
            <a:off x="609120" y="1589040"/>
            <a:ext cx="3886200" cy="4572000"/>
          </a:xfrm>
          <a:prstGeom prst="rect">
            <a:avLst/>
          </a:prstGeom>
          <a:noFill/>
          <a:ln w="0">
            <a:noFill/>
          </a:ln>
        </p:spPr>
        <p:txBody>
          <a:bodyPr anchor="t">
            <a:normAutofit/>
          </a:bodyPr>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αγκόσμια προσβασιμότητα και υψηλή διαθεσιμότητα και ευελιξία</a:t>
            </a: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Ενισχυμένη ασφάλεια δεδομένων</a:t>
            </a: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περιόριστος αποθηκευτικός χώρος για τα δεδομένα</a:t>
            </a: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ωρεάν παροχή εξυπηρέτησης πελατών</a:t>
            </a: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εχνική υποστήριξη</a:t>
            </a: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43080" indent="-34308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ιασύνδεση με Λογιστικά συστήματα</a:t>
            </a:r>
            <a:endParaRPr b="0" lang="en-US" sz="18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373" name=""/>
          <p:cNvSpPr txBox="1"/>
          <p:nvPr/>
        </p:nvSpPr>
        <p:spPr>
          <a:xfrm>
            <a:off x="4844520" y="1589040"/>
            <a:ext cx="3886200" cy="4572000"/>
          </a:xfrm>
          <a:prstGeom prst="rect">
            <a:avLst/>
          </a:prstGeom>
          <a:noFill/>
          <a:ln w="0">
            <a:noFill/>
          </a:ln>
        </p:spPr>
        <p:txBody>
          <a:bodyPr anchor="t">
            <a:normAutofit/>
          </a:bodyPr>
          <a:p>
            <a:pPr lvl="2" marL="318960" indent="-318960">
              <a:lnSpc>
                <a:spcPct val="80000"/>
              </a:lnSpc>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Calibri"/>
              </a:rPr>
              <a:t>Διαχείριση δεδομένων πληρώματος </a:t>
            </a:r>
            <a:endParaRPr b="0" lang="en-US" sz="1700" spc="-1" strike="noStrike">
              <a:solidFill>
                <a:srgbClr val="000000"/>
              </a:solidFill>
              <a:latin typeface="Calibri"/>
            </a:endParaRPr>
          </a:p>
          <a:p>
            <a:pPr lvl="2" marL="318960" indent="-318960">
              <a:lnSpc>
                <a:spcPct val="80000"/>
              </a:lnSpc>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Calibri"/>
              </a:rPr>
              <a:t>Διαχείριση στόλου και σκαφών</a:t>
            </a:r>
            <a:endParaRPr b="0" lang="en-US" sz="1700" spc="-1" strike="noStrike">
              <a:solidFill>
                <a:srgbClr val="000000"/>
              </a:solidFill>
              <a:latin typeface="Calibri"/>
            </a:endParaRPr>
          </a:p>
          <a:p>
            <a:pPr lvl="2" marL="318960" indent="-31896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Calibri"/>
              </a:rPr>
              <a:t>Αξιολόγηση απόδοσης πληρώματος</a:t>
            </a:r>
            <a:endParaRPr b="0" lang="en-US" sz="1700" spc="-1" strike="noStrike">
              <a:solidFill>
                <a:srgbClr val="000000"/>
              </a:solidFill>
              <a:latin typeface="Calibri"/>
            </a:endParaRPr>
          </a:p>
          <a:p>
            <a:pPr lvl="2" marL="318960" indent="-318960">
              <a:lnSpc>
                <a:spcPct val="80000"/>
              </a:lnSpc>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Calibri"/>
              </a:rPr>
              <a:t>Διαχείριση των πιστοποιητικών του πληρώματος</a:t>
            </a:r>
            <a:endParaRPr b="0" lang="en-US" sz="1700" spc="-1" strike="noStrike">
              <a:solidFill>
                <a:srgbClr val="000000"/>
              </a:solidFill>
              <a:latin typeface="Calibri"/>
            </a:endParaRPr>
          </a:p>
          <a:p>
            <a:pPr lvl="2" marL="318960" indent="-318960">
              <a:lnSpc>
                <a:spcPct val="80000"/>
              </a:lnSpc>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Calibri"/>
              </a:rPr>
              <a:t>Εργαλείο προγραμματισμού πληρώματος</a:t>
            </a:r>
            <a:r>
              <a:rPr b="0" lang="en-US" sz="1700" spc="-1" strike="noStrike">
                <a:solidFill>
                  <a:srgbClr val="000000"/>
                </a:solidFill>
                <a:latin typeface="Tw Cen MT"/>
              </a:rPr>
              <a:t>(Crew Planning, Rostering and Scheduling)</a:t>
            </a:r>
            <a:endParaRPr b="0" lang="en-US" sz="1700" spc="-1" strike="noStrike">
              <a:solidFill>
                <a:srgbClr val="000000"/>
              </a:solidFill>
              <a:latin typeface="Calibri"/>
            </a:endParaRPr>
          </a:p>
          <a:p>
            <a:pPr lvl="2" marL="318960" indent="-318960">
              <a:lnSpc>
                <a:spcPct val="80000"/>
              </a:lnSpc>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Calibri"/>
              </a:rPr>
              <a:t>Αυτοματοποιημένες συμβάσεις απασχόλησης πληρωμάτων</a:t>
            </a:r>
            <a:endParaRPr b="0" lang="en-US" sz="1700" spc="-1" strike="noStrike">
              <a:solidFill>
                <a:srgbClr val="000000"/>
              </a:solidFill>
              <a:latin typeface="Calibri"/>
            </a:endParaRPr>
          </a:p>
          <a:p>
            <a:pPr lvl="2" marL="318960" indent="-318960">
              <a:lnSpc>
                <a:spcPct val="80000"/>
              </a:lnSpc>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775f55"/>
                </a:solidFill>
                <a:latin typeface="Calibri"/>
              </a:rPr>
              <a:t>ΧΑΡΑΚΤΗΡΙΣΤΙΚΑ ΤΟΥ </a:t>
            </a:r>
            <a:r>
              <a:rPr b="0" lang="en-US" sz="3600" spc="-1" strike="noStrike">
                <a:solidFill>
                  <a:srgbClr val="775f55"/>
                </a:solidFill>
                <a:latin typeface="Tw Cen MT"/>
              </a:rPr>
              <a:t>CREW INSPECTOR</a:t>
            </a:r>
            <a:endParaRPr b="0" lang="en-US" sz="3600" spc="-1" strike="noStrike">
              <a:solidFill>
                <a:srgbClr val="775f55"/>
              </a:solidFill>
              <a:latin typeface="Calibri"/>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Λογισμικό μισθοδοτικών καταστάσεων πληρώματος</a:t>
            </a:r>
            <a:endParaRPr b="0" lang="en-US" sz="22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u="sng">
                <a:solidFill>
                  <a:srgbClr val="000000"/>
                </a:solidFill>
                <a:uFillTx/>
                <a:latin typeface="Calibri"/>
              </a:rPr>
              <a:t>Διαχείριση και αναζήτηση συμβάσεων απασχόλησης</a:t>
            </a:r>
            <a:endParaRPr b="0" lang="en-US" sz="22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u="sng">
                <a:solidFill>
                  <a:srgbClr val="000000"/>
                </a:solidFill>
                <a:uFillTx/>
                <a:latin typeface="Calibri"/>
              </a:rPr>
              <a:t>Εκκαθαριστικά σημειώματα μισθοδοσίας πληρώματος</a:t>
            </a:r>
            <a:endParaRPr b="0" lang="en-US" sz="22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u="sng">
                <a:solidFill>
                  <a:srgbClr val="000000"/>
                </a:solidFill>
                <a:uFillTx/>
                <a:latin typeface="Calibri"/>
              </a:rPr>
              <a:t>Επισκόπηση μισθοδοτικών καταστάσεων πληρώματος</a:t>
            </a:r>
            <a:endParaRPr b="0" lang="en-US" sz="22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u="sng">
                <a:solidFill>
                  <a:srgbClr val="000000"/>
                </a:solidFill>
                <a:uFillTx/>
                <a:latin typeface="Calibri"/>
              </a:rPr>
              <a:t>Τιμολόγηση πελατών</a:t>
            </a:r>
            <a:endParaRPr b="0" lang="en-US" sz="22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u="sng">
                <a:solidFill>
                  <a:srgbClr val="000000"/>
                </a:solidFill>
                <a:uFillTx/>
                <a:latin typeface="Calibri"/>
              </a:rPr>
              <a:t>Προϋπολογισμός και στατιστικές</a:t>
            </a:r>
            <a:endParaRPr b="0" lang="en-US" sz="22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343080" indent="-343080" algn="just">
              <a:spcBef>
                <a:spcPts val="499"/>
              </a:spcBef>
              <a:buClr>
                <a:srgbClr val="dd8047"/>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Δυνατότητα μεταφοράς των δεδομένων, σε περίπτωση αντικατάστασης του χρησιμοποιούμενου προγράμματος διαχείρισης πληρωμάτων, στο Crew Inspector</a:t>
            </a:r>
            <a:endParaRPr b="0" lang="en-US" sz="22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ΕΠΙΛΟΓΟΣ</a:t>
            </a:r>
            <a:endParaRPr b="0" lang="en-US" sz="4400" spc="-1" strike="noStrike">
              <a:solidFill>
                <a:srgbClr val="775f55"/>
              </a:solidFill>
              <a:latin typeface="Calibri"/>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   </a:t>
            </a:r>
            <a:r>
              <a:rPr b="0" lang="el-GR" sz="2700" spc="-1" strike="noStrike">
                <a:solidFill>
                  <a:srgbClr val="000000"/>
                </a:solidFill>
                <a:latin typeface="Calibri"/>
              </a:rPr>
              <a:t>Αντιλαμβανόμαστε λοιπόν, ότι η χρήση ενός λογισμικού διαχείρισης πληρωμάτων μπορεί να παρέχει λύσεις στα παραπάνω προβλήματα είναι αναγκαία και σημαντική. </a:t>
            </a:r>
            <a:endParaRPr b="0" lang="en-US" sz="2700" spc="-1" strike="noStrike">
              <a:solidFill>
                <a:srgbClr val="000000"/>
              </a:solidFill>
              <a:latin typeface="Calibri"/>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  </a:t>
            </a:r>
            <a:r>
              <a:rPr b="0" lang="el-GR" sz="2700" spc="-1" strike="noStrike">
                <a:solidFill>
                  <a:srgbClr val="000000"/>
                </a:solidFill>
                <a:latin typeface="Calibri"/>
              </a:rPr>
              <a:t>Μια ναυτιλιακή εταιρεία έχει τη δυνατότητα να επιλέξει μεταξύ αρκετών διαθέσιμων εμπορικών επιλογών, το λογισμικό διαχείρισης πληρωμάτων που θα της προσφέρει τις καλύτερες λύσεις, εξοικονομώντας πολύτιμο χρόνο και χρήματα, και παράλληλα θα συνάδει με το προφίλ και τη φιλοσοφία της εταιρείας</a:t>
            </a:r>
            <a:endParaRPr b="0" lang="en-US" sz="27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ΕΥΧΑΡΙΣΤΟΥΜΕ</a:t>
            </a:r>
            <a:endParaRPr b="0" lang="en-US" sz="4400" spc="-1" strike="noStrike">
              <a:solidFill>
                <a:srgbClr val="775f55"/>
              </a:solidFill>
              <a:latin typeface="Calibri"/>
            </a:endParaRPr>
          </a:p>
        </p:txBody>
      </p:sp>
      <p:pic>
        <p:nvPicPr>
          <p:cNvPr id="379" name="3 - Θέση περιεχομένου" descr="is.jpg"/>
          <p:cNvPicPr/>
          <p:nvPr/>
        </p:nvPicPr>
        <p:blipFill>
          <a:blip r:embed="rId1"/>
          <a:stretch/>
        </p:blipFill>
        <p:spPr>
          <a:xfrm>
            <a:off x="2389320" y="2606760"/>
            <a:ext cx="4703760" cy="269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ΕΙΣΑΓΩΓΗ</a:t>
            </a:r>
            <a:endParaRPr b="0" lang="en-US" sz="4400" spc="-1" strike="noStrike">
              <a:solidFill>
                <a:srgbClr val="775f55"/>
              </a:solidFill>
              <a:latin typeface="Calibri"/>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    </a:t>
            </a:r>
            <a:r>
              <a:rPr b="0" lang="el-GR" sz="2900" spc="-1" strike="noStrike">
                <a:solidFill>
                  <a:srgbClr val="000000"/>
                </a:solidFill>
                <a:latin typeface="Calibri"/>
              </a:rPr>
              <a:t>Η μεταφορά των εμπορευμάτων σε παγκόσμιο επίπεδο, κατά κύριο λόγο διενεργείται μέσω θαλάσσης με τα εμπορικά πλοία. Καθοριστικός παράγοντας για την ομαλή και επιτυχημένη πραγματοποίηση των μεταφορών είναι η επιλογή των κατάλληλων ατόμων που θα αποτελέσουν το πλήρωμα του πλοίου.</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775f55"/>
                </a:solidFill>
                <a:latin typeface="Calibri"/>
              </a:rPr>
              <a:t>ΛΟΓΙΣΜΙΚΟ ΔΙΑΧΕΙΡΙΣΗΣ ΠΛΗΡΩΜΑΤΩΝ</a:t>
            </a:r>
            <a:br>
              <a:rPr sz="3200"/>
            </a:br>
            <a:r>
              <a:rPr b="0" lang="el-GR" sz="3200" spc="-1" strike="noStrike">
                <a:solidFill>
                  <a:srgbClr val="775f55"/>
                </a:solidFill>
                <a:latin typeface="Calibri"/>
              </a:rPr>
              <a:t>ΤΙ ΕΙΝΑΙ-ΠΟΙΟΥΣ ΤΟΜΕΙΣ ΚΑΛΥΠΤΕΙ</a:t>
            </a:r>
            <a:endParaRPr b="0" lang="en-US" sz="3200" spc="-1" strike="noStrike">
              <a:solidFill>
                <a:srgbClr val="775f55"/>
              </a:solidFill>
              <a:latin typeface="Calibri"/>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    </a:t>
            </a:r>
            <a:r>
              <a:rPr b="0" lang="el-GR" sz="1900" spc="-1" strike="noStrike">
                <a:solidFill>
                  <a:srgbClr val="000000"/>
                </a:solidFill>
                <a:latin typeface="Calibri"/>
              </a:rPr>
              <a:t>Η χρήση του λογισμικού δίνει τη δυνατότητα στους διαχειριστές να ανταπεξέλθουν στις δυσκολίες και να επιτευχθεί η βέλτιστη επιλογή που θα καλύπτει τις ανάγκες κάθε σκάφους.</a:t>
            </a:r>
            <a:endParaRPr b="0" lang="en-US" sz="1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Calibri"/>
              </a:rPr>
              <a:t>Διαχείριση των υποψηφίων προς πρόσληψη ναυτικών(απευθείας ή μέσω σύνδεσης με πρακτορείο ναυτολόγησης).</a:t>
            </a:r>
            <a:endParaRPr b="0" lang="en-US" sz="1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Calibri"/>
              </a:rPr>
              <a:t>Διαχείριση των δεδομένων του προσωπικού με σχετική ταξινόμηση-επεξεργασία των αδειών και των πιστοποιητικών τους.</a:t>
            </a:r>
            <a:endParaRPr b="0" lang="en-US" sz="1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Calibri"/>
              </a:rPr>
              <a:t>Διαχείριση των συμβολαίων του προσωπικού.</a:t>
            </a:r>
            <a:endParaRPr b="0" lang="en-US" sz="1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Calibri"/>
              </a:rPr>
              <a:t>Λογιστικές εργασίες-διαχείριση της μισθοδοσίας των ναυτικών.</a:t>
            </a:r>
            <a:endParaRPr b="0" lang="en-US" sz="1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Calibri"/>
              </a:rPr>
              <a:t>Προγραμματισμός ασκήσεων-εκπαίδευσης.</a:t>
            </a:r>
            <a:endParaRPr b="0" lang="en-US" sz="1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Calibri"/>
              </a:rPr>
              <a:t>Ταξιδιωτικά εισιτήρια και προγραμματισμός.</a:t>
            </a:r>
            <a:endParaRPr b="0" lang="en-US" sz="1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Calibri"/>
              </a:rPr>
              <a:t>Άντληση στατιστικών στοιχείων για όλα τα παραπάνω και απόδοσή τους με σχετικά διαγράμματα.</a:t>
            </a:r>
            <a:endParaRPr b="0" lang="en-US" sz="1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ΠΡΟΣΩΠΙΚΟ ΠΛΟΙΩΝ</a:t>
            </a:r>
            <a:endParaRPr b="0" lang="en-US" sz="4400" spc="-1" strike="noStrike">
              <a:solidFill>
                <a:srgbClr val="775f55"/>
              </a:solidFill>
              <a:latin typeface="Calibri"/>
            </a:endParaRPr>
          </a:p>
        </p:txBody>
      </p:sp>
      <p:pic>
        <p:nvPicPr>
          <p:cNvPr id="357" name="4 - Θέση περιεχομένου" descr="crew.png"/>
          <p:cNvPicPr/>
          <p:nvPr/>
        </p:nvPicPr>
        <p:blipFill>
          <a:blip r:embed="rId1"/>
          <a:stretch/>
        </p:blipFill>
        <p:spPr>
          <a:xfrm>
            <a:off x="665280" y="1600200"/>
            <a:ext cx="804852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103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775f55"/>
                </a:solidFill>
                <a:latin typeface="Calibri"/>
              </a:rPr>
              <a:t>ΔΙΑΔΙΚΑΣΙΑ ΕΠΙΛΟΓΗΣ ΤΟΥ ΠΛΗΡΩΜΑΤΟΣ ΚΑΙ ΟΙ ΔΥΣΚΟΛΙΕΣ ΠΟΥ ΠΑΡΟΥΣΙΑΖΟΝΤΑΙ</a:t>
            </a:r>
            <a:endParaRPr b="0" lang="en-US" sz="3200" spc="-1" strike="noStrike">
              <a:solidFill>
                <a:srgbClr val="775f55"/>
              </a:solidFill>
              <a:latin typeface="Calibri"/>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Ελάχιστες προϋποθέσεις για την εργασία σε καράβι:</a:t>
            </a: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Όριο ηλικίας</a:t>
            </a: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Ιατρικό πιστοποιητικό</a:t>
            </a: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Εκπαίδευση και προσόντα</a:t>
            </a: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Πρόσληψη και τοποθέτηση</a:t>
            </a: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Συνεχής αξιολόγηση</a:t>
            </a: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Απόδοση εργασίας</a:t>
            </a: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12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775f55"/>
                </a:solidFill>
                <a:latin typeface="Calibri"/>
              </a:rPr>
              <a:t>ΔΙΑΔΙΚΑΣΙΑ ΕΠΙΛΟΓΗΣ ΤΟΥ ΠΛΗΡΩΜΑΤΟΣ ΚΑΙ ΟΙ ΔΥΣΚΟΛΙΕΣ ΠΟΥ ΠΑΡΟΥΣΙΑΖΟΝΤΑΙ</a:t>
            </a:r>
            <a:endParaRPr b="0" lang="en-US" sz="3200" spc="-1" strike="noStrike">
              <a:solidFill>
                <a:srgbClr val="775f55"/>
              </a:solidFill>
              <a:latin typeface="Calibri"/>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Σε μία ναυτιλιακή εταιρεία, την ευθύνη της επιλογής αξιωματικών και πληρωμάτων για την επάνδρωση των πλοίων, είναι το </a:t>
            </a:r>
            <a:r>
              <a:rPr b="1" lang="el-GR" sz="1700" spc="-1" strike="noStrike">
                <a:solidFill>
                  <a:srgbClr val="000000"/>
                </a:solidFill>
                <a:latin typeface="Calibri"/>
              </a:rPr>
              <a:t>Τμήμα</a:t>
            </a:r>
            <a:r>
              <a:rPr b="0" lang="el-GR" sz="1700" spc="-1" strike="noStrike">
                <a:solidFill>
                  <a:srgbClr val="000000"/>
                </a:solidFill>
                <a:latin typeface="Calibri"/>
              </a:rPr>
              <a:t> </a:t>
            </a:r>
            <a:r>
              <a:rPr b="1" lang="el-GR" sz="1700" spc="-1" strike="noStrike">
                <a:solidFill>
                  <a:srgbClr val="000000"/>
                </a:solidFill>
                <a:latin typeface="Calibri"/>
              </a:rPr>
              <a:t>Πληρώματος(Crew department)</a:t>
            </a:r>
            <a:r>
              <a:rPr b="0" lang="el-GR" sz="1700" spc="-1" strike="noStrike">
                <a:solidFill>
                  <a:srgbClr val="000000"/>
                </a:solidFill>
                <a:latin typeface="Calibri"/>
              </a:rPr>
              <a:t>. </a:t>
            </a:r>
            <a:r>
              <a:rPr b="0" lang="el-GR" sz="1500" spc="-1" strike="noStrike">
                <a:solidFill>
                  <a:srgbClr val="000000"/>
                </a:solidFill>
                <a:latin typeface="Calibri"/>
              </a:rPr>
              <a:t>Επικεφαλής του τμήματος είναι ένας πλοίαρχος του Εμπορικού Ναυτικού ο οποίος κοινώς αποκαλείται </a:t>
            </a:r>
            <a:r>
              <a:rPr b="1" lang="el-GR" sz="1700" spc="-1" strike="noStrike">
                <a:solidFill>
                  <a:srgbClr val="000000"/>
                </a:solidFill>
                <a:latin typeface="Calibri"/>
              </a:rPr>
              <a:t>«Αρχικαπετάνιος» </a:t>
            </a:r>
            <a:r>
              <a:rPr b="0" lang="el-GR" sz="1500" spc="-1" strike="noStrike">
                <a:solidFill>
                  <a:srgbClr val="000000"/>
                </a:solidFill>
                <a:latin typeface="Calibri"/>
              </a:rPr>
              <a:t>της εταιρείας. </a:t>
            </a:r>
            <a:endParaRPr b="0" lang="en-US" sz="1500" spc="-1" strike="noStrike">
              <a:solidFill>
                <a:srgbClr val="000000"/>
              </a:solidFill>
              <a:latin typeface="Calibri"/>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ρισμένες από τις αρμοδιότητες του Τμήματος Πληρώματος είναι και οι:</a:t>
            </a:r>
            <a:endParaRPr b="0" lang="en-US" sz="15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Calibri"/>
              </a:rPr>
              <a:t>Η παρακολούθηση του επιπέδου του προσωπικού</a:t>
            </a:r>
            <a:r>
              <a:rPr b="0" lang="el-GR" sz="1500" spc="-1" strike="noStrike">
                <a:solidFill>
                  <a:srgbClr val="000000"/>
                </a:solidFill>
                <a:latin typeface="Calibri"/>
              </a:rPr>
              <a:t>, η κατανόηση των αναγκών για προσλήψεις, καθώς και ο προσδιορισμός των απαιτούμενων προσόντων και δεξιοτήτων του πληρώματος.</a:t>
            </a:r>
            <a:endParaRPr b="0" lang="en-US" sz="15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Calibri"/>
              </a:rPr>
              <a:t>Η τελική επιλογή, διαχείριση και εκπαίδευση του προσωπικού όλων των πλοίων</a:t>
            </a:r>
            <a:r>
              <a:rPr b="0" lang="el-GR" sz="1500" spc="-1" strike="noStrike">
                <a:solidFill>
                  <a:srgbClr val="000000"/>
                </a:solidFill>
                <a:latin typeface="Calibri"/>
              </a:rPr>
              <a:t>, σε συνεργασία με το Τμήμα Επιχειρήσεων (Operations) και το Τεχνικό Τμήμα (Technical) για τους κορυφαίους αξιωματικούς.</a:t>
            </a:r>
            <a:endParaRPr b="0" lang="en-US" sz="15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Calibri"/>
              </a:rPr>
              <a:t>Η σύναψη συμφωνιών </a:t>
            </a:r>
            <a:r>
              <a:rPr b="0" lang="el-GR" sz="1500" spc="-1" strike="noStrike">
                <a:solidFill>
                  <a:srgbClr val="000000"/>
                </a:solidFill>
                <a:latin typeface="Calibri"/>
              </a:rPr>
              <a:t>με εξουσιοδοτημένα γραφεία ευρέσεως προσωπικού.</a:t>
            </a:r>
            <a:endParaRPr b="0" lang="en-US" sz="15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Calibri"/>
              </a:rPr>
              <a:t>Η πρόσληψη του προσωπικού</a:t>
            </a:r>
            <a:r>
              <a:rPr b="0" lang="el-GR" sz="1500" spc="-1" strike="noStrike">
                <a:solidFill>
                  <a:srgbClr val="000000"/>
                </a:solidFill>
                <a:latin typeface="Calibri"/>
              </a:rPr>
              <a:t> του πλοίου, μέσω των συνεργαζόμενων γραφείων Προσωπικού, καθώς και ο έλεγχος και η αξιολόγηση των γραφείων αυτών.</a:t>
            </a:r>
            <a:endParaRPr b="0" lang="en-US" sz="15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Η συνεχής αξιολόγηση </a:t>
            </a:r>
            <a:r>
              <a:rPr b="1" lang="el-GR" sz="1500" spc="-1" strike="noStrike">
                <a:solidFill>
                  <a:srgbClr val="000000"/>
                </a:solidFill>
                <a:latin typeface="Calibri"/>
              </a:rPr>
              <a:t>της απόδοσης όλων των ναυτικών</a:t>
            </a:r>
            <a:r>
              <a:rPr b="0" lang="el-GR" sz="1500" spc="-1" strike="noStrike">
                <a:solidFill>
                  <a:srgbClr val="000000"/>
                </a:solidFill>
                <a:latin typeface="Calibri"/>
              </a:rPr>
              <a:t>.</a:t>
            </a:r>
            <a:endParaRPr b="0" lang="en-US" sz="15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Calibri"/>
              </a:rPr>
              <a:t>Η διατήρηση ενημερωμένου αρχείου </a:t>
            </a:r>
            <a:r>
              <a:rPr b="0" lang="el-GR" sz="1500" spc="-1" strike="noStrike">
                <a:solidFill>
                  <a:srgbClr val="000000"/>
                </a:solidFill>
                <a:latin typeface="Calibri"/>
              </a:rPr>
              <a:t>για όλους τους ναυτικούς που απασχολούνται από την Εταιρεία.</a:t>
            </a:r>
            <a:endParaRPr b="0" lang="en-US" sz="15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Calibri"/>
              </a:rPr>
              <a:t>Η παρακολούθηση των μισθών</a:t>
            </a:r>
            <a:r>
              <a:rPr b="0" lang="el-GR" sz="1500" spc="-1" strike="noStrike">
                <a:solidFill>
                  <a:srgbClr val="000000"/>
                </a:solidFill>
                <a:latin typeface="Calibri"/>
              </a:rPr>
              <a:t> στη Ναυτιλιακή Βιομηχανία.</a:t>
            </a:r>
            <a:endParaRPr b="0" lang="en-US" sz="15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Η ρύθμιση και ο </a:t>
            </a:r>
            <a:r>
              <a:rPr b="1" lang="el-GR" sz="1500" spc="-1" strike="noStrike">
                <a:solidFill>
                  <a:srgbClr val="000000"/>
                </a:solidFill>
                <a:latin typeface="Calibri"/>
              </a:rPr>
              <a:t>έλεγχος των ετήσιων προϋπολογισμών </a:t>
            </a:r>
            <a:r>
              <a:rPr b="0" lang="el-GR" sz="1500" spc="-1" strike="noStrike">
                <a:solidFill>
                  <a:srgbClr val="000000"/>
                </a:solidFill>
                <a:latin typeface="Calibri"/>
              </a:rPr>
              <a:t>του πληρώματος.</a:t>
            </a:r>
            <a:endParaRPr b="0" lang="en-US" sz="15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DECISION SUPPORT SYSTEM-</a:t>
            </a:r>
            <a:r>
              <a:rPr b="0" lang="el-GR" sz="3600" spc="-1" strike="noStrike">
                <a:solidFill>
                  <a:srgbClr val="775f55"/>
                </a:solidFill>
                <a:latin typeface="Calibri"/>
              </a:rPr>
              <a:t>ΣΥΣΤΗΜΑΤΑ ΥΠΟΣΤΗΡΙΞΗΣ ΑΠΟΦΑΣΕΩΝ (</a:t>
            </a:r>
            <a:r>
              <a:rPr b="0" lang="en-US" sz="3600" spc="-1" strike="noStrike">
                <a:solidFill>
                  <a:srgbClr val="775f55"/>
                </a:solidFill>
                <a:latin typeface="Tw Cen MT"/>
              </a:rPr>
              <a:t>DSS</a:t>
            </a:r>
            <a:r>
              <a:rPr b="0" lang="el-GR" sz="3600" spc="-1" strike="noStrike">
                <a:solidFill>
                  <a:srgbClr val="775f55"/>
                </a:solidFill>
                <a:latin typeface="Calibri"/>
              </a:rPr>
              <a:t>)</a:t>
            </a:r>
            <a:endParaRPr b="0" lang="en-US" sz="3600" spc="-1" strike="noStrike">
              <a:solidFill>
                <a:srgbClr val="775f55"/>
              </a:solidFill>
              <a:latin typeface="Calibri"/>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Το DECISION SUPORT SYSTEM</a:t>
            </a:r>
            <a:endParaRPr b="0" lang="en-US" sz="27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   </a:t>
            </a:r>
            <a:r>
              <a:rPr b="0" lang="el-GR" sz="2700" spc="-1" strike="noStrike">
                <a:solidFill>
                  <a:srgbClr val="000000"/>
                </a:solidFill>
                <a:latin typeface="Calibri"/>
              </a:rPr>
              <a:t>Σύστημα Υποστήριξης Αποφάσεων (DSS) είναι μια ειδική κατηγορία ηλεκτρονικού συστήματος πληροφοριών, το οποίο υποστηρίζει τις επιχειρηματικές και οργανωτικές δραστηριότητες λήψης αποφάσεων.</a:t>
            </a:r>
            <a:endParaRPr b="0" lang="en-US" sz="27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Οι περιοχές που απευθύνεται μπορεί να περιλαμβάνουν τη λειτουργικότητα, τις διασυνδέσεις, την εφαρμογή, τις επιπτώσεις και την αξιολόγηση των συστημάτων υποστήριξης αποφάσεων (DSSS). </a:t>
            </a:r>
            <a:endParaRPr b="0" lang="en-US" sz="27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272520"/>
            <a:ext cx="815328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775f55"/>
              </a:solidFill>
              <a:latin typeface="Calibri"/>
            </a:endParaRPr>
          </a:p>
        </p:txBody>
      </p:sp>
      <p:sp>
        <p:nvSpPr>
          <p:cNvPr id="365" name=""/>
          <p:cNvSpPr txBox="1"/>
          <p:nvPr/>
        </p:nvSpPr>
        <p:spPr>
          <a:xfrm>
            <a:off x="609120" y="2437920"/>
            <a:ext cx="3886200" cy="358164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alibri"/>
              </a:rPr>
              <a:t>Ελάχιστο χρονικό διάστημα </a:t>
            </a:r>
            <a:r>
              <a:rPr b="0" lang="el-GR" sz="1300" spc="-1" strike="noStrike">
                <a:solidFill>
                  <a:srgbClr val="000000"/>
                </a:solidFill>
                <a:latin typeface="Calibri"/>
              </a:rPr>
              <a:t>για επιλογή του πληρώματος και προσέγγιση του μικρότερου δυνατού χρηματικού κόστους. </a:t>
            </a:r>
            <a:endParaRPr b="0" lang="en-US" sz="13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alibri"/>
              </a:rPr>
              <a:t>Σκάφη διαφορετικών τύπων και πλήρωμα με διαφορετικά προσόντα </a:t>
            </a:r>
            <a:r>
              <a:rPr b="0" lang="el-GR" sz="1300" spc="-1" strike="noStrike">
                <a:solidFill>
                  <a:srgbClr val="000000"/>
                </a:solidFill>
                <a:latin typeface="Calibri"/>
              </a:rPr>
              <a:t>και ποικίλες απαιτήσεις αδειών.</a:t>
            </a:r>
            <a:endParaRPr b="0" lang="en-US" sz="13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alibri"/>
              </a:rPr>
              <a:t>Διαχείριση ναυτικών </a:t>
            </a:r>
            <a:r>
              <a:rPr b="0" lang="el-GR" sz="1300" spc="-1" strike="noStrike">
                <a:solidFill>
                  <a:srgbClr val="000000"/>
                </a:solidFill>
                <a:latin typeface="Calibri"/>
              </a:rPr>
              <a:t>που ανήκουν σε διαφορετικές χώρες και κατά συνέπεια υπάγονται σε διαφορετικούς εργατικούς κανονισμούς - άδειες.</a:t>
            </a:r>
            <a:endParaRPr b="0" lang="en-US" sz="13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alibri"/>
              </a:rPr>
              <a:t>Προγραμματισμός ταξιδιωτικών εισιτηρίων</a:t>
            </a:r>
            <a:r>
              <a:rPr b="0" lang="el-GR" sz="1300" spc="-1" strike="noStrike">
                <a:solidFill>
                  <a:srgbClr val="000000"/>
                </a:solidFill>
                <a:latin typeface="Calibri"/>
              </a:rPr>
              <a:t>. </a:t>
            </a:r>
            <a:endParaRPr b="0" lang="en-US" sz="13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alibri"/>
              </a:rPr>
              <a:t>Συνεχής έλεγχος των ταξιδιωτικών εγγράφων</a:t>
            </a:r>
            <a:r>
              <a:rPr b="0" lang="el-GR" sz="1300" spc="-1" strike="noStrike">
                <a:solidFill>
                  <a:srgbClr val="000000"/>
                </a:solidFill>
                <a:latin typeface="Calibri"/>
              </a:rPr>
              <a:t>, πιστοποιητικών, συμβολαίων, διπλωμάτων και αδειών των μελών του πληρώματος.</a:t>
            </a:r>
            <a:endParaRPr b="0" lang="en-US" sz="13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alibri"/>
              </a:rPr>
              <a:t>Ορθή πληρωμή </a:t>
            </a:r>
            <a:r>
              <a:rPr b="0" lang="el-GR" sz="1300" spc="-1" strike="noStrike">
                <a:solidFill>
                  <a:srgbClr val="000000"/>
                </a:solidFill>
                <a:latin typeface="Calibri"/>
              </a:rPr>
              <a:t>των μισθών των μελών των πληρωμάτων</a:t>
            </a:r>
            <a:r>
              <a:rPr b="0" lang="el-GR" sz="1100" spc="-1" strike="noStrike">
                <a:solidFill>
                  <a:srgbClr val="000000"/>
                </a:solidFill>
                <a:latin typeface="Calibri"/>
              </a:rPr>
              <a:t>.</a:t>
            </a:r>
            <a:endParaRPr b="0" lang="en-US" sz="1100" spc="-1" strike="noStrike">
              <a:solidFill>
                <a:srgbClr val="000000"/>
              </a:solidFill>
              <a:latin typeface="Calibri"/>
            </a:endParaRPr>
          </a:p>
        </p:txBody>
      </p:sp>
      <p:sp>
        <p:nvSpPr>
          <p:cNvPr id="366" name=""/>
          <p:cNvSpPr txBox="1"/>
          <p:nvPr/>
        </p:nvSpPr>
        <p:spPr>
          <a:xfrm>
            <a:off x="4800240" y="2437920"/>
            <a:ext cx="3886200" cy="358164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alibri"/>
              </a:rPr>
              <a:t>Διαχείριση </a:t>
            </a:r>
            <a:r>
              <a:rPr b="1" lang="el-GR" sz="1300" spc="-1" strike="noStrike">
                <a:solidFill>
                  <a:srgbClr val="000000"/>
                </a:solidFill>
                <a:latin typeface="Calibri"/>
              </a:rPr>
              <a:t>υποψηφίων</a:t>
            </a:r>
            <a:r>
              <a:rPr b="0" lang="el-GR" sz="1300" spc="-1" strike="noStrike">
                <a:solidFill>
                  <a:srgbClr val="000000"/>
                </a:solidFill>
                <a:latin typeface="Calibri"/>
              </a:rPr>
              <a:t> προς πρόσληψη ναυτικών (απευθείας ή μέσω σύνδεσης  με πρακτορείο ναυτολόγησης).</a:t>
            </a:r>
            <a:endParaRPr b="0" lang="en-US" sz="13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alibri"/>
              </a:rPr>
              <a:t>Διαχείριση των </a:t>
            </a:r>
            <a:r>
              <a:rPr b="1" lang="el-GR" sz="1300" spc="-1" strike="noStrike">
                <a:solidFill>
                  <a:srgbClr val="000000"/>
                </a:solidFill>
                <a:latin typeface="Calibri"/>
              </a:rPr>
              <a:t>δεδομένων</a:t>
            </a:r>
            <a:r>
              <a:rPr b="0" lang="el-GR" sz="1300" spc="-1" strike="noStrike">
                <a:solidFill>
                  <a:srgbClr val="000000"/>
                </a:solidFill>
                <a:latin typeface="Calibri"/>
              </a:rPr>
              <a:t> του προσωπικού με σχετική ταξινόμηση – επεξεργασία των αδειών και των πιστοποιητικών τους.</a:t>
            </a:r>
            <a:endParaRPr b="0" lang="en-US" sz="13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alibri"/>
              </a:rPr>
              <a:t>Διαχείριση </a:t>
            </a:r>
            <a:r>
              <a:rPr b="1" lang="el-GR" sz="1300" spc="-1" strike="noStrike">
                <a:solidFill>
                  <a:srgbClr val="000000"/>
                </a:solidFill>
                <a:latin typeface="Calibri"/>
              </a:rPr>
              <a:t>των συμβολαίων </a:t>
            </a:r>
            <a:r>
              <a:rPr b="0" lang="el-GR" sz="1300" spc="-1" strike="noStrike">
                <a:solidFill>
                  <a:srgbClr val="000000"/>
                </a:solidFill>
                <a:latin typeface="Calibri"/>
              </a:rPr>
              <a:t>του προσωπικού.</a:t>
            </a:r>
            <a:endParaRPr b="0" lang="en-US" sz="13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alibri"/>
              </a:rPr>
              <a:t>Λογιστικές εργασίες – διαχείριση της </a:t>
            </a:r>
            <a:r>
              <a:rPr b="1" lang="el-GR" sz="1300" spc="-1" strike="noStrike">
                <a:solidFill>
                  <a:srgbClr val="000000"/>
                </a:solidFill>
                <a:latin typeface="Calibri"/>
              </a:rPr>
              <a:t>μισθοδοσίας</a:t>
            </a:r>
            <a:r>
              <a:rPr b="0" lang="el-GR" sz="1300" spc="-1" strike="noStrike">
                <a:solidFill>
                  <a:srgbClr val="000000"/>
                </a:solidFill>
                <a:latin typeface="Calibri"/>
              </a:rPr>
              <a:t> των ναυτικών.</a:t>
            </a:r>
            <a:endParaRPr b="0" lang="en-US" sz="13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alibri"/>
              </a:rPr>
              <a:t>Προγραμματισμός </a:t>
            </a:r>
            <a:r>
              <a:rPr b="1" lang="el-GR" sz="1300" spc="-1" strike="noStrike">
                <a:solidFill>
                  <a:srgbClr val="000000"/>
                </a:solidFill>
                <a:latin typeface="Calibri"/>
              </a:rPr>
              <a:t>ασκήσεων – εκπαίδευσης</a:t>
            </a:r>
            <a:r>
              <a:rPr b="0" lang="el-GR" sz="1300" spc="-1" strike="noStrike">
                <a:solidFill>
                  <a:srgbClr val="000000"/>
                </a:solidFill>
                <a:latin typeface="Calibri"/>
              </a:rPr>
              <a:t>.</a:t>
            </a:r>
            <a:endParaRPr b="0" lang="en-US" sz="13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alibri"/>
              </a:rPr>
              <a:t>Ταξιδιωτικά εισιτήρια και προγραμματισμός.</a:t>
            </a:r>
            <a:endParaRPr b="0" lang="en-US" sz="13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alibri"/>
              </a:rPr>
              <a:t>Άντληση στατιστικών στοιχείων για όλα τα παραπάνω και απόδοσή τους με σχετικά διαγράμματα.</a:t>
            </a:r>
            <a:endParaRPr b="0" lang="en-US" sz="13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7"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Calibri"/>
              </a:rPr>
              <a:t>Ποιες ανάγκες καλύπτει το λογισμικό και για ποιο λόγο  δημιουργήθηκε</a:t>
            </a:r>
            <a:endParaRPr b="0" lang="en-US" sz="1700" spc="-1" strike="noStrike">
              <a:solidFill>
                <a:srgbClr val="000000"/>
              </a:solidFill>
              <a:latin typeface="Calibri"/>
            </a:endParaRPr>
          </a:p>
        </p:txBody>
      </p:sp>
      <p:sp>
        <p:nvSpPr>
          <p:cNvPr id="368"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Ποιους τομείς στην διαχείριση των πληρωμάτων καλύπτει ένα σύγχρονο λογισμικό. Πως λειτουργεί.</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775f55"/>
                </a:solidFill>
                <a:latin typeface="Calibri"/>
              </a:rPr>
              <a:t>ΧΑΡΑΚΤΗΡΙΣΤΙΚΑ ΤΟΥ </a:t>
            </a:r>
            <a:r>
              <a:rPr b="0" lang="en-US" sz="3600" spc="-1" strike="noStrike">
                <a:solidFill>
                  <a:srgbClr val="775f55"/>
                </a:solidFill>
                <a:latin typeface="Tw Cen MT"/>
              </a:rPr>
              <a:t>CREW INSPECTOR-</a:t>
            </a:r>
            <a:r>
              <a:rPr b="0" lang="el-GR" sz="3600" spc="-1" strike="noStrike">
                <a:solidFill>
                  <a:srgbClr val="775f55"/>
                </a:solidFill>
                <a:latin typeface="Calibri"/>
              </a:rPr>
              <a:t>ΓΕΝΙΚΑ</a:t>
            </a:r>
            <a:endParaRPr b="0" lang="en-US" sz="3600" spc="-1" strike="noStrike">
              <a:solidFill>
                <a:srgbClr val="775f55"/>
              </a:solidFill>
              <a:latin typeface="Calibri"/>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Είναι ένα </a:t>
            </a:r>
            <a:r>
              <a:rPr b="1" lang="el-GR" sz="2200" spc="-1" strike="noStrike">
                <a:solidFill>
                  <a:srgbClr val="000000"/>
                </a:solidFill>
                <a:latin typeface="Calibri"/>
              </a:rPr>
              <a:t>Οnline λογισμικό διαχείρισης πληρωμάτων</a:t>
            </a:r>
            <a:r>
              <a:rPr b="0" lang="el-GR" sz="2200" spc="-1" strike="noStrike">
                <a:solidFill>
                  <a:srgbClr val="000000"/>
                </a:solidFill>
                <a:latin typeface="Calibri"/>
              </a:rPr>
              <a:t>, που  υποστηρίζεται από όλους τους γνωστούς </a:t>
            </a:r>
            <a:r>
              <a:rPr b="0" lang="en-US" sz="2200" spc="-1" strike="noStrike">
                <a:solidFill>
                  <a:srgbClr val="000000"/>
                </a:solidFill>
                <a:latin typeface="Tw Cen MT"/>
              </a:rPr>
              <a:t>internet browsers</a:t>
            </a:r>
            <a:r>
              <a:rPr b="0" lang="el-GR" sz="2200" spc="-1" strike="noStrike">
                <a:solidFill>
                  <a:srgbClr val="000000"/>
                </a:solidFill>
                <a:latin typeface="Calibri"/>
              </a:rPr>
              <a:t> (Internet Explorer, Firefox, Chrome και Safari).</a:t>
            </a:r>
            <a:endParaRPr b="0" lang="en-US" sz="22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Είναι </a:t>
            </a:r>
            <a:r>
              <a:rPr b="1" lang="el-GR" sz="2200" spc="-1" strike="noStrike">
                <a:solidFill>
                  <a:srgbClr val="000000"/>
                </a:solidFill>
                <a:latin typeface="Calibri"/>
              </a:rPr>
              <a:t>εφαρμογή </a:t>
            </a:r>
            <a:r>
              <a:rPr b="1" lang="en-US" sz="2200" spc="-1" strike="noStrike">
                <a:solidFill>
                  <a:srgbClr val="000000"/>
                </a:solidFill>
                <a:latin typeface="Tw Cen MT"/>
              </a:rPr>
              <a:t>SAAS</a:t>
            </a:r>
            <a:r>
              <a:rPr b="1" lang="el-GR" sz="2200" spc="-1" strike="noStrike">
                <a:solidFill>
                  <a:srgbClr val="000000"/>
                </a:solidFill>
                <a:latin typeface="Calibri"/>
              </a:rPr>
              <a:t>(</a:t>
            </a:r>
            <a:r>
              <a:rPr b="1" lang="en-US" sz="2200" spc="-1" strike="noStrike">
                <a:solidFill>
                  <a:srgbClr val="000000"/>
                </a:solidFill>
                <a:latin typeface="Tw Cen MT"/>
              </a:rPr>
              <a:t>Software as a Service</a:t>
            </a:r>
            <a:r>
              <a:rPr b="1" lang="el-GR" sz="2200" spc="-1" strike="noStrike">
                <a:solidFill>
                  <a:srgbClr val="000000"/>
                </a:solidFill>
                <a:latin typeface="Calibri"/>
              </a:rPr>
              <a:t>), </a:t>
            </a:r>
            <a:r>
              <a:rPr b="0" lang="el-GR" sz="2200" spc="-1" strike="noStrike">
                <a:solidFill>
                  <a:srgbClr val="000000"/>
                </a:solidFill>
                <a:latin typeface="Calibri"/>
              </a:rPr>
              <a:t>και όχι μία stand-alone λύση που δεν είναι διαθέσιμη ως μέρος του cloud computing.</a:t>
            </a:r>
            <a:endParaRPr b="0" lang="en-US" sz="22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Οι χρήστες δεν χρειάζεται να επενδύσουν σε πρόσθετο υλικό</a:t>
            </a:r>
            <a:r>
              <a:rPr b="0" lang="el-GR" sz="2200" spc="-1" strike="noStrike">
                <a:solidFill>
                  <a:srgbClr val="000000"/>
                </a:solidFill>
                <a:latin typeface="Calibri"/>
              </a:rPr>
              <a:t> (</a:t>
            </a:r>
            <a:r>
              <a:rPr b="0" lang="en-US" sz="2200" spc="-1" strike="noStrike">
                <a:solidFill>
                  <a:srgbClr val="000000"/>
                </a:solidFill>
                <a:latin typeface="Tw Cen MT"/>
              </a:rPr>
              <a:t>hardware</a:t>
            </a:r>
            <a:r>
              <a:rPr b="0" lang="el-GR" sz="2200" spc="-1" strike="noStrike">
                <a:solidFill>
                  <a:srgbClr val="000000"/>
                </a:solidFill>
                <a:latin typeface="Calibri"/>
              </a:rPr>
              <a:t>), καθώς </a:t>
            </a:r>
            <a:r>
              <a:rPr b="1" lang="el-GR" sz="2200" spc="-1" strike="noStrike">
                <a:solidFill>
                  <a:srgbClr val="000000"/>
                </a:solidFill>
                <a:latin typeface="Calibri"/>
              </a:rPr>
              <a:t>η πρόσβαση </a:t>
            </a:r>
            <a:r>
              <a:rPr b="0" lang="el-GR" sz="2200" spc="-1" strike="noStrike">
                <a:solidFill>
                  <a:srgbClr val="000000"/>
                </a:solidFill>
                <a:latin typeface="Calibri"/>
              </a:rPr>
              <a:t>πραγματοποιείται </a:t>
            </a:r>
            <a:r>
              <a:rPr b="1" lang="el-GR" sz="2200" spc="-1" strike="noStrike">
                <a:solidFill>
                  <a:srgbClr val="000000"/>
                </a:solidFill>
                <a:latin typeface="Calibri"/>
              </a:rPr>
              <a:t>εξ αποστάσεως σε μια Web υπηρεσία</a:t>
            </a:r>
            <a:r>
              <a:rPr b="0" lang="el-GR" sz="2200" spc="-1" strike="noStrike">
                <a:solidFill>
                  <a:srgbClr val="000000"/>
                </a:solidFill>
                <a:latin typeface="Calibri"/>
              </a:rPr>
              <a:t>. Επίσης, καταργεί την υποχρέωση για τις επιχειρήσεις να χειρίζονται την εγκατάσταση, ρύθμιση και ενδεχόμενη καθημερινή συντήρηση.</a:t>
            </a:r>
            <a:endParaRPr b="0" lang="en-US" sz="22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Μία τέτοιου είδους εφαρμογή σημαίνει </a:t>
            </a:r>
            <a:r>
              <a:rPr b="1" lang="el-GR" sz="2200" spc="-1" strike="noStrike">
                <a:solidFill>
                  <a:srgbClr val="000000"/>
                </a:solidFill>
                <a:latin typeface="Calibri"/>
              </a:rPr>
              <a:t>μικρότερη δαπάνη </a:t>
            </a:r>
            <a:r>
              <a:rPr b="0" lang="el-GR" sz="2200" spc="-1" strike="noStrike">
                <a:solidFill>
                  <a:srgbClr val="000000"/>
                </a:solidFill>
                <a:latin typeface="Calibri"/>
              </a:rPr>
              <a:t>σε τεχνολογική υποδομή αλλά και μειωμένα έξοδα για προσωπικό ΙΤ, καθώς δεν απαιτείται η αγορά και κατ’ επέκταση η συντήρηση servers.</a:t>
            </a:r>
            <a:endParaRPr b="0" lang="en-US" sz="22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8T10:36:45Z</dcterms:created>
  <dc:creator>lena</dc:creator>
  <dc:description/>
  <dc:language>en-US</dc:language>
  <cp:lastModifiedBy>lena</cp:lastModifiedBy>
  <dcterms:modified xsi:type="dcterms:W3CDTF">2018-01-09T09:29:16Z</dcterms:modified>
  <cp:revision>21</cp:revision>
  <dc:subject/>
  <dc:title>Διαφάνεια 1</dc:title>
</cp:coreProperties>
</file>