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5199-56CC-4B2F-9FAD-0A1C9AFF9FC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EC1F-7E29-459B-A33B-58021B89665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3F7B-FC9A-4C22-AAAA-9486CCA26CD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698F-5313-455E-91B8-C5B982A492B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A83A-BAC1-4CEA-B02F-382810A7D8A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7CE1-8D47-4F05-8C1F-BC7CD229B60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CB3D-1BDC-48E7-AAEF-84AA2DB1355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C445-5127-486D-B7D6-0E923420902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5A0D-375F-40BC-81E1-0CABC6C348F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5BB3-B530-43F1-AECC-C05DE67694C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9A69-855F-4ED7-ABD7-FFEAB73F8EA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95A0-E0A4-4ABE-91EF-F7E8F2F8BAD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DD2E-C09F-43A4-AF43-C64F0D86A79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ADD6-0E66-4DA8-A83C-FA2C9477267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493C-387E-467A-88EB-1FEA29F4C33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D332-98F0-41B6-AA4B-FB63CA84C95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256-5149-4CCF-BBAB-0017749C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B21-8F72-451A-96F4-E4F50B81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3A9-40C9-4DD1-B49B-43A1A8D5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D7A-2BD4-49FE-93F4-907FCC22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B993-DC12-4399-8C67-F89DCF1A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F9E8-48DD-44D3-9294-CC4C683B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B742-D13C-4BA9-96EC-FD42F686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5D60-FCA6-453C-A361-3620D4F7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66AE-29C8-4094-BE5B-8AF11CF3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7F6A-3D98-454B-B1BB-93E78A5F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446A-B7D6-46B2-9081-0E589E4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80D-56D2-4EC4-BDA9-C29AA276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6879-C3BF-42AC-A3C8-F88CDDBD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3BDC-8466-4EF9-96E4-C50032A5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4246-1DF2-46EF-A88F-358C118F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6835-6574-44C0-91DF-2E445380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CB7E-9463-4792-A64E-49791B9A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E9122-7E9D-4B31-8639-C18569BA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CCACF-8B90-4770-8F4A-BA42C7E8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7AA01-BE7E-4B16-A8F9-5A4172E8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ED156-16DC-449B-AA4C-95113DBA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5EB81-CE09-439D-9FC9-05D4A9F4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7AF-22B1-4A4C-8840-78AC0B82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B7DFC-B6C3-4405-9DEB-BAC8D884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D706F-1928-4912-A522-407375D0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196C2-0FFE-483A-AC2E-D6230CAC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E2E70-0B04-477F-8973-516E18A5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F5089-3DCF-499D-A14A-F5988E90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5BD46-331E-484C-AD31-607493B0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56A6C-18AB-43C3-8C08-3DE5EE8C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84A2-2197-4D68-A29B-F2430D0D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74DA1-1E63-447B-B52D-6D9D60AC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A093C-0CA6-4004-A62D-DBDD08E2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325-B86A-41A0-8C88-965622D7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BD1AA-3338-4E99-BA84-6CB63D14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F8ADF-69D8-4678-B018-1D11A8FC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15385-F716-43C8-8CEB-49FF1F66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036C7-CEB4-45CB-8AC5-F72810C5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62EAE-655A-4D69-90AC-8B3A9D7E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71D03-CFD2-4D21-B177-11375A78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AB50F-250E-4183-9BBC-66D51974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B25DD-7A20-40EB-B70E-BF6985C3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E760F-12BA-4613-952F-BD64A970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DD0-4FD1-4C02-A881-40D9F86E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BCF-C0B6-455C-8692-768DBB5E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929-14CE-47CF-8A09-AF1042C9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850-26BF-4A9E-A329-FDFB6E8C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2BC-3687-47BB-81ED-2A984E6E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- Ορθογώνιο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28 - Ορθογώνιο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29 - Ορθογώνιο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30 - Ορθογώνιο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31 - Ορθογώνιο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32 - Στρογγυλεμένο ορθογώνιο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33 - Στρογγυλεμένο ορθογώνιο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34 - Ορθογώνιο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35 - Ορθογώνιο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36 - Ορθογώνιο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37 - Ορθογώνιο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38 - Ορθογώνιο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39 - Ορθογώνιο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BD87-B4F5-416B-8CDC-B3AEBE965B24}" type="slidenum">
              <a:rPr b="0" lang="el-G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- Ορθογώνιο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0 - Ορθογώνιο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1 - Ορθογώνιο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3 - Ορθογώνιο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4 - Ορθογώνιο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5 - Στρογγυλεμένο ορθογώνιο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6 - Στρογγυλεμένο ορθογώνιο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0 - Ορθογώνιο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1 - Ορθογώνιο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42 - Ορθογώνιο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43 - Ορθογώνιο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7FFE-9CC5-4221-9FE9-875FE0832F90}" type="slidenum">
              <a:rPr b="0" lang="el-G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- Ορθογώνιο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8 - Ορθογώνιο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29 - Ορθογώνιο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30 - Ορθογώνιο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1 - Ορθογώνιο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2 - Στρογγυλεμένο ορθογώνιο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33 - Στρογγυλεμένο ορθογώνιο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4 - Ορθογώνιο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5 - Ορθογώνιο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36 - Ορθογώνιο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7 - Ορθογώνιο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8 - Ορθογώνιο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9 - Ορθογώνιο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88D1-BA3A-47FA-A666-7B785B39825D}" type="slidenum">
              <a:rPr b="0" lang="el-G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- Ορθογώνιο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- Ορθογώνιο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- Ορθογώνιο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- Ορθογώνιο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- Ορθογώνιο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2 - Στρογγυλεμένο ορθογώνιο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3 - Στρογγυλεμένο ορθογώνιο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4 - Ορθογώνιο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5 - Ορθογώνιο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6 - Ορθογώνιο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7 - Ορθογώνιο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8 - Ορθογώνιο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9 - Ορθογώνιο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6A2C-755D-45FA-B218-419B359CD792}" type="slidenum">
              <a:rPr b="0" lang="el-G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585720" y="712800"/>
            <a:ext cx="8105760" cy="60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ΠΑΝΕΠΙΣΤΗΜΙΟ ΘΕΣΣΑΛΙΑΣ</a:t>
            </a:r>
            <a:br>
              <a:rPr sz="1700"/>
            </a:b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ΣΧΟΛΗ ΘΕΤΙΚΩΝ ΕΠΙΣΤΗΜΩΝ – ΤΜΗΜΑ ΠΛΗΡΟΦΟΡΙΚΗΣ</a:t>
            </a:r>
            <a:br>
              <a:rPr sz="1700"/>
            </a:b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ΔΙΑΤΜΗΜΑΤΙΚΟ ΠΡΟΓΡΑΜΜΑ ΜΕΤΑΠΤΥΧΙΑΚΩΝ ΣΠΟΥΔΩΝ</a:t>
            </a:r>
            <a:br>
              <a:rPr sz="1700"/>
            </a:b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«ΠΛΗΡΟΦΟΡΙΚΗ ΚΑΙ ΥΠΟΛΟΓΙΣΤΙΚΗ ΒΙΟΪΑΤΡΙΚΗ»</a:t>
            </a:r>
            <a:br>
              <a:rPr sz="1700"/>
            </a:b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ΡΟΗ ΠΛΗΡΟΦΟΡΙΚΗ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«ΝΑΥΤΙΛΙΑΚΗ ΠΛΗΡΟΦΟΡΙΚ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ΘΕΜΑ:  ΛΟΓΙΣΜΙΚΟ ΤΜΗΜΑΤΟΣ ΝΑΥΛΩΣΗΣ (Chartering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ΦΟΙΤΗΤΕΣ: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Ασπρουλάκης Νικόλαο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Τσελέπη Παγών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ΚΑΘΗΓ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ΗΤΗΣ: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Φιλιππόπουλος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Ιωάννη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ΛΑΜΙΑ - ΙΑΝΟΥΑΡΙΟΣ 20</a:t>
            </a:r>
            <a:r>
              <a:rPr b="0" lang="el-GR" sz="1700" spc="-1" strike="noStrike">
                <a:solidFill>
                  <a:srgbClr val="000000"/>
                </a:solidFill>
                <a:latin typeface="Constantia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4 - Εικόνα" descr="freight.jpg"/>
          <p:cNvPicPr/>
          <p:nvPr/>
        </p:nvPicPr>
        <p:blipFill>
          <a:blip r:embed="rId1"/>
          <a:stretch/>
        </p:blipFill>
        <p:spPr>
          <a:xfrm>
            <a:off x="1763640" y="2349360"/>
            <a:ext cx="5616720" cy="213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53964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4617b"/>
                </a:solidFill>
                <a:latin typeface="Calibri"/>
              </a:rPr>
              <a:t>Διαθέσιμο Λογισμικό Ναυλώσε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Voyage estimator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εκτιμητής ταξιδιού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Εφαρμογές: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anaos Voyage Estimation/Chartering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hipnet Voyage Estimator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etpas Estimator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τη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εταιρία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Seafuture Inc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Voyage Calculator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τη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εταιρία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Stormg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rgo Matching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 (εύρεση διαθέσιμων πλοίων και φορτίω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Εφαρμογές: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OpenSea.pro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IMOS Cargo Matching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τη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εταιρία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Ve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Contract management (διαχείριση συμβολαίων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Πρόταση Ανάπτυξης Λογισμικού Τμήματος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artering</a:t>
            </a: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457200" y="1827360"/>
            <a:ext cx="82296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>
              <a:lnSpc>
                <a:spcPct val="100000"/>
              </a:lnSpc>
              <a:spcBef>
                <a:spcPts val="312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αράμετροι Τμήματος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har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312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Έξοδα ταξιδιού/διαδρομής/λιμανιών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(Λιμενικά έξοδα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Έξοδα διάπλου διωρύγων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ρομήθειε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312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Έξοδα φορτοεκφορτώσεω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(Έξοδα φορτώσεω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Έξοδα εκφορτώσεω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Έξοδα στοιβασία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312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Στοιχεία φορτίο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(Είδο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οσότητα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Λιμάνι φόρτωσης και εκφόρτωση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Φόροι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Χρόνος φόρτωσης/εκφόρτωση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312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Λοιποί όρο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312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Διάρκεια ναύλωση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312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224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αράμετροι Τμήματος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chn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60360">
              <a:lnSpc>
                <a:spcPct val="100000"/>
              </a:lnSpc>
              <a:spcBef>
                <a:spcPts val="312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  <a:ea typeface="Arial"/>
              </a:rPr>
              <a:t>Τεχνικά στοιχεία κατανάλωση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Πρόταση Ανάπτυξης Λογισμικού Τμήματος C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artering</a:t>
            </a: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468360" y="1773360"/>
            <a:ext cx="82296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>
              <a:lnSpc>
                <a:spcPct val="100000"/>
              </a:lnSpc>
              <a:spcBef>
                <a:spcPts val="224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αράμετροι Τμήματος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312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  <a:ea typeface="Arial"/>
              </a:rPr>
              <a:t>Λειτουργικά έξοδα πλοίο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312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  <a:ea typeface="Arial"/>
              </a:rPr>
              <a:t>Έξοδα δεξαμενισμού και ειδικής επιθεώρηση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312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αράμετροι Τμήματος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urch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  <a:ea typeface="Arial"/>
              </a:rPr>
              <a:t>Εφόδι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  <a:ea typeface="Arial"/>
              </a:rPr>
              <a:t>Διαχειριστικά έξοδ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αράμετροι Τμήματος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R &amp; 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  <a:ea typeface="Arial"/>
              </a:rPr>
              <a:t>Μισθοί Διοικητικού Προσωπικο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  <a:ea typeface="Arial"/>
              </a:rPr>
              <a:t>Έξοδα Εκπαίδευση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312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45720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Πρόταση Ανάπτυξης Λογισμικού Τμήματος C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hartering</a:t>
            </a: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457200" y="18525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αράμετροι Τμήματος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re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  <a:ea typeface="Arial"/>
              </a:rPr>
              <a:t>Αμοιβές Πληρωμάτ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  <a:ea typeface="Arial"/>
              </a:rPr>
              <a:t>Έξοδα Πληρωμάτ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  <a:ea typeface="Arial"/>
              </a:rPr>
              <a:t>Έξοδα Πρακτόρων Επάνδρωση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  <a:ea typeface="Arial"/>
              </a:rPr>
              <a:t>Διάφορα έξοδ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01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αράμετροι Τμήματος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ina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  <a:ea typeface="Arial"/>
              </a:rPr>
              <a:t>Γενικά Κόστ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  <a:ea typeface="Arial"/>
              </a:rPr>
              <a:t>Έξοδα Κεφαλαίο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92160" y="704880"/>
            <a:ext cx="89614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Λογική Εφαρμογής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Αξιοποίηση Δεδομέν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>
              <a:lnSpc>
                <a:spcPct val="100000"/>
              </a:lnSpc>
              <a:spcBef>
                <a:spcPts val="224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0 - Στρογγυλεμένο ορθογώνιο"/>
          <p:cNvSpPr/>
          <p:nvPr/>
        </p:nvSpPr>
        <p:spPr>
          <a:xfrm>
            <a:off x="1908000" y="4869000"/>
            <a:ext cx="5328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Αυτόματη εισαγωγή στοιχείων κατανάλωσης καυσίμων/ λιπαντικών, λοιπών εξόδων πλου επιλεγμένου σκάφου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2 - Στρογγυλεμένο ορθογώνιο"/>
          <p:cNvSpPr/>
          <p:nvPr/>
        </p:nvSpPr>
        <p:spPr>
          <a:xfrm>
            <a:off x="1908000" y="3789360"/>
            <a:ext cx="5328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Επιλογή επιθυμητού διαθέσιμου σκάφους από λίστ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3 - Στρογγυλεμένο ορθογώνιο"/>
          <p:cNvSpPr/>
          <p:nvPr/>
        </p:nvSpPr>
        <p:spPr>
          <a:xfrm>
            <a:off x="1908000" y="1628640"/>
            <a:ext cx="53280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Georgia"/>
              </a:rPr>
              <a:t>Εισαγωγή παραμέτρων φορτίου από τμ.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har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14 - Στρογγυλεμένο ορθογώνιο"/>
          <p:cNvSpPr/>
          <p:nvPr/>
        </p:nvSpPr>
        <p:spPr>
          <a:xfrm>
            <a:off x="1908000" y="2708280"/>
            <a:ext cx="5328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Ανάκτηση από ΒΔ διαθέσιμω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σκαφών που πληρούν προϋποθέσεις παραμέτρων φορτί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18 - Ευθύγραμμο βέλος σύνδεσης"/>
          <p:cNvCxnSpPr>
            <a:stCxn id="250" idx="2"/>
            <a:endCxn id="251" idx="0"/>
          </p:cNvCxnSpPr>
          <p:nvPr/>
        </p:nvCxnSpPr>
        <p:spPr>
          <a:xfrm>
            <a:off x="4571640" y="2421000"/>
            <a:ext cx="1080" cy="2880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53" name="19 - Ευθύγραμμο βέλος σύνδεσης"/>
          <p:cNvCxnSpPr/>
          <p:nvPr/>
        </p:nvCxnSpPr>
        <p:spPr>
          <a:xfrm>
            <a:off x="4571640" y="3499920"/>
            <a:ext cx="1080" cy="2894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54" name="20 - Ευθύγραμμο βέλος σύνδεσης"/>
          <p:cNvCxnSpPr/>
          <p:nvPr/>
        </p:nvCxnSpPr>
        <p:spPr>
          <a:xfrm>
            <a:off x="4571640" y="5660640"/>
            <a:ext cx="1080" cy="2894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55" name="21 - Ευθύγραμμο βέλος σύνδεσης"/>
          <p:cNvCxnSpPr/>
          <p:nvPr/>
        </p:nvCxnSpPr>
        <p:spPr>
          <a:xfrm>
            <a:off x="4571640" y="4581000"/>
            <a:ext cx="1080" cy="2883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92160" y="704880"/>
            <a:ext cx="89614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Λογική Εφαρμογής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el-GR" sz="3200" spc="-1" strike="noStrike">
                <a:solidFill>
                  <a:srgbClr val="04617b"/>
                </a:solidFill>
                <a:latin typeface="Calibri"/>
              </a:rPr>
              <a:t>Αξιοποίηση Δεδομέν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>
              <a:lnSpc>
                <a:spcPct val="100000"/>
              </a:lnSpc>
              <a:spcBef>
                <a:spcPts val="224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1096920"/>
                <a:tab algn="l" pos="2011320"/>
                <a:tab algn="l" pos="2925720"/>
                <a:tab algn="l" pos="3840120"/>
                <a:tab algn="l" pos="4754520"/>
                <a:tab algn="l" pos="5668920"/>
                <a:tab algn="l" pos="6583320"/>
                <a:tab algn="l" pos="7497720"/>
                <a:tab algn="l" pos="8412120"/>
                <a:tab algn="l" pos="9326520"/>
                <a:tab algn="l" pos="10240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4 - Στρογγυλεμένο ορθογώνιο"/>
          <p:cNvSpPr/>
          <p:nvPr/>
        </p:nvSpPr>
        <p:spPr>
          <a:xfrm>
            <a:off x="1908000" y="3860640"/>
            <a:ext cx="53280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Ανάλυση αποτελεσμάτων εξεταζόμενης Ναύλωσης στο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terface</a:t>
            </a: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 Διοίκησης εταιρίας ώστε να εξάγονται ασφαλή συμπεράσματ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5 - Στρογγυλεμένο ορθογώνιο"/>
          <p:cNvSpPr/>
          <p:nvPr/>
        </p:nvSpPr>
        <p:spPr>
          <a:xfrm>
            <a:off x="1908000" y="4941720"/>
            <a:ext cx="5328000" cy="79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ssons Learned, </a:t>
            </a:r>
            <a:r>
              <a:rPr b="0" lang="el-GR" sz="1800" spc="-1" strike="noStrike">
                <a:solidFill>
                  <a:srgbClr val="000000"/>
                </a:solidFill>
                <a:latin typeface="Georgia"/>
              </a:rPr>
              <a:t>με σκοπό την τροποποίηση-βελτίωση της εφαρμογή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6 - Στρογγυλεμένο ορθογώνιο"/>
          <p:cNvSpPr/>
          <p:nvPr/>
        </p:nvSpPr>
        <p:spPr>
          <a:xfrm>
            <a:off x="1908000" y="2781360"/>
            <a:ext cx="5328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Υπολογισμός αποτελεσμάτων εξεταζόμενης Ναύλωση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(Κέρδος, Ημέρες απασχόλησης σκάφου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9 - Ευθύγραμμο βέλος σύνδεσης"/>
          <p:cNvCxnSpPr/>
          <p:nvPr/>
        </p:nvCxnSpPr>
        <p:spPr>
          <a:xfrm>
            <a:off x="4571640" y="3573360"/>
            <a:ext cx="1080" cy="2880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62" name="11 - Ευθύγραμμο βέλος σύνδεσης"/>
          <p:cNvCxnSpPr/>
          <p:nvPr/>
        </p:nvCxnSpPr>
        <p:spPr>
          <a:xfrm>
            <a:off x="4571640" y="4653000"/>
            <a:ext cx="1080" cy="2894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63" name="17 - Ευθύγραμμο βέλος σύνδεσης"/>
          <p:cNvCxnSpPr/>
          <p:nvPr/>
        </p:nvCxnSpPr>
        <p:spPr>
          <a:xfrm>
            <a:off x="4571640" y="2491920"/>
            <a:ext cx="1080" cy="2894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64" name="18 - Στρογγυλεμένο ορθογώνιο"/>
          <p:cNvSpPr/>
          <p:nvPr/>
        </p:nvSpPr>
        <p:spPr>
          <a:xfrm>
            <a:off x="1908000" y="1700280"/>
            <a:ext cx="5328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5c92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nstantia"/>
              </a:rPr>
              <a:t>Εισαγωγή στοιχείων ταξιδιού/ διαδρομής/λιμανι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457200" y="765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l-GR" sz="4000" spc="-1" strike="noStrike">
                <a:solidFill>
                  <a:srgbClr val="04617b"/>
                </a:solidFill>
                <a:latin typeface="Calibri"/>
              </a:rPr>
              <a:t>Ευχαριστούμε για την προσοχή σ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Αποτέλεσμα εικόνας για dizzy cartoon"/>
          <p:cNvPicPr/>
          <p:nvPr/>
        </p:nvPicPr>
        <p:blipFill>
          <a:blip r:embed="rId1"/>
          <a:stretch/>
        </p:blipFill>
        <p:spPr>
          <a:xfrm>
            <a:off x="2174760" y="1376280"/>
            <a:ext cx="4794480" cy="548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3 - Εικόνα" descr="personal-container-mngmnt3.jpg"/>
          <p:cNvPicPr/>
          <p:nvPr/>
        </p:nvPicPr>
        <p:blipFill>
          <a:blip r:embed="rId1"/>
          <a:stretch/>
        </p:blipFill>
        <p:spPr>
          <a:xfrm>
            <a:off x="1141560" y="1125360"/>
            <a:ext cx="686088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4617b"/>
                </a:solidFill>
                <a:latin typeface="Calibri"/>
              </a:rPr>
              <a:t>Αντικείμενα Παρουσία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68360" y="206064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Εισαγωγ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Τυπικό οργανόγραμμα ναυτιλιακής εταιρία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Βασικές Έννοιε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ρόσωπα Ναυλαγορά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αγκόσμια Κέντρα Ναυλώσε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Τύποι Ναύλωση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Διαθέσιμο Λογισμικό Ναυλώσε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ρόταση Ανάπτυξης Λογισμικού Τμήματος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hartering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Λογική Εφαρμογής - Αξιοποίηση Δεδομέν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4617b"/>
                </a:solidFill>
                <a:latin typeface="Calibri"/>
              </a:rPr>
              <a:t>Εισαγωγ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468360" y="1700280"/>
            <a:ext cx="82296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>
              <a:lnSpc>
                <a:spcPct val="100000"/>
              </a:lnSpc>
              <a:buClr>
                <a:srgbClr val="5c92b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5c92b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Θαλάσσιες μεταφορές: ευρύ πεδίο των γενικών μεταφορών ανθρώπων και φορτίων, που εκτελούνται με εμπορικά πλοί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5c92b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5c92b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80-85% του παγκόσμιου εμπορίου διεξάγεται με πλοί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5c92b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5c92b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Με τη σύγχρονη και ευρύτατη εξειδίκευση των τύπων των πλοίων το διεθνές εμπόριο πραγματοποιείται σε τεράστιες ποσότητες με το μικρότερο δυνατό κόστ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5c92b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5c92b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Οι ενδοεταιρικές δραστηριότητες μιας ναυτιλιακής εταιρίας έχουν διαμοιραστεί σε κατάλληλα διαμορφωμένα τμήματα με ιεραρχικό μοντέλο διοίκησης και λειτουργί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1281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4617b"/>
                </a:solidFill>
                <a:latin typeface="Calibri"/>
              </a:rPr>
              <a:t>Τυπικό οργανόγραμμα Ναυτιλιακής Εταιρί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3 - Εικόνα" descr="image001_2.jpg"/>
          <p:cNvPicPr/>
          <p:nvPr/>
        </p:nvPicPr>
        <p:blipFill>
          <a:blip r:embed="rId1"/>
          <a:stretch/>
        </p:blipFill>
        <p:spPr>
          <a:xfrm>
            <a:off x="576360" y="2708280"/>
            <a:ext cx="7991280" cy="345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4617b"/>
                </a:solidFill>
                <a:latin typeface="Calibri"/>
              </a:rPr>
              <a:t>Βασικές Έννοι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1935000"/>
            <a:ext cx="822960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26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Ναυλαγορά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reight Mark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26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26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Ναύλωση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hartering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26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26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Ναυλοσύμφωνο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harter Party or Contract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4617b"/>
                </a:solidFill>
                <a:latin typeface="Calibri"/>
              </a:rPr>
              <a:t>Πρόσωπα Ναυλαγορά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457200" y="2185920"/>
            <a:ext cx="8229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>
              <a:lnSpc>
                <a:spcPct val="100000"/>
              </a:lnSpc>
              <a:spcBef>
                <a:spcPts val="64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λοιοκτήτες, εφοπλιστές και κύριοι πλοίων (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hipowners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4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Ν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αυλωτές (charter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4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Ναυλομεσίτε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chartering brok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4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Φορτωτέ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shipp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4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Διαχειριστέ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opera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4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Ναυτικοί πράκτορε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shipping age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4617b"/>
                </a:solidFill>
                <a:latin typeface="Calibri"/>
              </a:rPr>
              <a:t>Παγκόσμια Κέντρα Ναυλώσε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57200" y="1935000"/>
            <a:ext cx="82296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ροσφέρουν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Διεκπεραίωση συναλλαγών &amp; διαπραγματεύσε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Υπηρεσίες επίλυσης ναυτιλιακών διαφορώ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Εγκαταστάσει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ληροφόρη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Επιμόρφωσ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Συμβουλευτική συνεισφορ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4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Πρόσβαση σε ένα μεγάλο ναυτιλιακό δίκτυ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Σημαντικότερα Κέντρα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IMCO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(BALTIC &amp; INTERNATIONAL MARITIME COUNCIL),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altic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change</a:t>
            </a: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loyd’s of Lond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4617b"/>
                </a:solidFill>
                <a:latin typeface="Calibri"/>
              </a:rPr>
              <a:t>Τύποι Ναύλω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Ναύλωση Ταξιδίου (Charter Voy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Χρονοναύλωση (Time Char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Ναύλωση Γυμνού Πλοίου (Bareboat Char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Συμβόλαιο Εργολαβικής Μίσθωσης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Contract of Affreight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c92b5"/>
              </a:buClr>
              <a:buSzPct val="95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onstantia"/>
              </a:rPr>
              <a:t>Ναύλωση Συνεχών Ταξιδιών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(Consecutive Voyages Char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30T10:57:45Z</dcterms:created>
  <dc:creator>Παπάκι και Κουνελάκι</dc:creator>
  <dc:description/>
  <dc:language>en-US</dc:language>
  <cp:lastModifiedBy>Παπάκι και Κουνελάκι</cp:lastModifiedBy>
  <dcterms:modified xsi:type="dcterms:W3CDTF">2018-01-27T07:23:49Z</dcterms:modified>
  <cp:revision>54</cp:revision>
  <dc:subject/>
  <dc:title>Διαφάνεια 1</dc:title>
</cp:coreProperties>
</file>